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1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8.jpeg" ContentType="image/jpeg"/>
  <Override PartName="/ppt/media/image21.wmf" ContentType="image/x-wmf"/>
  <Override PartName="/ppt/media/image19.wmf" ContentType="image/x-wmf"/>
  <Override PartName="/ppt/media/image4.jpeg" ContentType="image/jpeg"/>
  <Override PartName="/ppt/media/image26.jpeg" ContentType="image/jpeg"/>
  <Override PartName="/ppt/media/image20.wmf" ContentType="image/x-wmf"/>
  <Override PartName="/ppt/media/image5.jpeg" ContentType="image/jpeg"/>
  <Override PartName="/ppt/media/image11.wmf" ContentType="image/x-wmf"/>
  <Override PartName="/ppt/media/image17.jpeg" ContentType="image/jpeg"/>
  <Override PartName="/ppt/media/image6.wmf" ContentType="image/x-wmf"/>
  <Override PartName="/ppt/media/image12.wmf" ContentType="image/x-wmf"/>
  <Override PartName="/ppt/media/image8.jpeg" ContentType="image/jpeg"/>
  <Override PartName="/ppt/media/image7.wmf" ContentType="image/x-wmf"/>
  <Override PartName="/ppt/media/image30.jpeg" ContentType="image/jpeg"/>
  <Override PartName="/ppt/media/image3.jpeg" ContentType="image/jpeg"/>
  <Override PartName="/ppt/media/image24.jpeg" ContentType="image/jpeg"/>
  <Override PartName="/ppt/media/image9.jpeg" ContentType="image/jpeg"/>
  <Override PartName="/ppt/media/image31.png" ContentType="image/png"/>
  <Override PartName="/ppt/media/image14.wmf" ContentType="image/x-wmf"/>
  <Override PartName="/ppt/media/image29.png" ContentType="image/png"/>
  <Override PartName="/ppt/media/image25.jpeg" ContentType="image/jpeg"/>
  <Override PartName="/ppt/media/image32.png" ContentType="image/png"/>
  <Override PartName="/ppt/media/image22.jpeg" ContentType="image/jpeg"/>
  <Override PartName="/ppt/media/image18.wmf" ContentType="image/x-wmf"/>
  <Override PartName="/ppt/media/image2.jpeg" ContentType="image/jpeg"/>
  <Override PartName="/ppt/media/image23.jpeg" ContentType="image/jpeg"/>
  <Override PartName="/ppt/media/image13.wmf" ContentType="image/x-wmf"/>
  <Override PartName="/ppt/media/image27.jpeg" ContentType="image/jpeg"/>
  <Override PartName="/ppt/media/image1.jpeg" ContentType="image/jpeg"/>
  <Override PartName="/ppt/media/image10.png" ContentType="image/png"/>
  <Override PartName="/ppt/media/image15.jpeg" ContentType="image/jpeg"/>
  <Override PartName="/ppt/media/image16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 type="dt" idx="3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 type="ftr" idx="4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 type="sldNum" idx="5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D3611E-A000-4F1E-94CD-0A852D8788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0A773-7CF8-4492-8B2E-9E3881D07B4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F41124-DAE7-48AB-A6C0-B6AB8B76C06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25592-D821-434E-9C1A-4B6FD575D46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7CAA9D-B49F-439C-AE5F-1384B81F70C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D3CED5A1-8F59-46AA-B4FC-6796F29CDE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B08929-FDED-4623-9778-8DFC7EE2563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E3AEE-19EF-44FC-BBA7-AB972E66B8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1"/>
          <p:cNvSpPr>
            <a:spLocks noGrp="1"/>
          </p:cNvSpPr>
          <p:nvPr>
            <p:ph type="sldImg"/>
          </p:nvPr>
        </p:nvSpPr>
        <p:spPr>
          <a:xfrm>
            <a:off x="1125360" y="703440"/>
            <a:ext cx="4596120" cy="3446280"/>
          </a:xfrm>
          <a:prstGeom prst="rect">
            <a:avLst/>
          </a:prstGeom>
          <a:ln w="0">
            <a:noFill/>
          </a:ln>
        </p:spPr>
      </p:sp>
      <p:sp>
        <p:nvSpPr>
          <p:cNvPr id="583" name="PlaceHolder 2"/>
          <p:cNvSpPr>
            <a:spLocks noGrp="1"/>
          </p:cNvSpPr>
          <p:nvPr>
            <p:ph type="body"/>
          </p:nvPr>
        </p:nvSpPr>
        <p:spPr>
          <a:xfrm>
            <a:off x="921960" y="4361040"/>
            <a:ext cx="5000760" cy="407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D6605-3299-4ED3-9F14-2B04D9ED74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D5A6-9F3A-4B68-AD3B-FC5F55C65AF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42B3AB-E6E9-4B66-A6C7-D37172A229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41446D-3D7C-4878-A549-DA2E6B89C05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C8A172C3-3F41-4B49-AF7C-958A1F2F86F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1A9E24-0082-4B62-8149-D85FBEF9CF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F8E338-81A9-46CD-9619-496D185CC3E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DC4FE-D1CE-4107-950C-B622B0CC071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07C8ED-64C4-4A4C-BDBE-F9EDBAC4571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B7CED-565C-47DA-8853-1A1986899E31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A63AAB-DA8C-47BC-B1B9-95528D1D4AB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4E82D95-9B2C-4CF6-A6B9-FCC2BCFD967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06DEFF9-A274-435B-B8AC-3A661C95CE8D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0A205A-E5F9-4275-9C97-9335A9E204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9B9A6B0-92D0-4C5F-B657-5A0EC356781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085551D-4F1A-4322-8823-13B98A40A70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5335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80B9543-E624-4A09-B0ED-8CEC105ECD0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71F371-442E-46C3-B914-7F352F17469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49AD405-F399-483C-94A4-459D91F5F81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CC24846-B2CE-4295-A0A0-3BD152B046C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3.xml"/><Relationship Id="rId7" Type="http://schemas.openxmlformats.org/officeDocument/2006/relationships/slideLayout" Target="../slideLayouts/slideLayout14.xml"/><Relationship Id="rId8" Type="http://schemas.openxmlformats.org/officeDocument/2006/relationships/slideLayout" Target="../slideLayouts/slideLayout15.xml"/><Relationship Id="rId9" Type="http://schemas.openxmlformats.org/officeDocument/2006/relationships/slideLayout" Target="../slideLayouts/slideLayout16.xml"/><Relationship Id="rId10" Type="http://schemas.openxmlformats.org/officeDocument/2006/relationships/slideLayout" Target="../slideLayouts/slideLayout17.xml"/><Relationship Id="rId11" Type="http://schemas.openxmlformats.org/officeDocument/2006/relationships/slideLayout" Target="../slideLayouts/slideLayout18.xml"/><Relationship Id="rId12" Type="http://schemas.openxmlformats.org/officeDocument/2006/relationships/slideLayout" Target="../slideLayouts/slideLayout19.xml"/><Relationship Id="rId13" Type="http://schemas.openxmlformats.org/officeDocument/2006/relationships/slideLayout" Target="../slideLayouts/slideLayout20.xml"/><Relationship Id="rId14" Type="http://schemas.openxmlformats.org/officeDocument/2006/relationships/slideLayout" Target="../slideLayouts/slideLayout21.xml"/><Relationship Id="rId15" Type="http://schemas.openxmlformats.org/officeDocument/2006/relationships/slideLayout" Target="../slideLayouts/slideLayout22.xml"/><Relationship Id="rId16" Type="http://schemas.openxmlformats.org/officeDocument/2006/relationships/slideLayout" Target="../slideLayouts/slideLayout23.xml"/><Relationship Id="rId17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684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62904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1DFDA-8004-4963-9757-EDD3E631C39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Group 4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Rectangle 5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Rectangle 6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00007d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Rectangle 7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Rectangle 8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Rectangle 9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Rectangle 10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Rectangle 11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Rectangle 12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Rectangle 13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Rectangle 3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Rectangle 4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Group 5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Rectangle 6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Rectangle 7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Rectangle 8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Rectangle 9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Rectangle 10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Rectangle 11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Rectangle 12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Rectangle 13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Rectangle 14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Rectangle 15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pic>
        <p:nvPicPr>
          <p:cNvPr id="64" name="Picture 5" descr="2BSLATH"/>
          <p:cNvPicPr/>
          <p:nvPr/>
        </p:nvPicPr>
        <p:blipFill>
          <a:blip r:embed="rId2"/>
          <a:stretch/>
        </p:blipFill>
        <p:spPr>
          <a:xfrm>
            <a:off x="4800600" y="623268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6" descr="HHS-Logo-blue"/>
          <p:cNvPicPr/>
          <p:nvPr/>
        </p:nvPicPr>
        <p:blipFill>
          <a:blip r:embed="rId3"/>
          <a:stretch/>
        </p:blipFill>
        <p:spPr>
          <a:xfrm>
            <a:off x="4114800" y="6172200"/>
            <a:ext cx="606600" cy="609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WHO-EN-C-H"/>
          <p:cNvPicPr/>
          <p:nvPr/>
        </p:nvPicPr>
        <p:blipFill>
          <a:blip r:embed="rId4"/>
          <a:stretch/>
        </p:blipFill>
        <p:spPr>
          <a:xfrm>
            <a:off x="5715000" y="6221520"/>
            <a:ext cx="1828800" cy="56016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25" descr="paho_286_logo"/>
          <p:cNvPicPr/>
          <p:nvPr/>
        </p:nvPicPr>
        <p:blipFill>
          <a:blip r:embed="rId5"/>
          <a:stretch/>
        </p:blipFill>
        <p:spPr>
          <a:xfrm>
            <a:off x="7772400" y="6288120"/>
            <a:ext cx="1371600" cy="569880"/>
          </a:xfrm>
          <a:prstGeom prst="rect">
            <a:avLst/>
          </a:prstGeom>
          <a:ln w="0">
            <a:noFill/>
          </a:ln>
        </p:spPr>
      </p:pic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00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00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00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6"/>
    <p:sldLayoutId id="2147483663" r:id="rId7"/>
    <p:sldLayoutId id="2147483664" r:id="rId8"/>
    <p:sldLayoutId id="2147483665" r:id="rId9"/>
    <p:sldLayoutId id="2147483666" r:id="rId10"/>
    <p:sldLayoutId id="2147483667" r:id="rId11"/>
    <p:sldLayoutId id="2147483668" r:id="rId12"/>
    <p:sldLayoutId id="2147483669" r:id="rId13"/>
    <p:sldLayoutId id="2147483670" r:id="rId14"/>
    <p:sldLayoutId id="2147483671" r:id="rId15"/>
    <p:sldLayoutId id="2147483672" r:id="rId16"/>
    <p:sldLayoutId id="2147483673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.jpeg"/><Relationship Id="rId3" Type="http://schemas.openxmlformats.org/officeDocument/2006/relationships/image" Target="../media/image3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image" Target="../media/image12.wmf"/><Relationship Id="rId3" Type="http://schemas.openxmlformats.org/officeDocument/2006/relationships/image" Target="../media/image13.wmf"/><Relationship Id="rId4" Type="http://schemas.openxmlformats.org/officeDocument/2006/relationships/image" Target="../media/image14.wmf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jpeg"/><Relationship Id="rId3" Type="http://schemas.openxmlformats.org/officeDocument/2006/relationships/image" Target="../media/image17.jpeg"/><Relationship Id="rId4" Type="http://schemas.openxmlformats.org/officeDocument/2006/relationships/image" Target="../media/image18.wmf"/><Relationship Id="rId5" Type="http://schemas.openxmlformats.org/officeDocument/2006/relationships/image" Target="../media/image19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wmf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image" Target="../media/image22.jpeg"/><Relationship Id="rId5" Type="http://schemas.openxmlformats.org/officeDocument/2006/relationships/image" Target="../media/image22.jpeg"/><Relationship Id="rId6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7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image" Target="../media/image31.png"/><Relationship Id="rId3" Type="http://schemas.openxmlformats.org/officeDocument/2006/relationships/image" Target="../media/image30.jpeg"/><Relationship Id="rId4" Type="http://schemas.openxmlformats.org/officeDocument/2006/relationships/image" Target="../media/image32.png"/><Relationship Id="rId5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Footer Placeholder 1"/>
          <p:cNvSpPr/>
          <p:nvPr/>
        </p:nvSpPr>
        <p:spPr>
          <a:xfrm>
            <a:off x="457200" y="609588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EQA - Module 1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Slide Number Placeholder 2"/>
          <p:cNvSpPr/>
          <p:nvPr/>
        </p:nvSpPr>
        <p:spPr>
          <a:xfrm>
            <a:off x="6629400" y="609588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6AA896-7957-438C-9E40-AA5D0ED5584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714640" y="838080"/>
            <a:ext cx="3429000" cy="152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Verdana"/>
              </a:rPr>
              <a:t>External Quality Assessment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17" name="Picture 6" descr="HHS-Logo-blue"/>
          <p:cNvPicPr/>
          <p:nvPr/>
        </p:nvPicPr>
        <p:blipFill>
          <a:blip r:embed="rId1"/>
          <a:stretch/>
        </p:blipFill>
        <p:spPr>
          <a:xfrm>
            <a:off x="3962520" y="5943600"/>
            <a:ext cx="606240" cy="609480"/>
          </a:xfrm>
          <a:prstGeom prst="rect">
            <a:avLst/>
          </a:prstGeom>
          <a:ln w="0">
            <a:noFill/>
          </a:ln>
        </p:spPr>
      </p:pic>
      <p:pic>
        <p:nvPicPr>
          <p:cNvPr id="118" name="Picture 5" descr="2BSLATH"/>
          <p:cNvPicPr/>
          <p:nvPr/>
        </p:nvPicPr>
        <p:blipFill>
          <a:blip r:embed="rId2"/>
          <a:stretch/>
        </p:blipFill>
        <p:spPr>
          <a:xfrm>
            <a:off x="4724280" y="6019920"/>
            <a:ext cx="762120" cy="54900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8" descr="WHO-EN-C-H"/>
          <p:cNvPicPr/>
          <p:nvPr/>
        </p:nvPicPr>
        <p:blipFill>
          <a:blip r:embed="rId3"/>
          <a:stretch/>
        </p:blipFill>
        <p:spPr>
          <a:xfrm>
            <a:off x="5562720" y="6019920"/>
            <a:ext cx="1828800" cy="560160"/>
          </a:xfrm>
          <a:prstGeom prst="rect">
            <a:avLst/>
          </a:prstGeom>
          <a:ln w="0">
            <a:noFill/>
          </a:ln>
        </p:spPr>
      </p:pic>
      <p:grpSp>
        <p:nvGrpSpPr>
          <p:cNvPr id="120" name="Group 244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21" name="Rectangle 245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cccce6"/>
                </a:gs>
                <a:gs pos="100000">
                  <a:srgbClr val="ffffff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246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23" name="Group 247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24" name="Rectangle 248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5" name="Rectangle 249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Rectangle 250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Rectangle 251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Rectangle 252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Rectangle 253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Rectangle 254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1" name="Rectangle 255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2" name="Rectangle 256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Rectangle 257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34" name="Text Box 258"/>
          <p:cNvSpPr/>
          <p:nvPr/>
        </p:nvSpPr>
        <p:spPr>
          <a:xfrm>
            <a:off x="2590920" y="2440080"/>
            <a:ext cx="60958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ffff"/>
                </a:solidFill>
                <a:latin typeface="Verdana"/>
              </a:rPr>
              <a:t>Внешняя оценка качеств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Text Box 259"/>
          <p:cNvSpPr/>
          <p:nvPr/>
        </p:nvSpPr>
        <p:spPr>
          <a:xfrm>
            <a:off x="4114800" y="3048120"/>
            <a:ext cx="4572000" cy="76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7" descr="CLSI_WHO_Blue_CMYK1"/>
          <p:cNvPicPr/>
          <p:nvPr/>
        </p:nvPicPr>
        <p:blipFill>
          <a:blip r:embed="rId4"/>
          <a:stretch/>
        </p:blipFill>
        <p:spPr>
          <a:xfrm>
            <a:off x="7543800" y="6019920"/>
            <a:ext cx="1219320" cy="566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5335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762120" y="1338120"/>
            <a:ext cx="7772400" cy="1176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важна для улучшения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казатель работы лаборатории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40" name="Picture 6" descr="MCj03963300000[1]"/>
          <p:cNvPicPr/>
          <p:nvPr/>
        </p:nvPicPr>
        <p:blipFill>
          <a:blip r:embed="rId1"/>
          <a:stretch/>
        </p:blipFill>
        <p:spPr>
          <a:xfrm>
            <a:off x="5697360" y="2666880"/>
            <a:ext cx="2705400" cy="2819520"/>
          </a:xfrm>
          <a:prstGeom prst="rect">
            <a:avLst/>
          </a:prstGeom>
          <a:ln w="0">
            <a:noFill/>
          </a:ln>
        </p:spPr>
      </p:pic>
      <p:pic>
        <p:nvPicPr>
          <p:cNvPr id="241" name="Picture 7" descr="MCj03980190000[1]"/>
          <p:cNvPicPr/>
          <p:nvPr/>
        </p:nvPicPr>
        <p:blipFill>
          <a:blip r:embed="rId2"/>
          <a:stretch/>
        </p:blipFill>
        <p:spPr>
          <a:xfrm>
            <a:off x="4572000" y="4191120"/>
            <a:ext cx="1736640" cy="1752480"/>
          </a:xfrm>
          <a:prstGeom prst="rect">
            <a:avLst/>
          </a:prstGeom>
          <a:ln w="0">
            <a:noFill/>
          </a:ln>
        </p:spPr>
      </p:pic>
      <p:sp>
        <p:nvSpPr>
          <p:cNvPr id="242" name="Slide Number Placeholder 7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C1BB6C-8232-46CC-BAAC-A9009E0685D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Footer Placeholder 8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4" name="Picture 67" descr=""/>
          <p:cNvPicPr/>
          <p:nvPr/>
        </p:nvPicPr>
        <p:blipFill>
          <a:blip r:embed="rId3"/>
          <a:stretch/>
        </p:blipFill>
        <p:spPr>
          <a:xfrm>
            <a:off x="914400" y="2971800"/>
            <a:ext cx="3027240" cy="2952720"/>
          </a:xfrm>
          <a:prstGeom prst="rect">
            <a:avLst/>
          </a:prstGeom>
          <a:ln w="0">
            <a:noFill/>
          </a:ln>
        </p:spPr>
      </p:pic>
      <p:pic>
        <p:nvPicPr>
          <p:cNvPr id="245" name="Picture 5" descr="MCj04291710000[1]"/>
          <p:cNvPicPr/>
          <p:nvPr/>
        </p:nvPicPr>
        <p:blipFill>
          <a:blip r:embed="rId4"/>
          <a:stretch/>
        </p:blipFill>
        <p:spPr>
          <a:xfrm>
            <a:off x="1371600" y="3298680"/>
            <a:ext cx="2362320" cy="2168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Rectangle 2"/>
          <p:cNvSpPr/>
          <p:nvPr/>
        </p:nvSpPr>
        <p:spPr>
          <a:xfrm>
            <a:off x="304920" y="2057400"/>
            <a:ext cx="8534160" cy="377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Руководство ИСО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/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МЭК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43-1:1997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ts val="2999"/>
              </a:lnSpc>
              <a:buClr>
                <a:srgbClr val="cc00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«Программы проверки компетентности – это межлабораторные сравнения, которые проводятся регулярно для оценки работы аналитических лабораторий и компетенции сотрудников»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119425-056D-4C3B-803D-D10099C6135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Rectangle 3"/>
          <p:cNvSpPr/>
          <p:nvPr/>
        </p:nvSpPr>
        <p:spPr>
          <a:xfrm>
            <a:off x="380880" y="1865160"/>
            <a:ext cx="8610840" cy="42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LSI GP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-A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 2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7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lnSpc>
                <a:spcPts val="2999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182520" indent="-18252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«Программа, в которой набор проб периодически рассылается членам группы лабораторий для анализа и/или идентификации; результаты каждой лаборатории сравниваются с результатами других лабораторий группы и/или с заданными величинами, и отчет рассылается участвующим лабораториям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CB05BC-4C7C-48BB-8A42-F5E915C310F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 Box 10"/>
          <p:cNvSpPr/>
          <p:nvPr/>
        </p:nvSpPr>
        <p:spPr>
          <a:xfrm>
            <a:off x="457200" y="411120"/>
            <a:ext cx="8839080" cy="131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7d"/>
                </a:solidFill>
                <a:latin typeface="Verdana"/>
              </a:rPr>
              <a:t>Определение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и компетентности (ПК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959078-726D-411D-A5C0-F246F0BE696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Rectangle 2"/>
          <p:cNvSpPr/>
          <p:nvPr/>
        </p:nvSpPr>
        <p:spPr>
          <a:xfrm>
            <a:off x="533520" y="2057400"/>
            <a:ext cx="3733560" cy="38862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Rectangle 3"/>
          <p:cNvSpPr/>
          <p:nvPr/>
        </p:nvSpPr>
        <p:spPr>
          <a:xfrm>
            <a:off x="4648320" y="1295280"/>
            <a:ext cx="4190760" cy="50292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4"/>
          <p:cNvSpPr/>
          <p:nvPr/>
        </p:nvSpPr>
        <p:spPr>
          <a:xfrm>
            <a:off x="533520" y="1219320"/>
            <a:ext cx="3733560" cy="8254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Ведомство ПК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/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рганизатор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Text Box 5"/>
          <p:cNvSpPr/>
          <p:nvPr/>
        </p:nvSpPr>
        <p:spPr>
          <a:xfrm>
            <a:off x="4648320" y="762120"/>
            <a:ext cx="4190760" cy="5205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0" name="Group 6"/>
          <p:cNvGrpSpPr/>
          <p:nvPr/>
        </p:nvGrpSpPr>
        <p:grpSpPr>
          <a:xfrm>
            <a:off x="1112040" y="2247480"/>
            <a:ext cx="540360" cy="843120"/>
            <a:chOff x="1112040" y="2247480"/>
            <a:chExt cx="540360" cy="843120"/>
          </a:xfrm>
        </p:grpSpPr>
        <p:sp>
          <p:nvSpPr>
            <p:cNvPr id="261" name="AutoShape 7"/>
            <p:cNvSpPr/>
            <p:nvPr/>
          </p:nvSpPr>
          <p:spPr>
            <a:xfrm rot="6744600">
              <a:off x="1036080" y="2639880"/>
              <a:ext cx="60984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2" name="Rectangle 8"/>
            <p:cNvSpPr/>
            <p:nvPr/>
          </p:nvSpPr>
          <p:spPr>
            <a:xfrm rot="1359000">
              <a:off x="1393560" y="2286000"/>
              <a:ext cx="234720" cy="17136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3" name="Line 9"/>
          <p:cNvSpPr/>
          <p:nvPr/>
        </p:nvSpPr>
        <p:spPr>
          <a:xfrm flipV="1">
            <a:off x="1600560" y="2184120"/>
            <a:ext cx="4418640" cy="5727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Line 10"/>
          <p:cNvSpPr/>
          <p:nvPr/>
        </p:nvSpPr>
        <p:spPr>
          <a:xfrm>
            <a:off x="7467480" y="2362320"/>
            <a:ext cx="0" cy="6094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11"/>
          <p:cNvSpPr/>
          <p:nvPr/>
        </p:nvSpPr>
        <p:spPr>
          <a:xfrm>
            <a:off x="6705720" y="1905120"/>
            <a:ext cx="175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Анализ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6" name="Group 12"/>
          <p:cNvGrpSpPr/>
          <p:nvPr/>
        </p:nvGrpSpPr>
        <p:grpSpPr>
          <a:xfrm>
            <a:off x="5943600" y="3191040"/>
            <a:ext cx="609120" cy="838080"/>
            <a:chOff x="5943600" y="3191040"/>
            <a:chExt cx="609120" cy="838080"/>
          </a:xfrm>
        </p:grpSpPr>
        <p:sp>
          <p:nvSpPr>
            <p:cNvPr id="267" name="Rectangle 13"/>
            <p:cNvSpPr/>
            <p:nvPr/>
          </p:nvSpPr>
          <p:spPr>
            <a:xfrm>
              <a:off x="5943600" y="319104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8" name="Line 14"/>
            <p:cNvSpPr/>
            <p:nvPr/>
          </p:nvSpPr>
          <p:spPr>
            <a:xfrm>
              <a:off x="6048720" y="33433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9" name="Line 15"/>
            <p:cNvSpPr/>
            <p:nvPr/>
          </p:nvSpPr>
          <p:spPr>
            <a:xfrm>
              <a:off x="6059520" y="352764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Line 16"/>
            <p:cNvSpPr/>
            <p:nvPr/>
          </p:nvSpPr>
          <p:spPr>
            <a:xfrm>
              <a:off x="6059520" y="372744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Line 17"/>
            <p:cNvSpPr/>
            <p:nvPr/>
          </p:nvSpPr>
          <p:spPr>
            <a:xfrm>
              <a:off x="6052320" y="388944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2" name="Line 18"/>
          <p:cNvSpPr/>
          <p:nvPr/>
        </p:nvSpPr>
        <p:spPr>
          <a:xfrm flipH="1" flipV="1">
            <a:off x="1371240" y="3885840"/>
            <a:ext cx="4419720" cy="4680"/>
          </a:xfrm>
          <a:prstGeom prst="line">
            <a:avLst/>
          </a:prstGeom>
          <a:ln w="76320">
            <a:solidFill>
              <a:srgbClr val="008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3" name="Group 19"/>
          <p:cNvGrpSpPr/>
          <p:nvPr/>
        </p:nvGrpSpPr>
        <p:grpSpPr>
          <a:xfrm>
            <a:off x="6400800" y="4191120"/>
            <a:ext cx="609120" cy="838080"/>
            <a:chOff x="6400800" y="4191120"/>
            <a:chExt cx="609120" cy="838080"/>
          </a:xfrm>
        </p:grpSpPr>
        <p:sp>
          <p:nvSpPr>
            <p:cNvPr id="274" name="Rectangle 20"/>
            <p:cNvSpPr/>
            <p:nvPr/>
          </p:nvSpPr>
          <p:spPr>
            <a:xfrm>
              <a:off x="6400800" y="4191120"/>
              <a:ext cx="60912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Line 21"/>
            <p:cNvSpPr/>
            <p:nvPr/>
          </p:nvSpPr>
          <p:spPr>
            <a:xfrm>
              <a:off x="6505920" y="4343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6" name="Line 22"/>
            <p:cNvSpPr/>
            <p:nvPr/>
          </p:nvSpPr>
          <p:spPr>
            <a:xfrm>
              <a:off x="6516720" y="452772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7" name="Line 23"/>
            <p:cNvSpPr/>
            <p:nvPr/>
          </p:nvSpPr>
          <p:spPr>
            <a:xfrm>
              <a:off x="6516720" y="472752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8" name="Line 24"/>
            <p:cNvSpPr/>
            <p:nvPr/>
          </p:nvSpPr>
          <p:spPr>
            <a:xfrm>
              <a:off x="6509520" y="488952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9" name="Text Box 25"/>
          <p:cNvSpPr/>
          <p:nvPr/>
        </p:nvSpPr>
        <p:spPr>
          <a:xfrm>
            <a:off x="1295280" y="4114800"/>
            <a:ext cx="16765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цен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0" name="Group 27"/>
          <p:cNvGrpSpPr/>
          <p:nvPr/>
        </p:nvGrpSpPr>
        <p:grpSpPr>
          <a:xfrm>
            <a:off x="685800" y="3657600"/>
            <a:ext cx="609120" cy="838080"/>
            <a:chOff x="685800" y="3657600"/>
            <a:chExt cx="609120" cy="838080"/>
          </a:xfrm>
        </p:grpSpPr>
        <p:sp>
          <p:nvSpPr>
            <p:cNvPr id="281" name="Rectangle 28"/>
            <p:cNvSpPr/>
            <p:nvPr/>
          </p:nvSpPr>
          <p:spPr>
            <a:xfrm>
              <a:off x="685800" y="3657600"/>
              <a:ext cx="609120" cy="838080"/>
            </a:xfrm>
            <a:prstGeom prst="rect">
              <a:avLst/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Line 29"/>
            <p:cNvSpPr/>
            <p:nvPr/>
          </p:nvSpPr>
          <p:spPr>
            <a:xfrm>
              <a:off x="790920" y="380988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Line 30"/>
            <p:cNvSpPr/>
            <p:nvPr/>
          </p:nvSpPr>
          <p:spPr>
            <a:xfrm>
              <a:off x="801720" y="3994200"/>
              <a:ext cx="40608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4" name="Line 31"/>
            <p:cNvSpPr/>
            <p:nvPr/>
          </p:nvSpPr>
          <p:spPr>
            <a:xfrm>
              <a:off x="801720" y="41940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Line 32"/>
            <p:cNvSpPr/>
            <p:nvPr/>
          </p:nvSpPr>
          <p:spPr>
            <a:xfrm>
              <a:off x="794520" y="4356000"/>
              <a:ext cx="40572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6" name="Text Box 33"/>
          <p:cNvSpPr/>
          <p:nvPr/>
        </p:nvSpPr>
        <p:spPr>
          <a:xfrm>
            <a:off x="609480" y="502920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4354f3"/>
                </a:solidFill>
                <a:latin typeface="Verdana"/>
              </a:rPr>
              <a:t>Отчет о результатах П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Line 34"/>
          <p:cNvSpPr/>
          <p:nvPr/>
        </p:nvSpPr>
        <p:spPr>
          <a:xfrm>
            <a:off x="6858000" y="5029200"/>
            <a:ext cx="0" cy="44928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Group 36"/>
          <p:cNvGrpSpPr/>
          <p:nvPr/>
        </p:nvGrpSpPr>
        <p:grpSpPr>
          <a:xfrm>
            <a:off x="5913000" y="1866600"/>
            <a:ext cx="539640" cy="842400"/>
            <a:chOff x="5913000" y="1866600"/>
            <a:chExt cx="539640" cy="842400"/>
          </a:xfrm>
        </p:grpSpPr>
        <p:sp>
          <p:nvSpPr>
            <p:cNvPr id="289" name="AutoShape 37"/>
            <p:cNvSpPr/>
            <p:nvPr/>
          </p:nvSpPr>
          <p:spPr>
            <a:xfrm rot="6744600">
              <a:off x="5837040" y="2258640"/>
              <a:ext cx="609480" cy="2440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Rectangle 38"/>
            <p:cNvSpPr/>
            <p:nvPr/>
          </p:nvSpPr>
          <p:spPr>
            <a:xfrm rot="1359000">
              <a:off x="6193800" y="1905120"/>
              <a:ext cx="234720" cy="17100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1" name="Text Box 39"/>
          <p:cNvSpPr/>
          <p:nvPr/>
        </p:nvSpPr>
        <p:spPr>
          <a:xfrm>
            <a:off x="6523200" y="3276720"/>
            <a:ext cx="2315880" cy="67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Verdana"/>
              </a:rPr>
              <a:t>Отсылают результат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Rectangle 40"/>
          <p:cNvSpPr/>
          <p:nvPr/>
        </p:nvSpPr>
        <p:spPr>
          <a:xfrm>
            <a:off x="380880" y="609480"/>
            <a:ext cx="82296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цесс П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Text Box 41"/>
          <p:cNvSpPr/>
          <p:nvPr/>
        </p:nvSpPr>
        <p:spPr>
          <a:xfrm>
            <a:off x="1676520" y="2754360"/>
            <a:ext cx="2590560" cy="9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51eba"/>
                </a:solidFill>
                <a:latin typeface="Verdana"/>
              </a:rPr>
              <a:t>ПК пробы рассылаются регуляр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Text Box 42"/>
          <p:cNvSpPr/>
          <p:nvPr/>
        </p:nvSpPr>
        <p:spPr>
          <a:xfrm>
            <a:off x="7010280" y="4419720"/>
            <a:ext cx="1828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95" name="Group 43"/>
          <p:cNvGrpSpPr/>
          <p:nvPr/>
        </p:nvGrpSpPr>
        <p:grpSpPr>
          <a:xfrm>
            <a:off x="3352680" y="4572000"/>
            <a:ext cx="609480" cy="838080"/>
            <a:chOff x="3352680" y="4572000"/>
            <a:chExt cx="609480" cy="838080"/>
          </a:xfrm>
        </p:grpSpPr>
        <p:sp>
          <p:nvSpPr>
            <p:cNvPr id="296" name="Rectangle 44"/>
            <p:cNvSpPr/>
            <p:nvPr/>
          </p:nvSpPr>
          <p:spPr>
            <a:xfrm>
              <a:off x="3352680" y="4572000"/>
              <a:ext cx="609480" cy="838080"/>
            </a:xfrm>
            <a:prstGeom prst="rect">
              <a:avLst/>
            </a:prstGeom>
            <a:solidFill>
              <a:srgbClr val="9999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Line 45"/>
            <p:cNvSpPr/>
            <p:nvPr/>
          </p:nvSpPr>
          <p:spPr>
            <a:xfrm>
              <a:off x="3457800" y="472428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Line 46"/>
            <p:cNvSpPr/>
            <p:nvPr/>
          </p:nvSpPr>
          <p:spPr>
            <a:xfrm>
              <a:off x="3468600" y="4908600"/>
              <a:ext cx="406440" cy="1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Line 47"/>
            <p:cNvSpPr/>
            <p:nvPr/>
          </p:nvSpPr>
          <p:spPr>
            <a:xfrm>
              <a:off x="3468600" y="5108400"/>
              <a:ext cx="40644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Line 48"/>
            <p:cNvSpPr/>
            <p:nvPr/>
          </p:nvSpPr>
          <p:spPr>
            <a:xfrm>
              <a:off x="3461400" y="5270400"/>
              <a:ext cx="406080" cy="1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49"/>
          <p:cNvSpPr/>
          <p:nvPr/>
        </p:nvSpPr>
        <p:spPr>
          <a:xfrm>
            <a:off x="1143000" y="4572000"/>
            <a:ext cx="609480" cy="45720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Line 9"/>
          <p:cNvSpPr/>
          <p:nvPr/>
        </p:nvSpPr>
        <p:spPr>
          <a:xfrm flipV="1">
            <a:off x="4093200" y="4800960"/>
            <a:ext cx="2217960" cy="227160"/>
          </a:xfrm>
          <a:prstGeom prst="line">
            <a:avLst/>
          </a:prstGeom>
          <a:ln cap="rnd" w="76320">
            <a:solidFill>
              <a:srgbClr val="251eba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Text Box 56"/>
          <p:cNvSpPr/>
          <p:nvPr/>
        </p:nvSpPr>
        <p:spPr>
          <a:xfrm>
            <a:off x="4876920" y="5410080"/>
            <a:ext cx="3962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8000"/>
                </a:solidFill>
                <a:latin typeface="Verdana"/>
              </a:rPr>
              <a:t>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Document"/>
          <p:cNvSpPr/>
          <p:nvPr/>
        </p:nvSpPr>
        <p:spPr>
          <a:xfrm>
            <a:off x="4572000" y="4419720"/>
            <a:ext cx="1523880" cy="1828800"/>
          </a:xfrm>
          <a:custGeom>
            <a:avLst/>
            <a:gdLst>
              <a:gd name="textAreaLeft" fmla="*/ 68760 w 1523880"/>
              <a:gd name="textAreaRight" fmla="*/ 1455120 w 1523880"/>
              <a:gd name="textAreaTop" fmla="*/ 69120 h 1828800"/>
              <a:gd name="textAreaBottom" fmla="*/ 1391040 h 1828800"/>
            </a:gdLst>
            <a:ahLst/>
            <a:rect l="textAreaLeft" t="textAreaTop" r="textAreaRight" b="textAreaBottom"/>
            <a:pathLst>
              <a:path w="21600" h="21600">
                <a:moveTo>
                  <a:pt x="10757" y="21632"/>
                </a:moveTo>
                <a:lnTo>
                  <a:pt x="5187" y="21632"/>
                </a:lnTo>
                <a:lnTo>
                  <a:pt x="85" y="17509"/>
                </a:lnTo>
                <a:lnTo>
                  <a:pt x="85" y="10849"/>
                </a:lnTo>
                <a:lnTo>
                  <a:pt x="85" y="81"/>
                </a:lnTo>
                <a:lnTo>
                  <a:pt x="10757" y="81"/>
                </a:lnTo>
                <a:lnTo>
                  <a:pt x="21706" y="81"/>
                </a:lnTo>
                <a:lnTo>
                  <a:pt x="21706" y="10652"/>
                </a:lnTo>
                <a:lnTo>
                  <a:pt x="21706" y="21632"/>
                </a:lnTo>
                <a:lnTo>
                  <a:pt x="10757" y="21632"/>
                </a:lnTo>
                <a:close/>
              </a:path>
              <a:path w="21600" h="21600">
                <a:moveTo>
                  <a:pt x="85" y="17509"/>
                </a:moveTo>
                <a:lnTo>
                  <a:pt x="5187" y="17509"/>
                </a:lnTo>
                <a:lnTo>
                  <a:pt x="5187" y="21632"/>
                </a:lnTo>
                <a:lnTo>
                  <a:pt x="85" y="17509"/>
                </a:lnTo>
                <a:close/>
              </a:path>
            </a:pathLst>
          </a:custGeom>
          <a:solidFill>
            <a:srgbClr val="d8ebb3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BCBAAE-5044-4B1E-A5DA-363787F7BDE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07" name="Group 10"/>
          <p:cNvGrpSpPr/>
          <p:nvPr/>
        </p:nvGrpSpPr>
        <p:grpSpPr>
          <a:xfrm>
            <a:off x="838080" y="1219320"/>
            <a:ext cx="2438640" cy="1981080"/>
            <a:chOff x="838080" y="1219320"/>
            <a:chExt cx="2438640" cy="1981080"/>
          </a:xfrm>
        </p:grpSpPr>
        <p:pic>
          <p:nvPicPr>
            <p:cNvPr id="308" name="Picture 4" descr=""/>
            <p:cNvPicPr/>
            <p:nvPr/>
          </p:nvPicPr>
          <p:blipFill>
            <a:blip r:embed="rId1"/>
            <a:stretch/>
          </p:blipFill>
          <p:spPr>
            <a:xfrm>
              <a:off x="838080" y="1219320"/>
              <a:ext cx="2435400" cy="164448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309" name="Group 9"/>
            <p:cNvGrpSpPr/>
            <p:nvPr/>
          </p:nvGrpSpPr>
          <p:grpSpPr>
            <a:xfrm>
              <a:off x="838080" y="1219320"/>
              <a:ext cx="2438640" cy="1981080"/>
              <a:chOff x="838080" y="1219320"/>
              <a:chExt cx="2438640" cy="1981080"/>
            </a:xfrm>
          </p:grpSpPr>
          <p:sp>
            <p:nvSpPr>
              <p:cNvPr id="310" name="Line 5"/>
              <p:cNvSpPr/>
              <p:nvPr/>
            </p:nvSpPr>
            <p:spPr>
              <a:xfrm>
                <a:off x="838080" y="1219320"/>
                <a:ext cx="0" cy="193032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1" name="Line 6"/>
              <p:cNvSpPr/>
              <p:nvPr/>
            </p:nvSpPr>
            <p:spPr>
              <a:xfrm>
                <a:off x="838080" y="1219320"/>
                <a:ext cx="243864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2" name="Line 7"/>
              <p:cNvSpPr/>
              <p:nvPr/>
            </p:nvSpPr>
            <p:spPr>
              <a:xfrm>
                <a:off x="3276720" y="1219320"/>
                <a:ext cx="0" cy="16257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13" name="Freeform 8"/>
              <p:cNvSpPr/>
              <p:nvPr/>
            </p:nvSpPr>
            <p:spPr>
              <a:xfrm>
                <a:off x="838080" y="2845080"/>
                <a:ext cx="2438640" cy="355320"/>
              </a:xfrm>
              <a:custGeom>
                <a:avLst/>
                <a:gdLst>
                  <a:gd name="textAreaLeft" fmla="*/ 0 w 2438640"/>
                  <a:gd name="textAreaRight" fmla="*/ 2439000 w 2438640"/>
                  <a:gd name="textAreaTop" fmla="*/ 0 h 355320"/>
                  <a:gd name="textAreaBottom" fmla="*/ 355680 h 35532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314" name="Rectangle 22"/>
          <p:cNvSpPr/>
          <p:nvPr/>
        </p:nvSpPr>
        <p:spPr>
          <a:xfrm>
            <a:off x="380880" y="3328920"/>
            <a:ext cx="1905120" cy="173196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Text Box 23"/>
          <p:cNvSpPr/>
          <p:nvPr/>
        </p:nvSpPr>
        <p:spPr>
          <a:xfrm>
            <a:off x="380880" y="3328920"/>
            <a:ext cx="19051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Rectangle 24"/>
          <p:cNvSpPr/>
          <p:nvPr/>
        </p:nvSpPr>
        <p:spPr>
          <a:xfrm>
            <a:off x="2527200" y="3348000"/>
            <a:ext cx="1892520" cy="1733760"/>
          </a:xfrm>
          <a:prstGeom prst="rect">
            <a:avLst/>
          </a:prstGeom>
          <a:blipFill rotWithShape="0">
            <a:blip r:embed="rId3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Text Box 25"/>
          <p:cNvSpPr/>
          <p:nvPr/>
        </p:nvSpPr>
        <p:spPr>
          <a:xfrm>
            <a:off x="2527200" y="3348000"/>
            <a:ext cx="1892520" cy="36828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Лаборатория</a:t>
            </a:r>
            <a:r>
              <a:rPr b="1" lang="fr-FR" sz="1800" spc="-1" strike="noStrike">
                <a:solidFill>
                  <a:srgbClr val="000000"/>
                </a:solidFill>
                <a:latin typeface="Arial"/>
              </a:rPr>
              <a:t> 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8" name="AutoShape 26"/>
          <p:cNvCxnSpPr>
            <a:stCxn id="314" idx="2"/>
            <a:endCxn id="316" idx="2"/>
          </p:cNvCxnSpPr>
          <p:nvPr/>
        </p:nvCxnSpPr>
        <p:spPr>
          <a:xfrm flipH="1" rot="16200000">
            <a:off x="2392920" y="4001040"/>
            <a:ext cx="21600" cy="2140560"/>
          </a:xfrm>
          <a:prstGeom prst="curvedConnector5">
            <a:avLst>
              <a:gd name="adj1" fmla="val 1206779"/>
              <a:gd name="adj2" fmla="val 49991"/>
              <a:gd name="adj3" fmla="val 1206779"/>
            </a:avLst>
          </a:prstGeom>
          <a:ln w="381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19" name="Text Box 30"/>
          <p:cNvSpPr/>
          <p:nvPr/>
        </p:nvSpPr>
        <p:spPr>
          <a:xfrm>
            <a:off x="533520" y="5562720"/>
            <a:ext cx="35812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Запрещено обсуждение между лаборатория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Rectangle 39"/>
          <p:cNvSpPr/>
          <p:nvPr/>
        </p:nvSpPr>
        <p:spPr>
          <a:xfrm>
            <a:off x="380880" y="478800"/>
            <a:ext cx="6058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К: Роль лаборатори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 Box 83"/>
          <p:cNvSpPr/>
          <p:nvPr/>
        </p:nvSpPr>
        <p:spPr>
          <a:xfrm>
            <a:off x="4648320" y="4724280"/>
            <a:ext cx="14475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Отчет ПК получе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22" name="Group 84"/>
          <p:cNvGrpSpPr/>
          <p:nvPr/>
        </p:nvGrpSpPr>
        <p:grpSpPr>
          <a:xfrm>
            <a:off x="4800600" y="533520"/>
            <a:ext cx="4037760" cy="3139200"/>
            <a:chOff x="4800600" y="533520"/>
            <a:chExt cx="4037760" cy="3139200"/>
          </a:xfrm>
        </p:grpSpPr>
        <p:grpSp>
          <p:nvGrpSpPr>
            <p:cNvPr id="323" name="Group 85"/>
            <p:cNvGrpSpPr/>
            <p:nvPr/>
          </p:nvGrpSpPr>
          <p:grpSpPr>
            <a:xfrm>
              <a:off x="5313600" y="1246320"/>
              <a:ext cx="970560" cy="1455480"/>
              <a:chOff x="5313600" y="1246320"/>
              <a:chExt cx="970560" cy="1455480"/>
            </a:xfrm>
          </p:grpSpPr>
          <p:sp>
            <p:nvSpPr>
              <p:cNvPr id="324" name="AutoShape 86"/>
              <p:cNvSpPr/>
              <p:nvPr/>
            </p:nvSpPr>
            <p:spPr>
              <a:xfrm rot="6744600">
                <a:off x="5196240" y="1910520"/>
                <a:ext cx="1045080" cy="446040"/>
              </a:xfrm>
              <a:prstGeom prst="flowChartDelay">
                <a:avLst/>
              </a:prstGeom>
              <a:solidFill>
                <a:srgbClr val="9999ff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5" name="Rectangle 87"/>
              <p:cNvSpPr/>
              <p:nvPr/>
            </p:nvSpPr>
            <p:spPr>
              <a:xfrm rot="1359000">
                <a:off x="5815080" y="1317600"/>
                <a:ext cx="429120" cy="29340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326" name="Group 88"/>
            <p:cNvGrpSpPr/>
            <p:nvPr/>
          </p:nvGrpSpPr>
          <p:grpSpPr>
            <a:xfrm>
              <a:off x="6706800" y="1246320"/>
              <a:ext cx="969480" cy="1455840"/>
              <a:chOff x="6706800" y="1246320"/>
              <a:chExt cx="969480" cy="1455840"/>
            </a:xfrm>
          </p:grpSpPr>
          <p:sp>
            <p:nvSpPr>
              <p:cNvPr id="327" name="AutoShape 89"/>
              <p:cNvSpPr/>
              <p:nvPr/>
            </p:nvSpPr>
            <p:spPr>
              <a:xfrm rot="6744600">
                <a:off x="6589080" y="1910880"/>
                <a:ext cx="1045080" cy="445680"/>
              </a:xfrm>
              <a:prstGeom prst="flowChartDelay">
                <a:avLst/>
              </a:prstGeom>
              <a:solidFill>
                <a:srgbClr val="99ff99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t" anchorCtr="1" vert="eaVert" rot="10800000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328" name="Rectangle 90"/>
              <p:cNvSpPr/>
              <p:nvPr/>
            </p:nvSpPr>
            <p:spPr>
              <a:xfrm rot="1359000">
                <a:off x="7207200" y="1317240"/>
                <a:ext cx="428760" cy="293760"/>
              </a:xfrm>
              <a:prstGeom prst="rect">
                <a:avLst/>
              </a:prstGeom>
              <a:solidFill>
                <a:srgbClr val="990033">
                  <a:alpha val="59000"/>
                </a:srgbClr>
              </a:solidFill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100584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329" name="Text Box 91"/>
            <p:cNvSpPr/>
            <p:nvPr/>
          </p:nvSpPr>
          <p:spPr>
            <a:xfrm>
              <a:off x="5078880" y="533520"/>
              <a:ext cx="139248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Text Box 92"/>
            <p:cNvSpPr/>
            <p:nvPr/>
          </p:nvSpPr>
          <p:spPr>
            <a:xfrm>
              <a:off x="6891840" y="533520"/>
              <a:ext cx="1946520" cy="39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AutoShape 93"/>
            <p:cNvSpPr/>
            <p:nvPr/>
          </p:nvSpPr>
          <p:spPr>
            <a:xfrm rot="16200000">
              <a:off x="6066360" y="2045880"/>
              <a:ext cx="392040" cy="1810440"/>
            </a:xfrm>
            <a:custGeom>
              <a:avLst/>
              <a:gdLst>
                <a:gd name="textAreaLeft" fmla="*/ 250560 w 392040"/>
                <a:gd name="textAreaRight" fmla="*/ 392400 w 392040"/>
                <a:gd name="textAreaTop" fmla="*/ 47160 h 1810440"/>
                <a:gd name="textAreaBottom" fmla="*/ 1763280 h 181044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1005840" tIns="46800" bIns="46800" anchor="t" anchorCtr="1" vert="eaVer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Text Box 94"/>
            <p:cNvSpPr/>
            <p:nvPr/>
          </p:nvSpPr>
          <p:spPr>
            <a:xfrm>
              <a:off x="4800600" y="3275280"/>
              <a:ext cx="3898440" cy="3974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100584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33" name="Text Box 95"/>
          <p:cNvSpPr/>
          <p:nvPr/>
        </p:nvSpPr>
        <p:spPr>
          <a:xfrm>
            <a:off x="990720" y="1905120"/>
            <a:ext cx="2133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СО</a:t>
            </a:r>
            <a:r>
              <a:rPr b="0" lang="fr-FR" sz="2800" spc="-1" strike="noStrike">
                <a:solidFill>
                  <a:srgbClr val="000000"/>
                </a:solidFill>
                <a:latin typeface="Arial"/>
              </a:rPr>
              <a:t> 15189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Text Box 104"/>
          <p:cNvSpPr/>
          <p:nvPr/>
        </p:nvSpPr>
        <p:spPr>
          <a:xfrm>
            <a:off x="4800600" y="3657600"/>
            <a:ext cx="32767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Verdana"/>
              </a:rPr>
              <a:t>Одинаковый анализ теми же сотрудник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Text Box 46"/>
          <p:cNvSpPr/>
          <p:nvPr/>
        </p:nvSpPr>
        <p:spPr>
          <a:xfrm>
            <a:off x="6324480" y="5105520"/>
            <a:ext cx="27432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Улучш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Line 48"/>
          <p:cNvSpPr/>
          <p:nvPr/>
        </p:nvSpPr>
        <p:spPr>
          <a:xfrm>
            <a:off x="5867280" y="5334120"/>
            <a:ext cx="609840" cy="0"/>
          </a:xfrm>
          <a:prstGeom prst="line">
            <a:avLst/>
          </a:prstGeom>
          <a:ln w="7632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Text Box 49"/>
          <p:cNvSpPr/>
          <p:nvPr/>
        </p:nvSpPr>
        <p:spPr>
          <a:xfrm>
            <a:off x="4800600" y="2971800"/>
            <a:ext cx="13716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К проб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Text Box 50"/>
          <p:cNvSpPr/>
          <p:nvPr/>
        </p:nvSpPr>
        <p:spPr>
          <a:xfrm>
            <a:off x="6553080" y="2286000"/>
            <a:ext cx="1600200" cy="14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77724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Проба от пациен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9" name="Picture 42" descr="MCj04238220000[1]"/>
          <p:cNvPicPr/>
          <p:nvPr/>
        </p:nvPicPr>
        <p:blipFill>
          <a:blip r:embed="rId4"/>
          <a:stretch/>
        </p:blipFill>
        <p:spPr>
          <a:xfrm>
            <a:off x="2895480" y="3710160"/>
            <a:ext cx="1314720" cy="1349280"/>
          </a:xfrm>
          <a:prstGeom prst="rect">
            <a:avLst/>
          </a:prstGeom>
          <a:ln w="0">
            <a:noFill/>
          </a:ln>
        </p:spPr>
      </p:pic>
      <p:pic>
        <p:nvPicPr>
          <p:cNvPr id="340" name="Picture 43" descr="MCj04238320000[1]"/>
          <p:cNvPicPr/>
          <p:nvPr/>
        </p:nvPicPr>
        <p:blipFill>
          <a:blip r:embed="rId5"/>
          <a:stretch/>
        </p:blipFill>
        <p:spPr>
          <a:xfrm>
            <a:off x="609480" y="3710160"/>
            <a:ext cx="1524240" cy="1295280"/>
          </a:xfrm>
          <a:prstGeom prst="rect">
            <a:avLst/>
          </a:prstGeom>
          <a:ln w="0">
            <a:noFill/>
          </a:ln>
        </p:spPr>
      </p:pic>
      <p:grpSp>
        <p:nvGrpSpPr>
          <p:cNvPr id="341" name="Group 29"/>
          <p:cNvGrpSpPr/>
          <p:nvPr/>
        </p:nvGrpSpPr>
        <p:grpSpPr>
          <a:xfrm>
            <a:off x="1979640" y="5100480"/>
            <a:ext cx="588960" cy="462240"/>
            <a:chOff x="1979640" y="5100480"/>
            <a:chExt cx="588960" cy="462240"/>
          </a:xfrm>
        </p:grpSpPr>
        <p:sp>
          <p:nvSpPr>
            <p:cNvPr id="342" name="Line 27"/>
            <p:cNvSpPr/>
            <p:nvPr/>
          </p:nvSpPr>
          <p:spPr>
            <a:xfrm>
              <a:off x="1979640" y="5100480"/>
              <a:ext cx="588960" cy="462240"/>
            </a:xfrm>
            <a:prstGeom prst="line">
              <a:avLst/>
            </a:prstGeom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Line 28"/>
            <p:cNvSpPr/>
            <p:nvPr/>
          </p:nvSpPr>
          <p:spPr>
            <a:xfrm flipH="1">
              <a:off x="2038320" y="5158080"/>
              <a:ext cx="529920" cy="404640"/>
            </a:xfrm>
            <a:prstGeom prst="line">
              <a:avLst/>
            </a:prstGeom>
            <a:ln w="7632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Text Box 2"/>
          <p:cNvSpPr/>
          <p:nvPr/>
        </p:nvSpPr>
        <p:spPr>
          <a:xfrm>
            <a:off x="304920" y="752400"/>
            <a:ext cx="8534160" cy="482652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Ценность информации, полученной в ПК, реализуется лишь тогда, когда она используется для улучшения лаборатории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5" name="Picture 13" descr="MCj03962260000[1]"/>
          <p:cNvPicPr/>
          <p:nvPr/>
        </p:nvPicPr>
        <p:blipFill>
          <a:blip r:embed="rId1"/>
          <a:stretch/>
        </p:blipFill>
        <p:spPr>
          <a:xfrm>
            <a:off x="6477120" y="3048120"/>
            <a:ext cx="2133360" cy="2209680"/>
          </a:xfrm>
          <a:prstGeom prst="rect">
            <a:avLst/>
          </a:prstGeom>
          <a:ln w="0">
            <a:noFill/>
          </a:ln>
        </p:spPr>
      </p:pic>
      <p:pic>
        <p:nvPicPr>
          <p:cNvPr id="346" name="Picture 24" descr="MCj04039790000[1]"/>
          <p:cNvPicPr/>
          <p:nvPr/>
        </p:nvPicPr>
        <p:blipFill>
          <a:blip r:embed="rId2"/>
          <a:stretch/>
        </p:blipFill>
        <p:spPr>
          <a:xfrm>
            <a:off x="3581280" y="3468600"/>
            <a:ext cx="3353040" cy="2855880"/>
          </a:xfrm>
          <a:prstGeom prst="rect">
            <a:avLst/>
          </a:prstGeom>
          <a:ln w="0">
            <a:noFill/>
          </a:ln>
        </p:spPr>
      </p:pic>
      <p:sp>
        <p:nvSpPr>
          <p:cNvPr id="347" name="Rectangle 6"/>
          <p:cNvSpPr/>
          <p:nvPr/>
        </p:nvSpPr>
        <p:spPr>
          <a:xfrm>
            <a:off x="4343400" y="4784760"/>
            <a:ext cx="16880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AutoShape 26"/>
          <p:cNvSpPr/>
          <p:nvPr/>
        </p:nvSpPr>
        <p:spPr>
          <a:xfrm rot="19878000">
            <a:off x="6324480" y="4736880"/>
            <a:ext cx="1463760" cy="873000"/>
          </a:xfrm>
          <a:custGeom>
            <a:avLst/>
            <a:gdLst>
              <a:gd name="textAreaLeft" fmla="*/ 228600 w 1463760"/>
              <a:gd name="textAreaRight" fmla="*/ 1280880 w 1463760"/>
              <a:gd name="textAreaTop" fmla="*/ 218160 h 873000"/>
              <a:gd name="textAreaBottom" fmla="*/ 654840 h 87300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1641A9-D570-4A17-A4AD-C0C2041937F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533520" y="685800"/>
            <a:ext cx="8229600" cy="731880"/>
          </a:xfrm>
          <a:prstGeom prst="rect">
            <a:avLst/>
          </a:prstGeom>
          <a:noFill/>
          <a:ln w="0">
            <a:noFill/>
          </a:ln>
          <a:effectLst>
            <a:outerShdw dist="53966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Rectangle 3"/>
          <p:cNvSpPr/>
          <p:nvPr/>
        </p:nvSpPr>
        <p:spPr>
          <a:xfrm>
            <a:off x="762120" y="1447920"/>
            <a:ext cx="8076960" cy="370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На результаты ПК могут влиять факторы, не имеющие отношение к пробам от пациент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не выявит все недостатки в лаборатор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87280" indent="-287280">
              <a:lnSpc>
                <a:spcPct val="100000"/>
              </a:lnSpc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К может не выявить недостатки в процедурах до и после исслед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 Box 4"/>
          <p:cNvSpPr/>
          <p:nvPr/>
        </p:nvSpPr>
        <p:spPr>
          <a:xfrm>
            <a:off x="457200" y="44928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Ограничения ПК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B2AD5E-40F8-429E-A0F5-9CB50DA0930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Footer Placeholder 5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426960"/>
            <a:ext cx="8305920" cy="1076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Другие методы ВОК</a:t>
            </a:r>
            <a:br>
              <a:rPr sz="3200"/>
            </a:b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r>
              <a:rPr b="0" lang="en-US" sz="3200" spc="-1" strike="noStrike">
                <a:solidFill>
                  <a:srgbClr val="00007d"/>
                </a:solidFill>
                <a:latin typeface="Verdana"/>
              </a:rPr>
              <a:t>/</a:t>
            </a: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ый анализ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5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650F12-8793-46BD-9FBF-E0CA8E1E6C3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Rectangle 3"/>
          <p:cNvSpPr/>
          <p:nvPr/>
        </p:nvSpPr>
        <p:spPr>
          <a:xfrm>
            <a:off x="990720" y="2057400"/>
            <a:ext cx="2895480" cy="373392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0" name="Group 4"/>
          <p:cNvGrpSpPr/>
          <p:nvPr/>
        </p:nvGrpSpPr>
        <p:grpSpPr>
          <a:xfrm>
            <a:off x="2381400" y="3155760"/>
            <a:ext cx="586080" cy="966960"/>
            <a:chOff x="2381400" y="3155760"/>
            <a:chExt cx="586080" cy="966960"/>
          </a:xfrm>
        </p:grpSpPr>
        <p:sp>
          <p:nvSpPr>
            <p:cNvPr id="361" name="AutoShape 5"/>
            <p:cNvSpPr/>
            <p:nvPr/>
          </p:nvSpPr>
          <p:spPr>
            <a:xfrm rot="6744600">
              <a:off x="2265840" y="360540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Rectangle 6"/>
            <p:cNvSpPr/>
            <p:nvPr/>
          </p:nvSpPr>
          <p:spPr>
            <a:xfrm rot="1359000">
              <a:off x="2692080" y="320004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63" name="Picture 7" descr="frottis"/>
          <p:cNvPicPr/>
          <p:nvPr/>
        </p:nvPicPr>
        <p:blipFill>
          <a:blip r:embed="rId2"/>
          <a:stretch/>
        </p:blipFill>
        <p:spPr>
          <a:xfrm>
            <a:off x="1143000" y="49528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sp>
        <p:nvSpPr>
          <p:cNvPr id="364" name="Rectangle 8"/>
          <p:cNvSpPr/>
          <p:nvPr/>
        </p:nvSpPr>
        <p:spPr>
          <a:xfrm>
            <a:off x="5334120" y="1752480"/>
            <a:ext cx="3200400" cy="4114800"/>
          </a:xfrm>
          <a:prstGeom prst="rect">
            <a:avLst/>
          </a:prstGeom>
          <a:solidFill>
            <a:srgbClr val="ffcc99"/>
          </a:solidFill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 Box 9"/>
          <p:cNvSpPr/>
          <p:nvPr/>
        </p:nvSpPr>
        <p:spPr>
          <a:xfrm>
            <a:off x="5334120" y="1752480"/>
            <a:ext cx="320040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еференс-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 Box 10"/>
          <p:cNvSpPr/>
          <p:nvPr/>
        </p:nvSpPr>
        <p:spPr>
          <a:xfrm>
            <a:off x="990720" y="2057400"/>
            <a:ext cx="2895480" cy="947160"/>
          </a:xfrm>
          <a:prstGeom prst="rect">
            <a:avLst/>
          </a:prstGeom>
          <a:noFill/>
          <a:ln w="442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Местная лаборатор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7" name="AutoShape 11"/>
          <p:cNvCxnSpPr/>
          <p:nvPr/>
        </p:nvCxnSpPr>
        <p:spPr>
          <a:xfrm flipV="1">
            <a:off x="3429000" y="3885840"/>
            <a:ext cx="2349720" cy="381600"/>
          </a:xfrm>
          <a:prstGeom prst="curvedConnector5">
            <a:avLst>
              <a:gd name="adj1" fmla="val 41005"/>
              <a:gd name="adj2" fmla="val 49952"/>
              <a:gd name="adj3" fmla="val 41005"/>
            </a:avLst>
          </a:prstGeom>
          <a:ln w="76320">
            <a:solidFill>
              <a:srgbClr val="000000"/>
            </a:solidFill>
            <a:prstDash val="sysDot"/>
            <a:miter/>
            <a:tailEnd len="med" type="triangle" w="med"/>
          </a:ln>
        </p:spPr>
      </p:cxnSp>
      <p:sp>
        <p:nvSpPr>
          <p:cNvPr id="368" name="Text Box 12"/>
          <p:cNvSpPr/>
          <p:nvPr/>
        </p:nvSpPr>
        <p:spPr>
          <a:xfrm>
            <a:off x="5334120" y="2971800"/>
            <a:ext cx="320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Перепровер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69" name="Group 13"/>
          <p:cNvGrpSpPr/>
          <p:nvPr/>
        </p:nvGrpSpPr>
        <p:grpSpPr>
          <a:xfrm>
            <a:off x="2381400" y="3689280"/>
            <a:ext cx="586080" cy="966960"/>
            <a:chOff x="2381400" y="3689280"/>
            <a:chExt cx="586080" cy="966960"/>
          </a:xfrm>
        </p:grpSpPr>
        <p:sp>
          <p:nvSpPr>
            <p:cNvPr id="370" name="AutoShape 14"/>
            <p:cNvSpPr/>
            <p:nvPr/>
          </p:nvSpPr>
          <p:spPr>
            <a:xfrm rot="6744600">
              <a:off x="2265840" y="41389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Rectangle 15"/>
            <p:cNvSpPr/>
            <p:nvPr/>
          </p:nvSpPr>
          <p:spPr>
            <a:xfrm rot="1359000">
              <a:off x="2692080" y="37335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2" name="Group 16"/>
          <p:cNvGrpSpPr/>
          <p:nvPr/>
        </p:nvGrpSpPr>
        <p:grpSpPr>
          <a:xfrm>
            <a:off x="1924200" y="3536640"/>
            <a:ext cx="586080" cy="966960"/>
            <a:chOff x="1924200" y="3536640"/>
            <a:chExt cx="586080" cy="966960"/>
          </a:xfrm>
        </p:grpSpPr>
        <p:sp>
          <p:nvSpPr>
            <p:cNvPr id="373" name="AutoShape 17"/>
            <p:cNvSpPr/>
            <p:nvPr/>
          </p:nvSpPr>
          <p:spPr>
            <a:xfrm rot="6744600">
              <a:off x="1808640" y="398628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Rectangle 18"/>
            <p:cNvSpPr/>
            <p:nvPr/>
          </p:nvSpPr>
          <p:spPr>
            <a:xfrm rot="1359000">
              <a:off x="2234880" y="358092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5" name="Group 19"/>
          <p:cNvGrpSpPr/>
          <p:nvPr/>
        </p:nvGrpSpPr>
        <p:grpSpPr>
          <a:xfrm>
            <a:off x="2838600" y="3460680"/>
            <a:ext cx="586080" cy="966960"/>
            <a:chOff x="2838600" y="3460680"/>
            <a:chExt cx="586080" cy="966960"/>
          </a:xfrm>
        </p:grpSpPr>
        <p:sp>
          <p:nvSpPr>
            <p:cNvPr id="376" name="AutoShape 20"/>
            <p:cNvSpPr/>
            <p:nvPr/>
          </p:nvSpPr>
          <p:spPr>
            <a:xfrm rot="6744600">
              <a:off x="2723040" y="39103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Rectangle 21"/>
            <p:cNvSpPr/>
            <p:nvPr/>
          </p:nvSpPr>
          <p:spPr>
            <a:xfrm rot="1359000">
              <a:off x="3149280" y="35049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78" name="Group 22"/>
          <p:cNvGrpSpPr/>
          <p:nvPr/>
        </p:nvGrpSpPr>
        <p:grpSpPr>
          <a:xfrm>
            <a:off x="1619280" y="3232080"/>
            <a:ext cx="586080" cy="966960"/>
            <a:chOff x="1619280" y="3232080"/>
            <a:chExt cx="586080" cy="966960"/>
          </a:xfrm>
        </p:grpSpPr>
        <p:sp>
          <p:nvSpPr>
            <p:cNvPr id="379" name="AutoShape 23"/>
            <p:cNvSpPr/>
            <p:nvPr/>
          </p:nvSpPr>
          <p:spPr>
            <a:xfrm rot="6744600">
              <a:off x="1503720" y="3681720"/>
              <a:ext cx="746280" cy="24948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Rectangle 24"/>
            <p:cNvSpPr/>
            <p:nvPr/>
          </p:nvSpPr>
          <p:spPr>
            <a:xfrm rot="1359000">
              <a:off x="1929960" y="3276360"/>
              <a:ext cx="25884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1" name="Picture 25" descr="frottis"/>
          <p:cNvPicPr/>
          <p:nvPr/>
        </p:nvPicPr>
        <p:blipFill>
          <a:blip r:embed="rId3"/>
          <a:stretch/>
        </p:blipFill>
        <p:spPr>
          <a:xfrm>
            <a:off x="1447920" y="4572000"/>
            <a:ext cx="1981080" cy="692280"/>
          </a:xfrm>
          <a:prstGeom prst="rect">
            <a:avLst/>
          </a:prstGeom>
          <a:ln w="6480">
            <a:solidFill>
              <a:srgbClr val="000000"/>
            </a:solidFill>
            <a:miter/>
          </a:ln>
        </p:spPr>
      </p:pic>
      <p:grpSp>
        <p:nvGrpSpPr>
          <p:cNvPr id="382" name="Group 26"/>
          <p:cNvGrpSpPr/>
          <p:nvPr/>
        </p:nvGrpSpPr>
        <p:grpSpPr>
          <a:xfrm>
            <a:off x="7103880" y="3545640"/>
            <a:ext cx="513000" cy="949680"/>
            <a:chOff x="7103880" y="3545640"/>
            <a:chExt cx="513000" cy="949680"/>
          </a:xfrm>
        </p:grpSpPr>
        <p:sp>
          <p:nvSpPr>
            <p:cNvPr id="383" name="AutoShape 27"/>
            <p:cNvSpPr/>
            <p:nvPr/>
          </p:nvSpPr>
          <p:spPr>
            <a:xfrm rot="6744600">
              <a:off x="6967800" y="4008240"/>
              <a:ext cx="746280" cy="20556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Rectangle 28"/>
            <p:cNvSpPr/>
            <p:nvPr/>
          </p:nvSpPr>
          <p:spPr>
            <a:xfrm rot="1359000">
              <a:off x="7385400" y="3581280"/>
              <a:ext cx="213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85" name="Picture 29" descr="frottis"/>
          <p:cNvPicPr/>
          <p:nvPr/>
        </p:nvPicPr>
        <p:blipFill>
          <a:blip r:embed="rId4"/>
          <a:stretch/>
        </p:blipFill>
        <p:spPr>
          <a:xfrm>
            <a:off x="6248520" y="5105520"/>
            <a:ext cx="1981080" cy="69192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  <p:grpSp>
        <p:nvGrpSpPr>
          <p:cNvPr id="386" name="Group 30"/>
          <p:cNvGrpSpPr/>
          <p:nvPr/>
        </p:nvGrpSpPr>
        <p:grpSpPr>
          <a:xfrm>
            <a:off x="6344280" y="3536640"/>
            <a:ext cx="585000" cy="966960"/>
            <a:chOff x="6344280" y="3536640"/>
            <a:chExt cx="585000" cy="966960"/>
          </a:xfrm>
        </p:grpSpPr>
        <p:sp>
          <p:nvSpPr>
            <p:cNvPr id="387" name="AutoShape 31"/>
            <p:cNvSpPr/>
            <p:nvPr/>
          </p:nvSpPr>
          <p:spPr>
            <a:xfrm rot="6744600">
              <a:off x="6228360" y="39866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Rectangle 32"/>
            <p:cNvSpPr/>
            <p:nvPr/>
          </p:nvSpPr>
          <p:spPr>
            <a:xfrm rot="1359000">
              <a:off x="6654240" y="35809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89" name="Group 33"/>
          <p:cNvGrpSpPr/>
          <p:nvPr/>
        </p:nvGrpSpPr>
        <p:grpSpPr>
          <a:xfrm>
            <a:off x="7258680" y="3917880"/>
            <a:ext cx="585000" cy="966960"/>
            <a:chOff x="7258680" y="3917880"/>
            <a:chExt cx="585000" cy="966960"/>
          </a:xfrm>
        </p:grpSpPr>
        <p:sp>
          <p:nvSpPr>
            <p:cNvPr id="390" name="AutoShape 34"/>
            <p:cNvSpPr/>
            <p:nvPr/>
          </p:nvSpPr>
          <p:spPr>
            <a:xfrm rot="6744600">
              <a:off x="7142760" y="436788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Rectangle 35"/>
            <p:cNvSpPr/>
            <p:nvPr/>
          </p:nvSpPr>
          <p:spPr>
            <a:xfrm rot="1359000">
              <a:off x="7568640" y="396216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2" name="Group 36"/>
          <p:cNvGrpSpPr/>
          <p:nvPr/>
        </p:nvGrpSpPr>
        <p:grpSpPr>
          <a:xfrm>
            <a:off x="5887080" y="3765240"/>
            <a:ext cx="585000" cy="966960"/>
            <a:chOff x="5887080" y="3765240"/>
            <a:chExt cx="585000" cy="966960"/>
          </a:xfrm>
        </p:grpSpPr>
        <p:sp>
          <p:nvSpPr>
            <p:cNvPr id="393" name="AutoShape 37"/>
            <p:cNvSpPr/>
            <p:nvPr/>
          </p:nvSpPr>
          <p:spPr>
            <a:xfrm rot="6744600">
              <a:off x="5771160" y="42152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Rectangle 38"/>
            <p:cNvSpPr/>
            <p:nvPr/>
          </p:nvSpPr>
          <p:spPr>
            <a:xfrm rot="1359000">
              <a:off x="6197040" y="38095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95" name="Group 39"/>
          <p:cNvGrpSpPr/>
          <p:nvPr/>
        </p:nvGrpSpPr>
        <p:grpSpPr>
          <a:xfrm>
            <a:off x="6572880" y="3993840"/>
            <a:ext cx="585000" cy="966960"/>
            <a:chOff x="6572880" y="3993840"/>
            <a:chExt cx="585000" cy="966960"/>
          </a:xfrm>
        </p:grpSpPr>
        <p:sp>
          <p:nvSpPr>
            <p:cNvPr id="396" name="AutoShape 40"/>
            <p:cNvSpPr/>
            <p:nvPr/>
          </p:nvSpPr>
          <p:spPr>
            <a:xfrm rot="6744600">
              <a:off x="6456960" y="4443840"/>
              <a:ext cx="746280" cy="249120"/>
            </a:xfrm>
            <a:prstGeom prst="flowChartDelay">
              <a:avLst/>
            </a:prstGeom>
            <a:solidFill>
              <a:srgbClr val="9999ff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 anchorCtr="1" vert="eaVert" rot="10800000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Rectangle 41"/>
            <p:cNvSpPr/>
            <p:nvPr/>
          </p:nvSpPr>
          <p:spPr>
            <a:xfrm rot="1359000">
              <a:off x="6882840" y="4038120"/>
              <a:ext cx="258480" cy="136440"/>
            </a:xfrm>
            <a:prstGeom prst="rect">
              <a:avLst/>
            </a:prstGeom>
            <a:solidFill>
              <a:srgbClr val="990033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398" name="Picture 42" descr="frottis"/>
          <p:cNvPicPr/>
          <p:nvPr/>
        </p:nvPicPr>
        <p:blipFill>
          <a:blip r:embed="rId5"/>
          <a:stretch/>
        </p:blipFill>
        <p:spPr>
          <a:xfrm>
            <a:off x="5791320" y="4724280"/>
            <a:ext cx="1981080" cy="692280"/>
          </a:xfrm>
          <a:prstGeom prst="rect">
            <a:avLst/>
          </a:prstGeom>
          <a:ln w="324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овторное исследование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609120" y="1066680"/>
            <a:ext cx="8153640" cy="2727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референс-лабораторией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ыполняется на пробе высушенной крови или сыворотк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не слепым методом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и значимое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используют для оценки экспресс-тестов на ВИЧ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1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Slide Number Placeholder 8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69D18A-A9AB-44E5-9FD5-DCE11EE15CD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Footer Placeholder 9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 Box 25"/>
          <p:cNvSpPr/>
          <p:nvPr/>
        </p:nvSpPr>
        <p:spPr>
          <a:xfrm>
            <a:off x="4648320" y="4952880"/>
            <a:ext cx="1143000" cy="3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AutoShape 26"/>
          <p:cNvSpPr/>
          <p:nvPr/>
        </p:nvSpPr>
        <p:spPr>
          <a:xfrm>
            <a:off x="4343400" y="4952880"/>
            <a:ext cx="1371600" cy="533520"/>
          </a:xfrm>
          <a:prstGeom prst="leftRightArrow">
            <a:avLst>
              <a:gd name="adj1" fmla="val 50000"/>
              <a:gd name="adj2" fmla="val 51179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Picture 10" descr="10044_lores"/>
          <p:cNvPicPr/>
          <p:nvPr/>
        </p:nvPicPr>
        <p:blipFill>
          <a:blip r:embed="rId1"/>
          <a:stretch/>
        </p:blipFill>
        <p:spPr>
          <a:xfrm>
            <a:off x="990720" y="3962520"/>
            <a:ext cx="3200400" cy="2135160"/>
          </a:xfrm>
          <a:prstGeom prst="rect">
            <a:avLst/>
          </a:prstGeom>
          <a:ln w="0">
            <a:noFill/>
          </a:ln>
        </p:spPr>
      </p:pic>
      <p:pic>
        <p:nvPicPr>
          <p:cNvPr id="407" name="Picture 11" descr="12_hiv"/>
          <p:cNvPicPr/>
          <p:nvPr/>
        </p:nvPicPr>
        <p:blipFill>
          <a:blip r:embed="rId2"/>
          <a:stretch/>
        </p:blipFill>
        <p:spPr>
          <a:xfrm>
            <a:off x="5867280" y="3886200"/>
            <a:ext cx="1917720" cy="2286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8" name="PlaceHolder 1"/>
          <p:cNvSpPr>
            <a:spLocks noGrp="1"/>
          </p:cNvSpPr>
          <p:nvPr>
            <p:ph type="title"/>
          </p:nvPr>
        </p:nvSpPr>
        <p:spPr>
          <a:xfrm>
            <a:off x="457200" y="406080"/>
            <a:ext cx="5562720" cy="584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ерепроверка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09" name="PlaceHolder 2"/>
          <p:cNvSpPr>
            <a:spLocks noGrp="1"/>
          </p:cNvSpPr>
          <p:nvPr>
            <p:ph/>
          </p:nvPr>
        </p:nvSpPr>
        <p:spPr>
          <a:xfrm>
            <a:off x="380880" y="1144080"/>
            <a:ext cx="7925040" cy="304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пробы отбираются методом случайной выборки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епрезентативная выборка про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статистическая значимость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разрешение расхождений 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эффективность обратной связи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6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Verdana"/>
              </a:rPr>
              <a:t>в основном, для КУБ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EABD21-D8C6-451A-AC09-40AF8AC7EB1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2" name="Picture 28" descr="compound_mic_steroscopic_mic"/>
          <p:cNvPicPr/>
          <p:nvPr/>
        </p:nvPicPr>
        <p:blipFill>
          <a:blip r:embed="rId1"/>
          <a:srcRect l="17806" t="11998" r="8903" b="0"/>
          <a:stretch/>
        </p:blipFill>
        <p:spPr>
          <a:xfrm>
            <a:off x="2895480" y="4267080"/>
            <a:ext cx="2286000" cy="2036880"/>
          </a:xfrm>
          <a:prstGeom prst="rect">
            <a:avLst/>
          </a:prstGeom>
          <a:ln w="0">
            <a:noFill/>
          </a:ln>
        </p:spPr>
      </p:pic>
      <p:pic>
        <p:nvPicPr>
          <p:cNvPr id="413" name="Picture 27" descr="_crop"/>
          <p:cNvPicPr/>
          <p:nvPr/>
        </p:nvPicPr>
        <p:blipFill>
          <a:blip r:embed="rId2"/>
          <a:stretch/>
        </p:blipFill>
        <p:spPr>
          <a:xfrm>
            <a:off x="6553080" y="3200400"/>
            <a:ext cx="1924200" cy="3008160"/>
          </a:xfrm>
          <a:prstGeom prst="rect">
            <a:avLst/>
          </a:prstGeom>
          <a:ln w="0">
            <a:noFill/>
          </a:ln>
        </p:spPr>
      </p:pic>
      <p:sp>
        <p:nvSpPr>
          <p:cNvPr id="414" name="AutoShape 26"/>
          <p:cNvSpPr/>
          <p:nvPr/>
        </p:nvSpPr>
        <p:spPr>
          <a:xfrm>
            <a:off x="5257800" y="4876920"/>
            <a:ext cx="1219320" cy="533160"/>
          </a:xfrm>
          <a:prstGeom prst="leftRightArrow">
            <a:avLst>
              <a:gd name="adj1" fmla="val 50000"/>
              <a:gd name="adj2" fmla="val 4552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0365BB-352C-45FB-BC75-F7AA6BE035DC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Rectangle 2"/>
          <p:cNvSpPr/>
          <p:nvPr/>
        </p:nvSpPr>
        <p:spPr>
          <a:xfrm>
            <a:off x="838080" y="2057400"/>
            <a:ext cx="8229600" cy="220968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0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399600"/>
            <a:ext cx="8229600" cy="64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Цели изучен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600" y="1219320"/>
            <a:ext cx="8686800" cy="5091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По окончании данной части курса участники смогут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Рассказать о важности программы внешней оценки качества (ВОК) для повышения качества лабораторных результатов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писать по крайней мере три метода ВОК, их преимущества и недостатки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00"/>
              </a:spcBef>
              <a:buClr>
                <a:srgbClr val="00007d"/>
              </a:buClr>
              <a:buSzPct val="12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метить способ, как разобраться с неудовлетворительным результатом исследования пробы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1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C242EE-2AC7-454E-B3D3-9CBF392937C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380520" y="431280"/>
            <a:ext cx="8610840" cy="132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7d"/>
                </a:solidFill>
                <a:latin typeface="Verdana"/>
              </a:rPr>
              <a:t>Сравнение методов перепроверки мазков на кислотоустойчивые бактерии: в открытую и случайно отобранных вслепую</a:t>
            </a:r>
            <a:endParaRPr b="1" lang="en-US" sz="28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16" name=""/>
          <p:cNvGraphicFramePr/>
          <p:nvPr/>
        </p:nvGraphicFramePr>
        <p:xfrm>
          <a:off x="533520" y="1979640"/>
          <a:ext cx="8153280" cy="3659040"/>
        </p:xfrm>
        <a:graphic>
          <a:graphicData uri="http://schemas.openxmlformats.org/drawingml/2006/table">
            <a:tbl>
              <a:tblPr/>
              <a:tblGrid>
                <a:gridCol w="3429000"/>
                <a:gridCol w="2133360"/>
                <a:gridCol w="2590920"/>
              </a:tblGrid>
              <a:tr h="1311120">
                <a:tc>
                  <a:txBody>
                    <a:bodyPr lIns="90000" rIns="90000" anchor="ctr">
                      <a:noAutofit/>
                    </a:bodyPr>
                    <a:p>
                      <a:pPr marL="36504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Оцененные характеристики анализо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В открыт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1998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182520" algn="ctr">
                        <a:lnSpc>
                          <a:spcPct val="100000"/>
                        </a:lnSpc>
                        <a:spcBef>
                          <a:spcPts val="4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лучайные мазки, вслепую </a:t>
                      </a:r>
                      <a:r>
                        <a:rPr b="1" lang="en-US" sz="20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(2002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58608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6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чувствитель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8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4.7%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	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52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А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8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1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7160">
                <a:tc>
                  <a:txBody>
                    <a:bodyPr lIns="90000" rIns="90000" anchor="ctr">
                      <a:noAutofit/>
                    </a:bodyPr>
                    <a:p>
                      <a:pPr marL="1162080" indent="-1162080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Штат Б – специфичность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9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anchor="ctr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9.7%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1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57A26D-FB23-478B-A3A6-35F0FBE4A7D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Text Box 38"/>
          <p:cNvSpPr/>
          <p:nvPr/>
        </p:nvSpPr>
        <p:spPr>
          <a:xfrm>
            <a:off x="762120" y="6004080"/>
            <a:ext cx="7543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Arial"/>
              </a:rPr>
              <a:t>Martinez A, et al.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Int J Tuberc Lung Dis 2005;9(3):301-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2296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ценка на месте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21" name="Text Box 4"/>
          <p:cNvSpPr/>
          <p:nvPr/>
        </p:nvSpPr>
        <p:spPr>
          <a:xfrm>
            <a:off x="228600" y="1676520"/>
            <a:ext cx="4114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Text Box 5"/>
          <p:cNvSpPr/>
          <p:nvPr/>
        </p:nvSpPr>
        <p:spPr>
          <a:xfrm>
            <a:off x="762120" y="1195560"/>
            <a:ext cx="7924680" cy="153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получения реальной картины лабораторной практик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66760" indent="-181080">
              <a:lnSpc>
                <a:spcPct val="8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для оказания помощи с проблемными участка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Text Box 6"/>
          <p:cNvSpPr/>
          <p:nvPr/>
        </p:nvSpPr>
        <p:spPr>
          <a:xfrm>
            <a:off x="228600" y="2590920"/>
            <a:ext cx="228600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4" name="Picture 7" descr="MPj01788160000[1]"/>
          <p:cNvPicPr/>
          <p:nvPr/>
        </p:nvPicPr>
        <p:blipFill>
          <a:blip r:embed="rId1"/>
          <a:stretch/>
        </p:blipFill>
        <p:spPr>
          <a:xfrm>
            <a:off x="228600" y="2862360"/>
            <a:ext cx="4648320" cy="3081240"/>
          </a:xfrm>
          <a:prstGeom prst="rect">
            <a:avLst/>
          </a:prstGeom>
          <a:ln w="0">
            <a:noFill/>
          </a:ln>
        </p:spPr>
      </p:pic>
      <p:sp>
        <p:nvSpPr>
          <p:cNvPr id="425" name="Rectangle 8"/>
          <p:cNvSpPr/>
          <p:nvPr/>
        </p:nvSpPr>
        <p:spPr>
          <a:xfrm>
            <a:off x="228600" y="5695920"/>
            <a:ext cx="4648320" cy="398880"/>
          </a:xfrm>
          <a:prstGeom prst="rect">
            <a:avLst/>
          </a:prstGeom>
          <a:solidFill>
            <a:srgbClr val="bdc3f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Внешняя группа, организато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Text Box 9"/>
          <p:cNvSpPr/>
          <p:nvPr/>
        </p:nvSpPr>
        <p:spPr>
          <a:xfrm>
            <a:off x="6095880" y="5562720"/>
            <a:ext cx="184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7" name="Picture 13" descr="PHIL_1282_lores"/>
          <p:cNvPicPr/>
          <p:nvPr/>
        </p:nvPicPr>
        <p:blipFill>
          <a:blip r:embed="rId2"/>
          <a:stretch/>
        </p:blipFill>
        <p:spPr>
          <a:xfrm>
            <a:off x="6629400" y="3657600"/>
            <a:ext cx="2208240" cy="1481040"/>
          </a:xfrm>
          <a:prstGeom prst="rect">
            <a:avLst/>
          </a:prstGeom>
          <a:ln w="0">
            <a:noFill/>
          </a:ln>
        </p:spPr>
      </p:pic>
      <p:sp>
        <p:nvSpPr>
          <p:cNvPr id="428" name="Rectangle 14"/>
          <p:cNvSpPr/>
          <p:nvPr/>
        </p:nvSpPr>
        <p:spPr>
          <a:xfrm>
            <a:off x="6629400" y="5181480"/>
            <a:ext cx="2209680" cy="685800"/>
          </a:xfrm>
          <a:prstGeom prst="rect">
            <a:avLst/>
          </a:prstGeom>
          <a:solidFill>
            <a:srgbClr val="ffff99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Лаборатор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Slide Number Placeholder 1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D6C781-E7D6-4409-85F1-835E751DD74D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Footer Placeholder 1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AutoShape 10"/>
          <p:cNvSpPr/>
          <p:nvPr/>
        </p:nvSpPr>
        <p:spPr>
          <a:xfrm>
            <a:off x="4495680" y="3581280"/>
            <a:ext cx="2133720" cy="1524240"/>
          </a:xfrm>
          <a:prstGeom prst="rightArrow">
            <a:avLst>
              <a:gd name="adj1" fmla="val 50000"/>
              <a:gd name="adj2" fmla="val 37498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Text Box 11"/>
          <p:cNvSpPr/>
          <p:nvPr/>
        </p:nvSpPr>
        <p:spPr>
          <a:xfrm>
            <a:off x="4495680" y="403848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ериодические визиты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80520" y="520560"/>
            <a:ext cx="8610840" cy="720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3591000" indent="0">
              <a:lnSpc>
                <a:spcPct val="85000"/>
              </a:lnSpc>
              <a:buNone/>
              <a:tabLst>
                <a:tab algn="l" pos="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Микроскопия КУБ –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0" lang="ru-RU" sz="2400" spc="-1" strike="noStrike">
                <a:solidFill>
                  <a:srgbClr val="00007d"/>
                </a:solidFill>
                <a:latin typeface="Verdana"/>
              </a:rPr>
              <a:t>Сравнение работы до и после </a:t>
            </a: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оценки на местах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7d"/>
                </a:solidFill>
                <a:latin typeface="Verdana"/>
              </a:rPr>
              <a:t>	</a:t>
            </a:r>
            <a:endParaRPr b="1" lang="en-US" sz="2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34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DAF3AE-53F1-4FB8-9E8E-E98C9A77BDA5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36" name=""/>
          <p:cNvGraphicFramePr/>
          <p:nvPr/>
        </p:nvGraphicFramePr>
        <p:xfrm>
          <a:off x="409680" y="1650960"/>
          <a:ext cx="8324640" cy="4140360"/>
        </p:xfrm>
        <a:graphic>
          <a:graphicData uri="http://schemas.openxmlformats.org/drawingml/2006/table">
            <a:tbl>
              <a:tblPr/>
              <a:tblGrid>
                <a:gridCol w="6019560"/>
                <a:gridCol w="1152720"/>
                <a:gridCol w="1152360"/>
              </a:tblGrid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ведра с песком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9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 проводится деконтаминация чашек для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дезинфицирующих средст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00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контейнера для биоопасных отходов (с крышкой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т лабораторных хала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8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6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Сотрудники не моют рук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хватка реагент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7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7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29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ый сбор мокроты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ое заполнение регистрационного журнала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14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Неправильная маркировка стекол или контейнеров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1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5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3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1440" marR="9144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37" name="Text Box 51"/>
          <p:cNvSpPr/>
          <p:nvPr/>
        </p:nvSpPr>
        <p:spPr>
          <a:xfrm>
            <a:off x="533520" y="5683320"/>
            <a:ext cx="7696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ziz, M. and G. Bretzel, Int J Tuberc Lung Dis</a:t>
            </a: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02:6(4):340-349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Text Box 52"/>
          <p:cNvSpPr/>
          <p:nvPr/>
        </p:nvSpPr>
        <p:spPr>
          <a:xfrm>
            <a:off x="6487200" y="1295280"/>
            <a:ext cx="871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ДО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 (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Text Box 53"/>
          <p:cNvSpPr/>
          <p:nvPr/>
        </p:nvSpPr>
        <p:spPr>
          <a:xfrm>
            <a:off x="7467480" y="129528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Verdana"/>
              </a:rPr>
              <a:t>ПОСЛЕ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(%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80520" y="228600"/>
            <a:ext cx="7086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Проверка компетентности (ПК) и перепроверка (ПП)</a:t>
            </a:r>
            <a:endParaRPr b="1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graphicFrame>
        <p:nvGraphicFramePr>
          <p:cNvPr id="441" name=""/>
          <p:cNvGraphicFramePr/>
          <p:nvPr/>
        </p:nvGraphicFramePr>
        <p:xfrm>
          <a:off x="380880" y="1754280"/>
          <a:ext cx="8305920" cy="3875040"/>
        </p:xfrm>
        <a:graphic>
          <a:graphicData uri="http://schemas.openxmlformats.org/drawingml/2006/table">
            <a:tbl>
              <a:tblPr/>
              <a:tblGrid>
                <a:gridCol w="3886200"/>
                <a:gridCol w="2133720"/>
                <a:gridCol w="2286000"/>
              </a:tblGrid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Характеристики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1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К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2"/>
                      <a:tile tx="0" ty="0" sx="100000" sy="100000" algn="ctr"/>
                    </a:blip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ПП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122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blipFill rotWithShape="0">
                      <a:blip r:embed="rId3"/>
                      <a:tile tx="0" ty="0" sx="100000" sy="100000" algn="ctr"/>
                    </a:blipFill>
                  </a:tcPr>
                </a:tc>
              </a:tr>
              <a:tr h="82224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жлабораторное сравнени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Искусственные 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51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астоящие </a:t>
                      </a: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проб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r>
                        <a:rPr b="1" lang="en-GB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/</a:t>
                      </a: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Нет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Да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872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lnSpc>
                          <a:spcPct val="9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Times New Roman"/>
                        </a:rPr>
                        <a:t>Требуемые время и ресурсы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Мен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Times New Roman"/>
                        </a:rPr>
                        <a:t>Больше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68360">
                <a:tc>
                  <a:txBody>
                    <a:bodyPr lIns="90000" rIns="90000" tIns="46800" bIns="46800" anchor="ctr">
                      <a:noAutofit/>
                    </a:bodyPr>
                    <a:p>
                      <a:pPr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400" spc="-1" strike="noStrike">
                          <a:solidFill>
                            <a:srgbClr val="000000"/>
                          </a:solidFill>
                          <a:latin typeface="Arial"/>
                          <a:ea typeface="宋体"/>
                        </a:rPr>
                        <a:t>Проверка реагентов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224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Мног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6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000000"/>
                          </a:solidFill>
                          <a:latin typeface="Verdana"/>
                          <a:ea typeface="宋体"/>
                        </a:rPr>
                        <a:t>Нескольких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224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44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4760FA-19F1-4464-A23A-09C76D3777CA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Footer Placeholder 4"/>
          <p:cNvSpPr/>
          <p:nvPr/>
        </p:nvSpPr>
        <p:spPr>
          <a:xfrm>
            <a:off x="457200" y="64004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33160" y="584280"/>
            <a:ext cx="8381880" cy="558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Участие в ВОК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6840" y="1661760"/>
            <a:ext cx="4419720" cy="29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екомендуется для всех лаборатор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Является требованием ИСО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6" name="Slide Number Placeholder 1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0E33D7-6481-49C3-9BBE-485558BD9C7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Footer Placeholder 1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8" name="Group 5"/>
          <p:cNvGrpSpPr/>
          <p:nvPr/>
        </p:nvGrpSpPr>
        <p:grpSpPr>
          <a:xfrm>
            <a:off x="5114880" y="1371600"/>
            <a:ext cx="3571920" cy="3809160"/>
            <a:chOff x="5114880" y="1371600"/>
            <a:chExt cx="3571920" cy="3809160"/>
          </a:xfrm>
        </p:grpSpPr>
        <p:pic>
          <p:nvPicPr>
            <p:cNvPr id="449" name="Picture 6" descr=""/>
            <p:cNvPicPr/>
            <p:nvPr/>
          </p:nvPicPr>
          <p:blipFill>
            <a:blip r:embed="rId1"/>
            <a:stretch/>
          </p:blipFill>
          <p:spPr>
            <a:xfrm>
              <a:off x="5114880" y="1371600"/>
              <a:ext cx="3567240" cy="316260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0" name="Group 7"/>
            <p:cNvGrpSpPr/>
            <p:nvPr/>
          </p:nvGrpSpPr>
          <p:grpSpPr>
            <a:xfrm>
              <a:off x="5114880" y="1371600"/>
              <a:ext cx="3571920" cy="3809160"/>
              <a:chOff x="5114880" y="1371600"/>
              <a:chExt cx="3571920" cy="3809160"/>
            </a:xfrm>
          </p:grpSpPr>
          <p:sp>
            <p:nvSpPr>
              <p:cNvPr id="451" name="Line 8"/>
              <p:cNvSpPr/>
              <p:nvPr/>
            </p:nvSpPr>
            <p:spPr>
              <a:xfrm>
                <a:off x="5114880" y="1371600"/>
                <a:ext cx="0" cy="3711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2" name="Line 9"/>
              <p:cNvSpPr/>
              <p:nvPr/>
            </p:nvSpPr>
            <p:spPr>
              <a:xfrm>
                <a:off x="5114880" y="1371600"/>
                <a:ext cx="3571920" cy="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3" name="Line 10"/>
              <p:cNvSpPr/>
              <p:nvPr/>
            </p:nvSpPr>
            <p:spPr>
              <a:xfrm>
                <a:off x="8686800" y="1371600"/>
                <a:ext cx="0" cy="312588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54" name="Freeform 11"/>
              <p:cNvSpPr/>
              <p:nvPr/>
            </p:nvSpPr>
            <p:spPr>
              <a:xfrm>
                <a:off x="5114880" y="4497480"/>
                <a:ext cx="3571920" cy="683280"/>
              </a:xfrm>
              <a:custGeom>
                <a:avLst/>
                <a:gdLst>
                  <a:gd name="textAreaLeft" fmla="*/ 0 w 3571920"/>
                  <a:gd name="textAreaRight" fmla="*/ 3572280 w 3571920"/>
                  <a:gd name="textAreaTop" fmla="*/ 0 h 683280"/>
                  <a:gd name="textAreaBottom" fmla="*/ 683640 h 683280"/>
                </a:gdLst>
                <a:ahLst/>
                <a:rect l="textAreaLeft" t="textAreaTop" r="textAreaRight" b="textAreaBottom"/>
                <a:pathLst>
                  <a:path w="2352" h="336">
                    <a:moveTo>
                      <a:pt x="0" y="288"/>
                    </a:moveTo>
                    <a:cubicBezTo>
                      <a:pt x="404" y="312"/>
                      <a:pt x="808" y="336"/>
                      <a:pt x="1200" y="288"/>
                    </a:cubicBezTo>
                    <a:cubicBezTo>
                      <a:pt x="1592" y="240"/>
                      <a:pt x="2160" y="48"/>
                      <a:pt x="2352" y="0"/>
                    </a:cubicBezTo>
                  </a:path>
                </a:pathLst>
              </a:custGeom>
              <a:noFill/>
              <a:ln w="2844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455" name="Text Box 12"/>
          <p:cNvSpPr/>
          <p:nvPr/>
        </p:nvSpPr>
        <p:spPr>
          <a:xfrm>
            <a:off x="5450040" y="2543040"/>
            <a:ext cx="2790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ИСО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 15189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304920"/>
            <a:ext cx="868680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Организация процесса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/>
          </p:nvPr>
        </p:nvSpPr>
        <p:spPr>
          <a:xfrm>
            <a:off x="304560" y="1218960"/>
            <a:ext cx="8762760" cy="401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лучение и анализ проб ВО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такое же обращение с пробами ВОК, как и с пробами пациентов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тслеживание и поддержание записе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сследование несоответ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рганизация корректирующих действий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lnSpc>
                <a:spcPct val="80000"/>
              </a:lnSpc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повещение о результата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8" name="Rectangle 4"/>
          <p:cNvSpPr/>
          <p:nvPr/>
        </p:nvSpPr>
        <p:spPr>
          <a:xfrm>
            <a:off x="228600" y="5425920"/>
            <a:ext cx="251460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Verdana"/>
              </a:rPr>
              <a:t>Результаты</a:t>
            </a:r>
            <a:r>
              <a:rPr b="1" lang="ru-RU" sz="2000" spc="-1" strike="noStrike">
                <a:solidFill>
                  <a:srgbClr val="000000"/>
                </a:solidFill>
                <a:latin typeface="Verdana"/>
              </a:rPr>
              <a:t> ВО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AutoShape 5"/>
          <p:cNvSpPr/>
          <p:nvPr/>
        </p:nvSpPr>
        <p:spPr>
          <a:xfrm>
            <a:off x="3666960" y="5334120"/>
            <a:ext cx="5324760" cy="990360"/>
          </a:xfrm>
          <a:custGeom>
            <a:avLst/>
            <a:gdLst>
              <a:gd name="textAreaLeft" fmla="*/ 1330920 w 5324760"/>
              <a:gd name="textAreaRight" fmla="*/ 3993840 w 5324760"/>
              <a:gd name="textAreaTop" fmla="*/ 0 h 990360"/>
              <a:gd name="textAreaBottom" fmla="*/ 866880 h 990360"/>
            </a:gdLst>
            <a:ahLst/>
            <a:rect l="textAreaLeft" t="textAreaTop" r="textAreaRight" b="textAreaBottom"/>
            <a:pathLst>
              <a:path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1263"/>
                  <a:pt x="7680" y="21600"/>
                  <a:pt x="7260" y="21600"/>
                </a:cubicBezTo>
                <a:lnTo>
                  <a:pt x="0" y="21600"/>
                </a:lnTo>
                <a:lnTo>
                  <a:pt x="2750" y="12150"/>
                </a:lnTo>
                <a:lnTo>
                  <a:pt x="0" y="2700"/>
                </a:lnTo>
                <a:lnTo>
                  <a:pt x="5400" y="2700"/>
                </a:lnTo>
                <a:lnTo>
                  <a:pt x="5400" y="675"/>
                </a:lnTo>
                <a:cubicBezTo>
                  <a:pt x="5400" y="338"/>
                  <a:pt x="5820" y="0"/>
                  <a:pt x="6240" y="0"/>
                </a:cubicBezTo>
                <a:lnTo>
                  <a:pt x="15360" y="0"/>
                </a:lnTo>
                <a:cubicBezTo>
                  <a:pt x="15780" y="0"/>
                  <a:pt x="16200" y="338"/>
                  <a:pt x="16200" y="675"/>
                </a:cubicBezTo>
                <a:lnTo>
                  <a:pt x="16200" y="2700"/>
                </a:lnTo>
                <a:lnTo>
                  <a:pt x="21600" y="2700"/>
                </a:lnTo>
                <a:lnTo>
                  <a:pt x="18850" y="12150"/>
                </a:lnTo>
                <a:lnTo>
                  <a:pt x="21600" y="21600"/>
                </a:lnTo>
                <a:lnTo>
                  <a:pt x="14340" y="21600"/>
                </a:lnTo>
                <a:cubicBezTo>
                  <a:pt x="13920" y="21600"/>
                  <a:pt x="13500" y="21263"/>
                  <a:pt x="13500" y="20925"/>
                </a:cubicBezTo>
                <a:lnTo>
                  <a:pt x="13500" y="18900"/>
                </a:lnTo>
                <a:close/>
              </a:path>
              <a:path fill="darkenLess" w="21600" h="21600">
                <a:moveTo>
                  <a:pt x="8100" y="18900"/>
                </a:moveTo>
                <a:lnTo>
                  <a:pt x="8100" y="20925"/>
                </a:lnTo>
                <a:cubicBezTo>
                  <a:pt x="8100" y="20588"/>
                  <a:pt x="7680" y="20250"/>
                  <a:pt x="7260" y="20250"/>
                </a:cubicBezTo>
                <a:lnTo>
                  <a:pt x="6240" y="20250"/>
                </a:lnTo>
                <a:cubicBezTo>
                  <a:pt x="5820" y="20250"/>
                  <a:pt x="5400" y="19913"/>
                  <a:pt x="5400" y="19575"/>
                </a:cubicBezTo>
                <a:cubicBezTo>
                  <a:pt x="5400" y="19238"/>
                  <a:pt x="5820" y="18900"/>
                  <a:pt x="6240" y="18900"/>
                </a:cubicBezTo>
                <a:close/>
              </a:path>
              <a:path fill="darkenLess" w="21600" h="21600">
                <a:moveTo>
                  <a:pt x="13500" y="18900"/>
                </a:moveTo>
                <a:lnTo>
                  <a:pt x="13500" y="20925"/>
                </a:lnTo>
                <a:cubicBezTo>
                  <a:pt x="13500" y="20588"/>
                  <a:pt x="13920" y="20250"/>
                  <a:pt x="14340" y="20250"/>
                </a:cubicBezTo>
                <a:lnTo>
                  <a:pt x="15360" y="20250"/>
                </a:lnTo>
                <a:cubicBezTo>
                  <a:pt x="15780" y="20250"/>
                  <a:pt x="16200" y="19913"/>
                  <a:pt x="16200" y="19575"/>
                </a:cubicBezTo>
                <a:cubicBezTo>
                  <a:pt x="16200" y="19238"/>
                  <a:pt x="15780" y="18900"/>
                  <a:pt x="15360" y="18900"/>
                </a:cubicBezTo>
                <a:close/>
              </a:path>
              <a:path fill="darkenLess" w="21600" h="21600">
                <a:moveTo>
                  <a:pt x="5400" y="19575"/>
                </a:moveTo>
                <a:lnTo>
                  <a:pt x="5400" y="2700"/>
                </a:lnTo>
              </a:path>
              <a:path fill="darkenLess" w="21600" h="21600">
                <a:moveTo>
                  <a:pt x="16200" y="19575"/>
                </a:moveTo>
                <a:lnTo>
                  <a:pt x="16200" y="2700"/>
                </a:lnTo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00"/>
                </a:solidFill>
                <a:latin typeface="Verdana"/>
              </a:rPr>
              <a:t>Корректирующие действ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C16DC6-DBB5-411B-AFF3-188D6801AF0F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AutoShape 6"/>
          <p:cNvSpPr/>
          <p:nvPr/>
        </p:nvSpPr>
        <p:spPr>
          <a:xfrm rot="16200000">
            <a:off x="2857320" y="5371560"/>
            <a:ext cx="609480" cy="838080"/>
          </a:xfrm>
          <a:prstGeom prst="downArrow">
            <a:avLst>
              <a:gd name="adj1" fmla="val 50000"/>
              <a:gd name="adj2" fmla="val 34377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9DCF21-6C49-499A-8EBE-9936BBB7E1C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AutoShape 12"/>
          <p:cNvSpPr/>
          <p:nvPr/>
        </p:nvSpPr>
        <p:spPr>
          <a:xfrm rot="10800000">
            <a:off x="3200400" y="4723920"/>
            <a:ext cx="2666880" cy="838440"/>
          </a:xfrm>
          <a:custGeom>
            <a:avLst/>
            <a:gdLst>
              <a:gd name="textAreaLeft" fmla="*/ 416520 w 2666880"/>
              <a:gd name="textAreaRight" fmla="*/ 2333520 w 2666880"/>
              <a:gd name="textAreaTop" fmla="*/ 209520 h 838440"/>
              <a:gd name="textAreaBottom" fmla="*/ 628920 h 8384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AutoShape 13"/>
          <p:cNvSpPr/>
          <p:nvPr/>
        </p:nvSpPr>
        <p:spPr>
          <a:xfrm rot="5400000">
            <a:off x="6933600" y="2285640"/>
            <a:ext cx="1828800" cy="762120"/>
          </a:xfrm>
          <a:custGeom>
            <a:avLst/>
            <a:gdLst>
              <a:gd name="textAreaLeft" fmla="*/ 285480 w 1828800"/>
              <a:gd name="textAreaRight" fmla="*/ 1600200 w 1828800"/>
              <a:gd name="textAreaTop" fmla="*/ 190440 h 762120"/>
              <a:gd name="textAreaBottom" fmla="*/ 571680 h 76212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Text Box 14"/>
          <p:cNvSpPr/>
          <p:nvPr/>
        </p:nvSpPr>
        <p:spPr>
          <a:xfrm>
            <a:off x="1066680" y="138600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РОБА ВО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Text Box 17"/>
          <p:cNvSpPr/>
          <p:nvPr/>
        </p:nvSpPr>
        <p:spPr>
          <a:xfrm>
            <a:off x="6095880" y="1371600"/>
            <a:ext cx="281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щение с пробам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Text Box 19"/>
          <p:cNvSpPr/>
          <p:nvPr/>
        </p:nvSpPr>
        <p:spPr>
          <a:xfrm>
            <a:off x="5334120" y="3657600"/>
            <a:ext cx="327636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d5010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Исследов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Text Box 20"/>
          <p:cNvSpPr/>
          <p:nvPr/>
        </p:nvSpPr>
        <p:spPr>
          <a:xfrm>
            <a:off x="7467480" y="5181480"/>
            <a:ext cx="2057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тч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AutoShape 22"/>
          <p:cNvSpPr/>
          <p:nvPr/>
        </p:nvSpPr>
        <p:spPr>
          <a:xfrm>
            <a:off x="7467480" y="4419720"/>
            <a:ext cx="762120" cy="68580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Text Box 23"/>
          <p:cNvSpPr/>
          <p:nvPr/>
        </p:nvSpPr>
        <p:spPr>
          <a:xfrm>
            <a:off x="2209680" y="2224080"/>
            <a:ext cx="609624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до исследовани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Text Box 24"/>
          <p:cNvSpPr/>
          <p:nvPr/>
        </p:nvSpPr>
        <p:spPr>
          <a:xfrm>
            <a:off x="2286000" y="5638680"/>
            <a:ext cx="6019920" cy="459720"/>
          </a:xfrm>
          <a:prstGeom prst="rect">
            <a:avLst/>
          </a:prstGeom>
          <a:solidFill>
            <a:srgbClr val="ffff99"/>
          </a:solidFill>
          <a:ln w="2844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Arial"/>
              </a:rPr>
              <a:t>Период после исследо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Text Box 26"/>
          <p:cNvSpPr/>
          <p:nvPr/>
        </p:nvSpPr>
        <p:spPr>
          <a:xfrm>
            <a:off x="838080" y="4952880"/>
            <a:ext cx="2438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РГАНИЗАТОР П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AutoShape 27"/>
          <p:cNvSpPr/>
          <p:nvPr/>
        </p:nvSpPr>
        <p:spPr>
          <a:xfrm flipH="1" rot="10800000">
            <a:off x="3351600" y="1143000"/>
            <a:ext cx="2667240" cy="838080"/>
          </a:xfrm>
          <a:custGeom>
            <a:avLst/>
            <a:gdLst>
              <a:gd name="textAreaLeft" fmla="*/ 416160 w 2667240"/>
              <a:gd name="textAreaRight" fmla="*/ 2333520 w 2667240"/>
              <a:gd name="textAreaTop" fmla="*/ 209520 h 838080"/>
              <a:gd name="textAreaBottom" fmla="*/ 628560 h 8380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solidFill>
            <a:srgbClr val="99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Rectangle 2"/>
          <p:cNvSpPr/>
          <p:nvPr/>
        </p:nvSpPr>
        <p:spPr>
          <a:xfrm>
            <a:off x="380880" y="525600"/>
            <a:ext cx="838224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облемы, выявленные ВОК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Rectangle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Rectangle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D1B51-A928-440E-BCDF-855A09DF9C0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AutoShape 2"/>
          <p:cNvSpPr/>
          <p:nvPr/>
        </p:nvSpPr>
        <p:spPr>
          <a:xfrm>
            <a:off x="533520" y="1676520"/>
            <a:ext cx="1904760" cy="1143000"/>
          </a:xfrm>
          <a:prstGeom prst="roundRect">
            <a:avLst>
              <a:gd name="adj" fmla="val 16667"/>
            </a:avLst>
          </a:prstGeom>
          <a:blipFill rotWithShape="0">
            <a:blip r:embed="rId1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7d"/>
                </a:solidFill>
                <a:latin typeface="Verdana"/>
              </a:rPr>
              <a:t>В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AutoShape 3"/>
          <p:cNvSpPr/>
          <p:nvPr/>
        </p:nvSpPr>
        <p:spPr>
          <a:xfrm rot="5400000">
            <a:off x="1028160" y="2857320"/>
            <a:ext cx="914400" cy="1295640"/>
          </a:xfrm>
          <a:custGeom>
            <a:avLst/>
            <a:gdLst>
              <a:gd name="textAreaLeft" fmla="*/ 142920 w 914400"/>
              <a:gd name="textAreaRight" fmla="*/ 800280 w 914400"/>
              <a:gd name="textAreaTop" fmla="*/ 324000 h 1295640"/>
              <a:gd name="textAreaBottom" fmla="*/ 972000 h 129564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AutoShape 5"/>
          <p:cNvSpPr/>
          <p:nvPr/>
        </p:nvSpPr>
        <p:spPr>
          <a:xfrm>
            <a:off x="380880" y="4191120"/>
            <a:ext cx="2286000" cy="1066680"/>
          </a:xfrm>
          <a:prstGeom prst="roundRect">
            <a:avLst>
              <a:gd name="adj" fmla="val 16667"/>
            </a:avLst>
          </a:prstGeom>
          <a:blipFill rotWithShape="0">
            <a:blip r:embed="rId3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8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7d"/>
                </a:solidFill>
                <a:latin typeface="Verdana"/>
              </a:rPr>
              <a:t>Выявите недостат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AutoShape 6"/>
          <p:cNvSpPr/>
          <p:nvPr/>
        </p:nvSpPr>
        <p:spPr>
          <a:xfrm rot="20101800">
            <a:off x="2703240" y="3366720"/>
            <a:ext cx="2369880" cy="1295280"/>
          </a:xfrm>
          <a:custGeom>
            <a:avLst/>
            <a:gdLst>
              <a:gd name="textAreaLeft" fmla="*/ 370080 w 2369880"/>
              <a:gd name="textAreaRight" fmla="*/ 2073960 w 2369880"/>
              <a:gd name="textAreaTop" fmla="*/ 323640 h 1295280"/>
              <a:gd name="textAreaBottom" fmla="*/ 971640 h 1295280"/>
            </a:gdLst>
            <a:ahLst/>
            <a:rect l="textAreaLeft" t="textAreaTop" r="textAreaRight" b="textAreaBottom"/>
            <a:pathLst>
              <a:path w="21600" h="21600">
                <a:moveTo>
                  <a:pt x="16200" y="0"/>
                </a:moveTo>
                <a:lnTo>
                  <a:pt x="16200" y="5400"/>
                </a:lnTo>
                <a:lnTo>
                  <a:pt x="3375" y="5400"/>
                </a:lnTo>
                <a:lnTo>
                  <a:pt x="3375" y="16200"/>
                </a:lnTo>
                <a:lnTo>
                  <a:pt x="16200" y="16200"/>
                </a:lnTo>
                <a:lnTo>
                  <a:pt x="16200" y="21600"/>
                </a:lnTo>
                <a:lnTo>
                  <a:pt x="21600" y="10800"/>
                </a:lnTo>
                <a:lnTo>
                  <a:pt x="16200" y="0"/>
                </a:lnTo>
                <a:close/>
              </a:path>
              <a:path w="21600" h="21600">
                <a:moveTo>
                  <a:pt x="1350" y="5400"/>
                </a:moveTo>
                <a:lnTo>
                  <a:pt x="1350" y="16200"/>
                </a:lnTo>
                <a:lnTo>
                  <a:pt x="2700" y="16200"/>
                </a:lnTo>
                <a:lnTo>
                  <a:pt x="2700" y="5400"/>
                </a:lnTo>
                <a:lnTo>
                  <a:pt x="1350" y="5400"/>
                </a:lnTo>
                <a:close/>
              </a:path>
              <a:path w="21600" h="21600">
                <a:moveTo>
                  <a:pt x="0" y="5400"/>
                </a:moveTo>
                <a:lnTo>
                  <a:pt x="0" y="16200"/>
                </a:lnTo>
                <a:lnTo>
                  <a:pt x="675" y="16200"/>
                </a:lnTo>
                <a:lnTo>
                  <a:pt x="675" y="5400"/>
                </a:lnTo>
                <a:lnTo>
                  <a:pt x="0" y="5400"/>
                </a:lnTo>
                <a:close/>
              </a:path>
            </a:pathLst>
          </a:cu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00007d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AutoShape 7"/>
          <p:cNvSpPr/>
          <p:nvPr/>
        </p:nvSpPr>
        <p:spPr>
          <a:xfrm>
            <a:off x="4876920" y="1371600"/>
            <a:ext cx="3962160" cy="3581280"/>
          </a:xfrm>
          <a:custGeom>
            <a:avLst/>
            <a:gdLst>
              <a:gd name="textAreaLeft" fmla="*/ 904320 w 3962160"/>
              <a:gd name="textAreaRight" fmla="*/ 3057840 w 3962160"/>
              <a:gd name="textAreaTop" fmla="*/ 817560 h 3581280"/>
              <a:gd name="textAreaBottom" fmla="*/ 2763720 h 3581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solidFill>
            <a:srgbClr val="00007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Rectangle 5"/>
          <p:cNvSpPr/>
          <p:nvPr/>
        </p:nvSpPr>
        <p:spPr>
          <a:xfrm>
            <a:off x="152280" y="380880"/>
            <a:ext cx="8839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 должна приводить к действия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TextBox 2"/>
          <p:cNvSpPr/>
          <p:nvPr/>
        </p:nvSpPr>
        <p:spPr>
          <a:xfrm>
            <a:off x="4648320" y="2451240"/>
            <a:ext cx="44528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Verdana"/>
              </a:rPr>
              <a:t>Проведите корректирующие действ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456840" y="456840"/>
            <a:ext cx="8534520" cy="685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7d"/>
                </a:solidFill>
                <a:latin typeface="Verdana"/>
              </a:rPr>
              <a:t>Выводы</a:t>
            </a:r>
            <a:r>
              <a:rPr b="1" lang="ru-RU" sz="4400" spc="-1" strike="noStrike">
                <a:solidFill>
                  <a:srgbClr val="00007d"/>
                </a:solidFill>
                <a:latin typeface="Verdana"/>
              </a:rPr>
              <a:t> </a:t>
            </a:r>
            <a:r>
              <a:rPr b="1" lang="en-US" sz="44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44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43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это система для объективной проверки работы лаборатории, проводимой внешним учреждением или орган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се лаборатории должны участвовать 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Используют несколько методов ВОК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447840" indent="-44784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Обращение с пробами ВОК должно быть таким же, как и с пробами от пациентов 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8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B3CDF-FD31-465A-BFEA-1F30DF49ADB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380880" y="554040"/>
            <a:ext cx="8382240" cy="51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Основные положения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       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533160" y="1295280"/>
            <a:ext cx="8458200" cy="474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ВОК расходуются ценные ресурсы, извлеките пользу из своего участия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на 100%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не должна быть связана с санкциями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следует рассматривать как обучение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поможет определить направления для улучшения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11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Verdana"/>
              </a:rPr>
              <a:t>ВОК является важным элементом системы управления качеством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2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EC5BE0-A1B2-4506-A7E2-ED324354093E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Slide Number Placeholder 3"/>
          <p:cNvSpPr/>
          <p:nvPr/>
        </p:nvSpPr>
        <p:spPr>
          <a:xfrm>
            <a:off x="6934320" y="6534000"/>
            <a:ext cx="213336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6DB1C-2E78-40FF-A6BA-311A94D532D3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304920"/>
            <a:ext cx="838224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Ситуация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763120" cy="432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Новый руководитель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лаборатории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анализировал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результаты предыдущих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ВОК и обнаружил плохие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Verdana"/>
              </a:rPr>
              <a:t>показатели окрашивания по Граму</a:t>
            </a: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.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1424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99"/>
                </a:solidFill>
                <a:latin typeface="Verdana"/>
              </a:rPr>
              <a:t>«Как должна лаборатория расследовать эту проблему?»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6" name="Picture 5" descr="bd07156_"/>
          <p:cNvPicPr/>
          <p:nvPr/>
        </p:nvPicPr>
        <p:blipFill>
          <a:blip r:embed="rId1"/>
          <a:stretch/>
        </p:blipFill>
        <p:spPr>
          <a:xfrm>
            <a:off x="6019920" y="533520"/>
            <a:ext cx="2655720" cy="2253960"/>
          </a:xfrm>
          <a:prstGeom prst="rect">
            <a:avLst/>
          </a:prstGeom>
          <a:ln w="0">
            <a:noFill/>
          </a:ln>
        </p:spPr>
      </p:pic>
      <p:sp>
        <p:nvSpPr>
          <p:cNvPr id="147" name="Slide Number Placeholder 5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749D0C-3DD0-4400-A74E-74EFCC4C6391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Footer Placeholder 6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30C7B8-48AD-48C2-88D5-A1BD2E33E946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1"/>
          <p:cNvSpPr>
            <a:spLocks noGrp="1"/>
          </p:cNvSpPr>
          <p:nvPr>
            <p:ph type="title"/>
          </p:nvPr>
        </p:nvSpPr>
        <p:spPr>
          <a:xfrm>
            <a:off x="5029200" y="1218960"/>
            <a:ext cx="4038480" cy="19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Вопросы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br>
              <a:rPr sz="4000"/>
            </a:br>
            <a:br>
              <a:rPr sz="4000"/>
            </a:br>
            <a:r>
              <a:rPr b="0" lang="ru-RU" sz="4000" spc="-1" strike="noStrike">
                <a:solidFill>
                  <a:srgbClr val="00007d"/>
                </a:solidFill>
                <a:latin typeface="Verdana"/>
              </a:rPr>
              <a:t>Комментарии</a:t>
            </a:r>
            <a:r>
              <a:rPr b="0" lang="en-US" sz="4000" spc="-1" strike="noStrike">
                <a:solidFill>
                  <a:srgbClr val="00007d"/>
                </a:solidFill>
                <a:latin typeface="Verdana"/>
              </a:rPr>
              <a:t>?</a:t>
            </a:r>
            <a:endParaRPr b="1" lang="en-US" sz="4000" spc="-1" strike="noStrike">
              <a:solidFill>
                <a:srgbClr val="00007d"/>
              </a:solidFill>
              <a:latin typeface="Verdana"/>
            </a:endParaRPr>
          </a:p>
        </p:txBody>
      </p:sp>
      <p:grpSp>
        <p:nvGrpSpPr>
          <p:cNvPr id="496" name="Group 99"/>
          <p:cNvGrpSpPr/>
          <p:nvPr/>
        </p:nvGrpSpPr>
        <p:grpSpPr>
          <a:xfrm>
            <a:off x="264960" y="1143000"/>
            <a:ext cx="4700880" cy="4708440"/>
            <a:chOff x="264960" y="1143000"/>
            <a:chExt cx="4700880" cy="4708440"/>
          </a:xfrm>
        </p:grpSpPr>
        <p:sp>
          <p:nvSpPr>
            <p:cNvPr id="497" name="AutoShape 4"/>
            <p:cNvSpPr/>
            <p:nvPr/>
          </p:nvSpPr>
          <p:spPr>
            <a:xfrm>
              <a:off x="264960" y="1143000"/>
              <a:ext cx="4700880" cy="4708440"/>
            </a:xfrm>
            <a:custGeom>
              <a:avLst/>
              <a:gdLst>
                <a:gd name="textAreaLeft" fmla="*/ 229320 w 4700880"/>
                <a:gd name="textAreaRight" fmla="*/ 4471560 w 4700880"/>
                <a:gd name="textAreaTop" fmla="*/ 229320 h 4708440"/>
                <a:gd name="textAreaBottom" fmla="*/ 4479120 h 4708440"/>
              </a:gdLst>
              <a:ahLst/>
              <a:rect l="textAreaLeft" t="textAreaTop" r="textAreaRight" b="textAreaBottom"/>
              <a:pathLst>
                <a:path w="21600" h="21635">
                  <a:moveTo>
                    <a:pt x="3600" y="0"/>
                  </a:moveTo>
                  <a:arcTo wR="3600" hR="3600" stAng="16200000" swAng="-5400000"/>
                  <a:lnTo>
                    <a:pt x="0" y="18035"/>
                  </a:lnTo>
                  <a:arcTo wR="3600" hR="3600" stAng="10800000" swAng="-5400000"/>
                  <a:lnTo>
                    <a:pt x="18000" y="21635"/>
                  </a:lnTo>
                  <a:arcTo wR="3600" hR="3600" stAng="5400000" swAng="-5400000"/>
                  <a:lnTo>
                    <a:pt x="21600" y="3600"/>
                  </a:lnTo>
                  <a:arcTo wR="3600" hR="3600" stAng="0" swAng="-5400000"/>
                  <a:close/>
                </a:path>
              </a:pathLst>
            </a:cu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8" name="Freeform 9"/>
            <p:cNvSpPr/>
            <p:nvPr/>
          </p:nvSpPr>
          <p:spPr>
            <a:xfrm>
              <a:off x="2301120" y="3621240"/>
              <a:ext cx="109080" cy="63360"/>
            </a:xfrm>
            <a:custGeom>
              <a:avLst/>
              <a:gdLst>
                <a:gd name="textAreaLeft" fmla="*/ 0 w 109080"/>
                <a:gd name="textAreaRight" fmla="*/ 109440 w 109080"/>
                <a:gd name="textAreaTop" fmla="*/ 0 h 63360"/>
                <a:gd name="textAreaBottom" fmla="*/ 63720 h 6336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6920" bIns="16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9" name="Freeform 10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0" name="Freeform 11"/>
            <p:cNvSpPr/>
            <p:nvPr/>
          </p:nvSpPr>
          <p:spPr>
            <a:xfrm>
              <a:off x="2272320" y="3614040"/>
              <a:ext cx="291960" cy="338760"/>
            </a:xfrm>
            <a:custGeom>
              <a:avLst/>
              <a:gdLst>
                <a:gd name="textAreaLeft" fmla="*/ 0 w 291960"/>
                <a:gd name="textAreaRight" fmla="*/ 292320 w 291960"/>
                <a:gd name="textAreaTop" fmla="*/ 0 h 338760"/>
                <a:gd name="textAreaBottom" fmla="*/ 339120 h 3387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1" name="Freeform 12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2" name="Freeform 13"/>
            <p:cNvSpPr/>
            <p:nvPr/>
          </p:nvSpPr>
          <p:spPr>
            <a:xfrm>
              <a:off x="2509920" y="2487240"/>
              <a:ext cx="486720" cy="846360"/>
            </a:xfrm>
            <a:custGeom>
              <a:avLst/>
              <a:gdLst>
                <a:gd name="textAreaLeft" fmla="*/ 0 w 486720"/>
                <a:gd name="textAreaRight" fmla="*/ 487080 w 486720"/>
                <a:gd name="textAreaTop" fmla="*/ 0 h 846360"/>
                <a:gd name="textAreaBottom" fmla="*/ 846720 h 84636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3" name="Freeform 16"/>
            <p:cNvSpPr/>
            <p:nvPr/>
          </p:nvSpPr>
          <p:spPr>
            <a:xfrm>
              <a:off x="1062720" y="3062880"/>
              <a:ext cx="152280" cy="99360"/>
            </a:xfrm>
            <a:custGeom>
              <a:avLst/>
              <a:gdLst>
                <a:gd name="textAreaLeft" fmla="*/ 0 w 152280"/>
                <a:gd name="textAreaRight" fmla="*/ 152640 w 152280"/>
                <a:gd name="textAreaTop" fmla="*/ 0 h 99360"/>
                <a:gd name="textAreaBottom" fmla="*/ 99720 h 9936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Freeform 22"/>
            <p:cNvSpPr/>
            <p:nvPr/>
          </p:nvSpPr>
          <p:spPr>
            <a:xfrm>
              <a:off x="1052640" y="3007800"/>
              <a:ext cx="155160" cy="34560"/>
            </a:xfrm>
            <a:custGeom>
              <a:avLst/>
              <a:gdLst>
                <a:gd name="textAreaLeft" fmla="*/ 0 w 155160"/>
                <a:gd name="textAreaRight" fmla="*/ 155520 w 155160"/>
                <a:gd name="textAreaTop" fmla="*/ 0 h 34560"/>
                <a:gd name="textAreaBottom" fmla="*/ 34920 h 345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1880" bIns="-118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5" name="Line 24"/>
            <p:cNvSpPr/>
            <p:nvPr/>
          </p:nvSpPr>
          <p:spPr>
            <a:xfrm flipH="1" flipV="1">
              <a:off x="2673000" y="5500440"/>
              <a:ext cx="10080" cy="403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6" name="Line 25"/>
            <p:cNvSpPr/>
            <p:nvPr/>
          </p:nvSpPr>
          <p:spPr>
            <a:xfrm flipV="1">
              <a:off x="2435040" y="4480920"/>
              <a:ext cx="1440" cy="9072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920" bIns="439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7" name="Line 27"/>
            <p:cNvSpPr/>
            <p:nvPr/>
          </p:nvSpPr>
          <p:spPr>
            <a:xfrm>
              <a:off x="4066920" y="1722600"/>
              <a:ext cx="1440" cy="35676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8" name="Line 27"/>
            <p:cNvSpPr/>
            <p:nvPr/>
          </p:nvSpPr>
          <p:spPr>
            <a:xfrm>
              <a:off x="2615040" y="1861200"/>
              <a:ext cx="144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Line 27"/>
            <p:cNvSpPr/>
            <p:nvPr/>
          </p:nvSpPr>
          <p:spPr>
            <a:xfrm>
              <a:off x="1094400" y="1904400"/>
              <a:ext cx="1080" cy="35672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0" name="Line 27"/>
            <p:cNvSpPr/>
            <p:nvPr/>
          </p:nvSpPr>
          <p:spPr>
            <a:xfrm flipH="1">
              <a:off x="817200" y="1764360"/>
              <a:ext cx="356148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11" name="Group 65"/>
            <p:cNvGrpSpPr/>
            <p:nvPr/>
          </p:nvGrpSpPr>
          <p:grpSpPr>
            <a:xfrm>
              <a:off x="541080" y="1223640"/>
              <a:ext cx="1144440" cy="1035360"/>
              <a:chOff x="541080" y="1223640"/>
              <a:chExt cx="1144440" cy="1035360"/>
            </a:xfrm>
          </p:grpSpPr>
          <p:grpSp>
            <p:nvGrpSpPr>
              <p:cNvPr id="512" name="Group 66"/>
              <p:cNvGrpSpPr/>
              <p:nvPr/>
            </p:nvGrpSpPr>
            <p:grpSpPr>
              <a:xfrm>
                <a:off x="541080" y="1223640"/>
                <a:ext cx="1123920" cy="1035360"/>
                <a:chOff x="541080" y="1223640"/>
                <a:chExt cx="1123920" cy="1035360"/>
              </a:xfrm>
            </p:grpSpPr>
            <p:grpSp>
              <p:nvGrpSpPr>
                <p:cNvPr id="513" name="Group 67"/>
                <p:cNvGrpSpPr/>
                <p:nvPr/>
              </p:nvGrpSpPr>
              <p:grpSpPr>
                <a:xfrm>
                  <a:off x="587880" y="1223640"/>
                  <a:ext cx="1045440" cy="1035360"/>
                  <a:chOff x="587880" y="1223640"/>
                  <a:chExt cx="1045440" cy="1035360"/>
                </a:xfrm>
              </p:grpSpPr>
              <p:sp>
                <p:nvSpPr>
                  <p:cNvPr id="514" name="Freeform 68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515" name="Freeform 69"/>
                  <p:cNvSpPr/>
                  <p:nvPr/>
                </p:nvSpPr>
                <p:spPr>
                  <a:xfrm>
                    <a:off x="587880" y="1223640"/>
                    <a:ext cx="1045440" cy="1035360"/>
                  </a:xfrm>
                  <a:custGeom>
                    <a:avLst/>
                    <a:gdLst>
                      <a:gd name="textAreaLeft" fmla="*/ 0 w 1045440"/>
                      <a:gd name="textAreaRight" fmla="*/ 1045800 w 1045440"/>
                      <a:gd name="textAreaTop" fmla="*/ 0 h 1035360"/>
                      <a:gd name="textAreaBottom" fmla="*/ 1035720 h 10353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516" name="Text Box 70"/>
                <p:cNvSpPr/>
                <p:nvPr/>
              </p:nvSpPr>
              <p:spPr>
                <a:xfrm>
                  <a:off x="541080" y="1462320"/>
                  <a:ext cx="1123920" cy="2455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spcBef>
                      <a:spcPts val="624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17" name="Text Box 71"/>
              <p:cNvSpPr/>
              <p:nvPr/>
            </p:nvSpPr>
            <p:spPr>
              <a:xfrm>
                <a:off x="561600" y="1593000"/>
                <a:ext cx="112392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18" name="Group 72"/>
            <p:cNvGrpSpPr/>
            <p:nvPr/>
          </p:nvGrpSpPr>
          <p:grpSpPr>
            <a:xfrm>
              <a:off x="2043360" y="1223640"/>
              <a:ext cx="1124640" cy="1035360"/>
              <a:chOff x="2043360" y="1223640"/>
              <a:chExt cx="1124640" cy="1035360"/>
            </a:xfrm>
          </p:grpSpPr>
          <p:sp>
            <p:nvSpPr>
              <p:cNvPr id="519" name="Freeform 73"/>
              <p:cNvSpPr/>
              <p:nvPr/>
            </p:nvSpPr>
            <p:spPr>
              <a:xfrm>
                <a:off x="2080440" y="1223640"/>
                <a:ext cx="1046160" cy="1035360"/>
              </a:xfrm>
              <a:custGeom>
                <a:avLst/>
                <a:gdLst>
                  <a:gd name="textAreaLeft" fmla="*/ 0 w 1046160"/>
                  <a:gd name="textAreaRight" fmla="*/ 1046520 w 104616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0" name="Text Box 74"/>
              <p:cNvSpPr/>
              <p:nvPr/>
            </p:nvSpPr>
            <p:spPr>
              <a:xfrm>
                <a:off x="2043360" y="159300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21" name="Group 75"/>
            <p:cNvGrpSpPr/>
            <p:nvPr/>
          </p:nvGrpSpPr>
          <p:grpSpPr>
            <a:xfrm>
              <a:off x="3495240" y="1223640"/>
              <a:ext cx="1124640" cy="1035360"/>
              <a:chOff x="3495240" y="1223640"/>
              <a:chExt cx="1124640" cy="1035360"/>
            </a:xfrm>
          </p:grpSpPr>
          <p:grpSp>
            <p:nvGrpSpPr>
              <p:cNvPr id="522" name="Group 76"/>
              <p:cNvGrpSpPr/>
              <p:nvPr/>
            </p:nvGrpSpPr>
            <p:grpSpPr>
              <a:xfrm>
                <a:off x="3536280" y="1223640"/>
                <a:ext cx="1046160" cy="1035360"/>
                <a:chOff x="3536280" y="1223640"/>
                <a:chExt cx="1046160" cy="1035360"/>
              </a:xfrm>
            </p:grpSpPr>
            <p:sp>
              <p:nvSpPr>
                <p:cNvPr id="523" name="Freeform 77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524" name="Freeform 78"/>
                <p:cNvSpPr/>
                <p:nvPr/>
              </p:nvSpPr>
              <p:spPr>
                <a:xfrm>
                  <a:off x="3536280" y="1223640"/>
                  <a:ext cx="1046160" cy="1035360"/>
                </a:xfrm>
                <a:custGeom>
                  <a:avLst/>
                  <a:gdLst>
                    <a:gd name="textAreaLeft" fmla="*/ 0 w 1046160"/>
                    <a:gd name="textAreaRight" fmla="*/ 1046520 w 1046160"/>
                    <a:gd name="textAreaTop" fmla="*/ 0 h 1035360"/>
                    <a:gd name="textAreaBottom" fmla="*/ 1035720 h 10353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525" name="Text Box 79"/>
              <p:cNvSpPr/>
              <p:nvPr/>
            </p:nvSpPr>
            <p:spPr>
              <a:xfrm>
                <a:off x="3495240" y="1595520"/>
                <a:ext cx="1124640" cy="2462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26" name="Line 27"/>
            <p:cNvSpPr/>
            <p:nvPr/>
          </p:nvSpPr>
          <p:spPr>
            <a:xfrm flipH="1">
              <a:off x="886680" y="294192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27" name="Group 130"/>
            <p:cNvGrpSpPr/>
            <p:nvPr/>
          </p:nvGrpSpPr>
          <p:grpSpPr>
            <a:xfrm>
              <a:off x="541080" y="2389320"/>
              <a:ext cx="1052640" cy="1035360"/>
              <a:chOff x="541080" y="2389320"/>
              <a:chExt cx="1052640" cy="1035360"/>
            </a:xfrm>
          </p:grpSpPr>
          <p:sp>
            <p:nvSpPr>
              <p:cNvPr id="528" name="Freeform 46"/>
              <p:cNvSpPr/>
              <p:nvPr/>
            </p:nvSpPr>
            <p:spPr>
              <a:xfrm>
                <a:off x="545040" y="2389320"/>
                <a:ext cx="1048320" cy="1035360"/>
              </a:xfrm>
              <a:custGeom>
                <a:avLst/>
                <a:gdLst>
                  <a:gd name="textAreaLeft" fmla="*/ 0 w 1048320"/>
                  <a:gd name="textAreaRight" fmla="*/ 1048680 w 104832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29" name="Text Box 47"/>
              <p:cNvSpPr/>
              <p:nvPr/>
            </p:nvSpPr>
            <p:spPr>
              <a:xfrm>
                <a:off x="541080" y="2654280"/>
                <a:ext cx="1052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0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000"/>
                </a:b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0" name="Freeform 31"/>
            <p:cNvSpPr/>
            <p:nvPr/>
          </p:nvSpPr>
          <p:spPr>
            <a:xfrm>
              <a:off x="2088000" y="2443680"/>
              <a:ext cx="1045800" cy="1037160"/>
            </a:xfrm>
            <a:custGeom>
              <a:avLst/>
              <a:gdLst>
                <a:gd name="textAreaLeft" fmla="*/ 0 w 1045800"/>
                <a:gd name="textAreaRight" fmla="*/ 1046160 w 104580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1" name="Text Box 43"/>
            <p:cNvSpPr/>
            <p:nvPr/>
          </p:nvSpPr>
          <p:spPr>
            <a:xfrm>
              <a:off x="2092320" y="2739960"/>
              <a:ext cx="1042200" cy="398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2" name="Group 135"/>
            <p:cNvGrpSpPr/>
            <p:nvPr/>
          </p:nvGrpSpPr>
          <p:grpSpPr>
            <a:xfrm>
              <a:off x="3489480" y="2404800"/>
              <a:ext cx="1159200" cy="1035360"/>
              <a:chOff x="3489480" y="2404800"/>
              <a:chExt cx="1159200" cy="1035360"/>
            </a:xfrm>
          </p:grpSpPr>
          <p:sp>
            <p:nvSpPr>
              <p:cNvPr id="533" name="Freeform 48"/>
              <p:cNvSpPr/>
              <p:nvPr/>
            </p:nvSpPr>
            <p:spPr>
              <a:xfrm>
                <a:off x="3513960" y="240480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4" name="Text Box 55"/>
              <p:cNvSpPr/>
              <p:nvPr/>
            </p:nvSpPr>
            <p:spPr>
              <a:xfrm>
                <a:off x="3489480" y="2741040"/>
                <a:ext cx="115920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35" name="Line 27"/>
            <p:cNvSpPr/>
            <p:nvPr/>
          </p:nvSpPr>
          <p:spPr>
            <a:xfrm flipH="1">
              <a:off x="817200" y="405108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6" name="Group 139"/>
            <p:cNvGrpSpPr/>
            <p:nvPr/>
          </p:nvGrpSpPr>
          <p:grpSpPr>
            <a:xfrm>
              <a:off x="541080" y="3572280"/>
              <a:ext cx="1092960" cy="1036800"/>
              <a:chOff x="541080" y="3572280"/>
              <a:chExt cx="1092960" cy="1036800"/>
            </a:xfrm>
          </p:grpSpPr>
          <p:sp>
            <p:nvSpPr>
              <p:cNvPr id="537" name="Freeform 81"/>
              <p:cNvSpPr/>
              <p:nvPr/>
            </p:nvSpPr>
            <p:spPr>
              <a:xfrm>
                <a:off x="569880" y="3572280"/>
                <a:ext cx="1046520" cy="1036800"/>
              </a:xfrm>
              <a:custGeom>
                <a:avLst/>
                <a:gdLst>
                  <a:gd name="textAreaLeft" fmla="*/ 0 w 1046520"/>
                  <a:gd name="textAreaRight" fmla="*/ 1046880 w 104652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8" name="Text Box 82"/>
              <p:cNvSpPr/>
              <p:nvPr/>
            </p:nvSpPr>
            <p:spPr>
              <a:xfrm>
                <a:off x="541080" y="3852000"/>
                <a:ext cx="10929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39" name="Group 142"/>
            <p:cNvGrpSpPr/>
            <p:nvPr/>
          </p:nvGrpSpPr>
          <p:grpSpPr>
            <a:xfrm>
              <a:off x="2043360" y="3572280"/>
              <a:ext cx="1124640" cy="1036800"/>
              <a:chOff x="2043360" y="3572280"/>
              <a:chExt cx="1124640" cy="1036800"/>
            </a:xfrm>
          </p:grpSpPr>
          <p:sp>
            <p:nvSpPr>
              <p:cNvPr id="540" name="Freeform 30"/>
              <p:cNvSpPr/>
              <p:nvPr/>
            </p:nvSpPr>
            <p:spPr>
              <a:xfrm>
                <a:off x="2067840" y="3572280"/>
                <a:ext cx="1046880" cy="103680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6800"/>
                  <a:gd name="textAreaBottom" fmla="*/ 1037160 h 10368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1" name="Text Box 54"/>
              <p:cNvSpPr/>
              <p:nvPr/>
            </p:nvSpPr>
            <p:spPr>
              <a:xfrm>
                <a:off x="2043360" y="3791520"/>
                <a:ext cx="1124640" cy="5508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42" name="Freeform 50"/>
            <p:cNvSpPr/>
            <p:nvPr/>
          </p:nvSpPr>
          <p:spPr>
            <a:xfrm>
              <a:off x="3513960" y="3566160"/>
              <a:ext cx="1046880" cy="1037160"/>
            </a:xfrm>
            <a:custGeom>
              <a:avLst/>
              <a:gdLst>
                <a:gd name="textAreaLeft" fmla="*/ 0 w 1046880"/>
                <a:gd name="textAreaRight" fmla="*/ 1047240 w 1046880"/>
                <a:gd name="textAreaTop" fmla="*/ 0 h 1037160"/>
                <a:gd name="textAreaBottom" fmla="*/ 1037520 h 10371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3" name="Text Box 51"/>
            <p:cNvSpPr/>
            <p:nvPr/>
          </p:nvSpPr>
          <p:spPr>
            <a:xfrm>
              <a:off x="3485160" y="3941640"/>
              <a:ext cx="1124640" cy="24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0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4" name="Line 27"/>
            <p:cNvSpPr/>
            <p:nvPr/>
          </p:nvSpPr>
          <p:spPr>
            <a:xfrm flipH="1">
              <a:off x="886680" y="5226840"/>
              <a:ext cx="3561480" cy="108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720" bIns="-4572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45" name="Group 148"/>
            <p:cNvGrpSpPr/>
            <p:nvPr/>
          </p:nvGrpSpPr>
          <p:grpSpPr>
            <a:xfrm>
              <a:off x="564120" y="4746240"/>
              <a:ext cx="1121760" cy="1035360"/>
              <a:chOff x="564120" y="4746240"/>
              <a:chExt cx="1121760" cy="1035360"/>
            </a:xfrm>
          </p:grpSpPr>
          <p:sp>
            <p:nvSpPr>
              <p:cNvPr id="546" name="Freeform 57"/>
              <p:cNvSpPr/>
              <p:nvPr/>
            </p:nvSpPr>
            <p:spPr>
              <a:xfrm>
                <a:off x="606960" y="4746240"/>
                <a:ext cx="1045440" cy="103536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7" name="Text Box 58"/>
              <p:cNvSpPr/>
              <p:nvPr/>
            </p:nvSpPr>
            <p:spPr>
              <a:xfrm>
                <a:off x="564120" y="5027760"/>
                <a:ext cx="112176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48" name="Group 151"/>
            <p:cNvGrpSpPr/>
            <p:nvPr/>
          </p:nvGrpSpPr>
          <p:grpSpPr>
            <a:xfrm>
              <a:off x="2043360" y="4686840"/>
              <a:ext cx="1124640" cy="1035720"/>
              <a:chOff x="2043360" y="4686840"/>
              <a:chExt cx="1124640" cy="1035720"/>
            </a:xfrm>
          </p:grpSpPr>
          <p:sp>
            <p:nvSpPr>
              <p:cNvPr id="549" name="Freeform 34"/>
              <p:cNvSpPr/>
              <p:nvPr/>
            </p:nvSpPr>
            <p:spPr>
              <a:xfrm>
                <a:off x="2087640" y="4686840"/>
                <a:ext cx="1045440" cy="1035720"/>
              </a:xfrm>
              <a:custGeom>
                <a:avLst/>
                <a:gdLst>
                  <a:gd name="textAreaLeft" fmla="*/ 0 w 1045440"/>
                  <a:gd name="textAreaRight" fmla="*/ 1045800 w 1045440"/>
                  <a:gd name="textAreaTop" fmla="*/ 0 h 1035720"/>
                  <a:gd name="textAreaBottom" fmla="*/ 1036080 h 10357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0" name="Text Box 61"/>
              <p:cNvSpPr/>
              <p:nvPr/>
            </p:nvSpPr>
            <p:spPr>
              <a:xfrm>
                <a:off x="2043360" y="5027400"/>
                <a:ext cx="1124640" cy="398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0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51" name="Group 154"/>
            <p:cNvGrpSpPr/>
            <p:nvPr/>
          </p:nvGrpSpPr>
          <p:grpSpPr>
            <a:xfrm>
              <a:off x="3485160" y="4746240"/>
              <a:ext cx="1159200" cy="1035360"/>
              <a:chOff x="3485160" y="4746240"/>
              <a:chExt cx="1159200" cy="1035360"/>
            </a:xfrm>
          </p:grpSpPr>
          <p:sp>
            <p:nvSpPr>
              <p:cNvPr id="552" name="Freeform 63"/>
              <p:cNvSpPr/>
              <p:nvPr/>
            </p:nvSpPr>
            <p:spPr>
              <a:xfrm>
                <a:off x="3530880" y="4746240"/>
                <a:ext cx="1046880" cy="1035360"/>
              </a:xfrm>
              <a:custGeom>
                <a:avLst/>
                <a:gdLst>
                  <a:gd name="textAreaLeft" fmla="*/ 0 w 1046880"/>
                  <a:gd name="textAreaRight" fmla="*/ 1047240 w 1046880"/>
                  <a:gd name="textAreaTop" fmla="*/ 0 h 1035360"/>
                  <a:gd name="textAreaBottom" fmla="*/ 1035720 h 10353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3" name="Text Box 64"/>
              <p:cNvSpPr/>
              <p:nvPr/>
            </p:nvSpPr>
            <p:spPr>
              <a:xfrm>
                <a:off x="3485160" y="4967640"/>
                <a:ext cx="1159200" cy="50544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9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9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54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Slide Number Placeholder 4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2A04FA-B015-440D-A884-937CE781486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 Box 62"/>
          <p:cNvSpPr/>
          <p:nvPr/>
        </p:nvSpPr>
        <p:spPr>
          <a:xfrm>
            <a:off x="990720" y="411120"/>
            <a:ext cx="716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7d"/>
                </a:solidFill>
                <a:latin typeface="Verdana"/>
              </a:rPr>
              <a:t>Система управления качеств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1" name="Group 99"/>
          <p:cNvGrpSpPr/>
          <p:nvPr/>
        </p:nvGrpSpPr>
        <p:grpSpPr>
          <a:xfrm>
            <a:off x="1486080" y="1066680"/>
            <a:ext cx="6171840" cy="5181480"/>
            <a:chOff x="1486080" y="1066680"/>
            <a:chExt cx="6171840" cy="5181480"/>
          </a:xfrm>
        </p:grpSpPr>
        <p:sp>
          <p:nvSpPr>
            <p:cNvPr id="152" name="AutoShape 4"/>
            <p:cNvSpPr/>
            <p:nvPr/>
          </p:nvSpPr>
          <p:spPr>
            <a:xfrm>
              <a:off x="1486080" y="1066680"/>
              <a:ext cx="6171840" cy="5181480"/>
            </a:xfrm>
            <a:prstGeom prst="roundRect">
              <a:avLst>
                <a:gd name="adj" fmla="val 16667"/>
              </a:avLst>
            </a:prstGeom>
            <a:solidFill>
              <a:srgbClr val="cccce6"/>
            </a:solidFill>
            <a:ln w="9360">
              <a:solidFill>
                <a:srgbClr val="cccce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Freeform 9"/>
            <p:cNvSpPr/>
            <p:nvPr/>
          </p:nvSpPr>
          <p:spPr>
            <a:xfrm>
              <a:off x="4159800" y="3794040"/>
              <a:ext cx="143640" cy="69840"/>
            </a:xfrm>
            <a:custGeom>
              <a:avLst/>
              <a:gdLst>
                <a:gd name="textAreaLeft" fmla="*/ 0 w 143640"/>
                <a:gd name="textAreaRight" fmla="*/ 144000 w 143640"/>
                <a:gd name="textAreaTop" fmla="*/ 0 h 69840"/>
                <a:gd name="textAreaBottom" fmla="*/ 70200 h 69840"/>
              </a:gdLst>
              <a:ahLst/>
              <a:rect l="textAreaLeft" t="textAreaTop" r="textAreaRight" b="textAreaBottom"/>
              <a:pathLst>
                <a:path w="392" h="230">
                  <a:moveTo>
                    <a:pt x="377" y="0"/>
                  </a:moveTo>
                  <a:lnTo>
                    <a:pt x="378" y="21"/>
                  </a:lnTo>
                  <a:lnTo>
                    <a:pt x="378" y="40"/>
                  </a:lnTo>
                  <a:lnTo>
                    <a:pt x="380" y="58"/>
                  </a:lnTo>
                  <a:lnTo>
                    <a:pt x="381" y="75"/>
                  </a:lnTo>
                  <a:lnTo>
                    <a:pt x="386" y="104"/>
                  </a:lnTo>
                  <a:lnTo>
                    <a:pt x="390" y="130"/>
                  </a:lnTo>
                  <a:lnTo>
                    <a:pt x="392" y="151"/>
                  </a:lnTo>
                  <a:lnTo>
                    <a:pt x="392" y="169"/>
                  </a:lnTo>
                  <a:lnTo>
                    <a:pt x="392" y="175"/>
                  </a:lnTo>
                  <a:lnTo>
                    <a:pt x="390" y="183"/>
                  </a:lnTo>
                  <a:lnTo>
                    <a:pt x="387" y="188"/>
                  </a:lnTo>
                  <a:lnTo>
                    <a:pt x="382" y="194"/>
                  </a:lnTo>
                  <a:lnTo>
                    <a:pt x="377" y="198"/>
                  </a:lnTo>
                  <a:lnTo>
                    <a:pt x="369" y="203"/>
                  </a:lnTo>
                  <a:lnTo>
                    <a:pt x="361" y="206"/>
                  </a:lnTo>
                  <a:lnTo>
                    <a:pt x="351" y="209"/>
                  </a:lnTo>
                  <a:lnTo>
                    <a:pt x="338" y="211"/>
                  </a:lnTo>
                  <a:lnTo>
                    <a:pt x="324" y="213"/>
                  </a:lnTo>
                  <a:lnTo>
                    <a:pt x="307" y="216"/>
                  </a:lnTo>
                  <a:lnTo>
                    <a:pt x="289" y="218"/>
                  </a:lnTo>
                  <a:lnTo>
                    <a:pt x="188" y="224"/>
                  </a:lnTo>
                  <a:lnTo>
                    <a:pt x="41" y="230"/>
                  </a:lnTo>
                  <a:lnTo>
                    <a:pt x="35" y="223"/>
                  </a:lnTo>
                  <a:lnTo>
                    <a:pt x="21" y="202"/>
                  </a:lnTo>
                  <a:lnTo>
                    <a:pt x="13" y="186"/>
                  </a:lnTo>
                  <a:lnTo>
                    <a:pt x="6" y="169"/>
                  </a:lnTo>
                  <a:lnTo>
                    <a:pt x="3" y="159"/>
                  </a:lnTo>
                  <a:lnTo>
                    <a:pt x="1" y="148"/>
                  </a:lnTo>
                  <a:lnTo>
                    <a:pt x="0" y="137"/>
                  </a:lnTo>
                  <a:lnTo>
                    <a:pt x="0" y="125"/>
                  </a:lnTo>
                  <a:lnTo>
                    <a:pt x="0" y="114"/>
                  </a:lnTo>
                  <a:lnTo>
                    <a:pt x="1" y="103"/>
                  </a:lnTo>
                  <a:lnTo>
                    <a:pt x="2" y="94"/>
                  </a:lnTo>
                  <a:lnTo>
                    <a:pt x="3" y="85"/>
                  </a:lnTo>
                  <a:lnTo>
                    <a:pt x="5" y="77"/>
                  </a:lnTo>
                  <a:lnTo>
                    <a:pt x="9" y="69"/>
                  </a:lnTo>
                  <a:lnTo>
                    <a:pt x="12" y="62"/>
                  </a:lnTo>
                  <a:lnTo>
                    <a:pt x="15" y="54"/>
                  </a:lnTo>
                  <a:lnTo>
                    <a:pt x="24" y="41"/>
                  </a:lnTo>
                  <a:lnTo>
                    <a:pt x="35" y="28"/>
                  </a:lnTo>
                  <a:lnTo>
                    <a:pt x="48" y="14"/>
                  </a:lnTo>
                  <a:lnTo>
                    <a:pt x="63" y="0"/>
                  </a:lnTo>
                  <a:lnTo>
                    <a:pt x="377" y="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400" bIns="234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Freeform 10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Freeform 11"/>
            <p:cNvSpPr/>
            <p:nvPr/>
          </p:nvSpPr>
          <p:spPr>
            <a:xfrm>
              <a:off x="4122000" y="3786120"/>
              <a:ext cx="383760" cy="372960"/>
            </a:xfrm>
            <a:custGeom>
              <a:avLst/>
              <a:gdLst>
                <a:gd name="textAreaLeft" fmla="*/ 0 w 383760"/>
                <a:gd name="textAreaRight" fmla="*/ 384120 w 383760"/>
                <a:gd name="textAreaTop" fmla="*/ 0 h 372960"/>
                <a:gd name="textAreaBottom" fmla="*/ 373320 h 372960"/>
              </a:gdLst>
              <a:ahLst/>
              <a:rect l="textAreaLeft" t="textAreaTop" r="textAreaRight" b="textAreaBottom"/>
              <a:pathLst>
                <a:path w="1056" h="1238">
                  <a:moveTo>
                    <a:pt x="797" y="22"/>
                  </a:moveTo>
                  <a:lnTo>
                    <a:pt x="793" y="28"/>
                  </a:lnTo>
                  <a:lnTo>
                    <a:pt x="783" y="48"/>
                  </a:lnTo>
                  <a:lnTo>
                    <a:pt x="777" y="61"/>
                  </a:lnTo>
                  <a:lnTo>
                    <a:pt x="773" y="75"/>
                  </a:lnTo>
                  <a:lnTo>
                    <a:pt x="769" y="92"/>
                  </a:lnTo>
                  <a:lnTo>
                    <a:pt x="765" y="108"/>
                  </a:lnTo>
                  <a:lnTo>
                    <a:pt x="764" y="117"/>
                  </a:lnTo>
                  <a:lnTo>
                    <a:pt x="764" y="124"/>
                  </a:lnTo>
                  <a:lnTo>
                    <a:pt x="765" y="133"/>
                  </a:lnTo>
                  <a:lnTo>
                    <a:pt x="766" y="142"/>
                  </a:lnTo>
                  <a:lnTo>
                    <a:pt x="769" y="149"/>
                  </a:lnTo>
                  <a:lnTo>
                    <a:pt x="771" y="157"/>
                  </a:lnTo>
                  <a:lnTo>
                    <a:pt x="774" y="165"/>
                  </a:lnTo>
                  <a:lnTo>
                    <a:pt x="779" y="172"/>
                  </a:lnTo>
                  <a:lnTo>
                    <a:pt x="785" y="179"/>
                  </a:lnTo>
                  <a:lnTo>
                    <a:pt x="791" y="185"/>
                  </a:lnTo>
                  <a:lnTo>
                    <a:pt x="800" y="191"/>
                  </a:lnTo>
                  <a:lnTo>
                    <a:pt x="809" y="196"/>
                  </a:lnTo>
                  <a:lnTo>
                    <a:pt x="820" y="201"/>
                  </a:lnTo>
                  <a:lnTo>
                    <a:pt x="832" y="205"/>
                  </a:lnTo>
                  <a:lnTo>
                    <a:pt x="845" y="208"/>
                  </a:lnTo>
                  <a:lnTo>
                    <a:pt x="860" y="210"/>
                  </a:lnTo>
                  <a:lnTo>
                    <a:pt x="867" y="207"/>
                  </a:lnTo>
                  <a:lnTo>
                    <a:pt x="886" y="200"/>
                  </a:lnTo>
                  <a:lnTo>
                    <a:pt x="898" y="195"/>
                  </a:lnTo>
                  <a:lnTo>
                    <a:pt x="911" y="191"/>
                  </a:lnTo>
                  <a:lnTo>
                    <a:pt x="927" y="186"/>
                  </a:lnTo>
                  <a:lnTo>
                    <a:pt x="941" y="184"/>
                  </a:lnTo>
                  <a:lnTo>
                    <a:pt x="956" y="183"/>
                  </a:lnTo>
                  <a:lnTo>
                    <a:pt x="969" y="184"/>
                  </a:lnTo>
                  <a:lnTo>
                    <a:pt x="976" y="185"/>
                  </a:lnTo>
                  <a:lnTo>
                    <a:pt x="982" y="186"/>
                  </a:lnTo>
                  <a:lnTo>
                    <a:pt x="988" y="190"/>
                  </a:lnTo>
                  <a:lnTo>
                    <a:pt x="993" y="193"/>
                  </a:lnTo>
                  <a:lnTo>
                    <a:pt x="997" y="196"/>
                  </a:lnTo>
                  <a:lnTo>
                    <a:pt x="1001" y="202"/>
                  </a:lnTo>
                  <a:lnTo>
                    <a:pt x="1004" y="207"/>
                  </a:lnTo>
                  <a:lnTo>
                    <a:pt x="1006" y="215"/>
                  </a:lnTo>
                  <a:lnTo>
                    <a:pt x="1008" y="222"/>
                  </a:lnTo>
                  <a:lnTo>
                    <a:pt x="1008" y="231"/>
                  </a:lnTo>
                  <a:lnTo>
                    <a:pt x="1008" y="241"/>
                  </a:lnTo>
                  <a:lnTo>
                    <a:pt x="1007" y="252"/>
                  </a:lnTo>
                  <a:lnTo>
                    <a:pt x="1016" y="256"/>
                  </a:lnTo>
                  <a:lnTo>
                    <a:pt x="1024" y="262"/>
                  </a:lnTo>
                  <a:lnTo>
                    <a:pt x="1029" y="267"/>
                  </a:lnTo>
                  <a:lnTo>
                    <a:pt x="1034" y="273"/>
                  </a:lnTo>
                  <a:lnTo>
                    <a:pt x="1038" y="279"/>
                  </a:lnTo>
                  <a:lnTo>
                    <a:pt x="1040" y="286"/>
                  </a:lnTo>
                  <a:lnTo>
                    <a:pt x="1041" y="292"/>
                  </a:lnTo>
                  <a:lnTo>
                    <a:pt x="1041" y="300"/>
                  </a:lnTo>
                  <a:lnTo>
                    <a:pt x="1040" y="307"/>
                  </a:lnTo>
                  <a:lnTo>
                    <a:pt x="1039" y="315"/>
                  </a:lnTo>
                  <a:lnTo>
                    <a:pt x="1036" y="323"/>
                  </a:lnTo>
                  <a:lnTo>
                    <a:pt x="1033" y="330"/>
                  </a:lnTo>
                  <a:lnTo>
                    <a:pt x="1025" y="347"/>
                  </a:lnTo>
                  <a:lnTo>
                    <a:pt x="1015" y="362"/>
                  </a:lnTo>
                  <a:lnTo>
                    <a:pt x="1003" y="378"/>
                  </a:lnTo>
                  <a:lnTo>
                    <a:pt x="991" y="392"/>
                  </a:lnTo>
                  <a:lnTo>
                    <a:pt x="980" y="406"/>
                  </a:lnTo>
                  <a:lnTo>
                    <a:pt x="968" y="418"/>
                  </a:lnTo>
                  <a:lnTo>
                    <a:pt x="951" y="435"/>
                  </a:lnTo>
                  <a:lnTo>
                    <a:pt x="944" y="442"/>
                  </a:lnTo>
                  <a:lnTo>
                    <a:pt x="949" y="447"/>
                  </a:lnTo>
                  <a:lnTo>
                    <a:pt x="966" y="462"/>
                  </a:lnTo>
                  <a:lnTo>
                    <a:pt x="977" y="473"/>
                  </a:lnTo>
                  <a:lnTo>
                    <a:pt x="988" y="486"/>
                  </a:lnTo>
                  <a:lnTo>
                    <a:pt x="1000" y="501"/>
                  </a:lnTo>
                  <a:lnTo>
                    <a:pt x="1012" y="517"/>
                  </a:lnTo>
                  <a:lnTo>
                    <a:pt x="1024" y="534"/>
                  </a:lnTo>
                  <a:lnTo>
                    <a:pt x="1033" y="553"/>
                  </a:lnTo>
                  <a:lnTo>
                    <a:pt x="1043" y="572"/>
                  </a:lnTo>
                  <a:lnTo>
                    <a:pt x="1050" y="592"/>
                  </a:lnTo>
                  <a:lnTo>
                    <a:pt x="1053" y="602"/>
                  </a:lnTo>
                  <a:lnTo>
                    <a:pt x="1054" y="612"/>
                  </a:lnTo>
                  <a:lnTo>
                    <a:pt x="1056" y="621"/>
                  </a:lnTo>
                  <a:lnTo>
                    <a:pt x="1056" y="632"/>
                  </a:lnTo>
                  <a:lnTo>
                    <a:pt x="1056" y="642"/>
                  </a:lnTo>
                  <a:lnTo>
                    <a:pt x="1054" y="652"/>
                  </a:lnTo>
                  <a:lnTo>
                    <a:pt x="1052" y="662"/>
                  </a:lnTo>
                  <a:lnTo>
                    <a:pt x="1049" y="671"/>
                  </a:lnTo>
                  <a:lnTo>
                    <a:pt x="1049" y="683"/>
                  </a:lnTo>
                  <a:lnTo>
                    <a:pt x="1046" y="714"/>
                  </a:lnTo>
                  <a:lnTo>
                    <a:pt x="1043" y="734"/>
                  </a:lnTo>
                  <a:lnTo>
                    <a:pt x="1040" y="755"/>
                  </a:lnTo>
                  <a:lnTo>
                    <a:pt x="1034" y="777"/>
                  </a:lnTo>
                  <a:lnTo>
                    <a:pt x="1028" y="800"/>
                  </a:lnTo>
                  <a:lnTo>
                    <a:pt x="1024" y="812"/>
                  </a:lnTo>
                  <a:lnTo>
                    <a:pt x="1019" y="823"/>
                  </a:lnTo>
                  <a:lnTo>
                    <a:pt x="1014" y="833"/>
                  </a:lnTo>
                  <a:lnTo>
                    <a:pt x="1007" y="843"/>
                  </a:lnTo>
                  <a:lnTo>
                    <a:pt x="1001" y="852"/>
                  </a:lnTo>
                  <a:lnTo>
                    <a:pt x="994" y="861"/>
                  </a:lnTo>
                  <a:lnTo>
                    <a:pt x="987" y="869"/>
                  </a:lnTo>
                  <a:lnTo>
                    <a:pt x="978" y="875"/>
                  </a:lnTo>
                  <a:lnTo>
                    <a:pt x="969" y="882"/>
                  </a:lnTo>
                  <a:lnTo>
                    <a:pt x="958" y="886"/>
                  </a:lnTo>
                  <a:lnTo>
                    <a:pt x="947" y="889"/>
                  </a:lnTo>
                  <a:lnTo>
                    <a:pt x="936" y="891"/>
                  </a:lnTo>
                  <a:lnTo>
                    <a:pt x="923" y="892"/>
                  </a:lnTo>
                  <a:lnTo>
                    <a:pt x="910" y="889"/>
                  </a:lnTo>
                  <a:lnTo>
                    <a:pt x="896" y="886"/>
                  </a:lnTo>
                  <a:lnTo>
                    <a:pt x="881" y="882"/>
                  </a:lnTo>
                  <a:lnTo>
                    <a:pt x="870" y="891"/>
                  </a:lnTo>
                  <a:lnTo>
                    <a:pt x="859" y="897"/>
                  </a:lnTo>
                  <a:lnTo>
                    <a:pt x="849" y="901"/>
                  </a:lnTo>
                  <a:lnTo>
                    <a:pt x="839" y="904"/>
                  </a:lnTo>
                  <a:lnTo>
                    <a:pt x="832" y="905"/>
                  </a:lnTo>
                  <a:lnTo>
                    <a:pt x="823" y="905"/>
                  </a:lnTo>
                  <a:lnTo>
                    <a:pt x="817" y="903"/>
                  </a:lnTo>
                  <a:lnTo>
                    <a:pt x="809" y="899"/>
                  </a:lnTo>
                  <a:lnTo>
                    <a:pt x="802" y="895"/>
                  </a:lnTo>
                  <a:lnTo>
                    <a:pt x="796" y="891"/>
                  </a:lnTo>
                  <a:lnTo>
                    <a:pt x="790" y="884"/>
                  </a:lnTo>
                  <a:lnTo>
                    <a:pt x="785" y="879"/>
                  </a:lnTo>
                  <a:lnTo>
                    <a:pt x="774" y="864"/>
                  </a:lnTo>
                  <a:lnTo>
                    <a:pt x="763" y="850"/>
                  </a:lnTo>
                  <a:lnTo>
                    <a:pt x="752" y="837"/>
                  </a:lnTo>
                  <a:lnTo>
                    <a:pt x="740" y="826"/>
                  </a:lnTo>
                  <a:lnTo>
                    <a:pt x="734" y="822"/>
                  </a:lnTo>
                  <a:lnTo>
                    <a:pt x="727" y="820"/>
                  </a:lnTo>
                  <a:lnTo>
                    <a:pt x="721" y="818"/>
                  </a:lnTo>
                  <a:lnTo>
                    <a:pt x="713" y="816"/>
                  </a:lnTo>
                  <a:lnTo>
                    <a:pt x="704" y="818"/>
                  </a:lnTo>
                  <a:lnTo>
                    <a:pt x="696" y="821"/>
                  </a:lnTo>
                  <a:lnTo>
                    <a:pt x="687" y="825"/>
                  </a:lnTo>
                  <a:lnTo>
                    <a:pt x="677" y="832"/>
                  </a:lnTo>
                  <a:lnTo>
                    <a:pt x="666" y="840"/>
                  </a:lnTo>
                  <a:lnTo>
                    <a:pt x="655" y="851"/>
                  </a:lnTo>
                  <a:lnTo>
                    <a:pt x="642" y="866"/>
                  </a:lnTo>
                  <a:lnTo>
                    <a:pt x="629" y="882"/>
                  </a:lnTo>
                  <a:lnTo>
                    <a:pt x="623" y="882"/>
                  </a:lnTo>
                  <a:lnTo>
                    <a:pt x="605" y="886"/>
                  </a:lnTo>
                  <a:lnTo>
                    <a:pt x="594" y="889"/>
                  </a:lnTo>
                  <a:lnTo>
                    <a:pt x="583" y="895"/>
                  </a:lnTo>
                  <a:lnTo>
                    <a:pt x="578" y="898"/>
                  </a:lnTo>
                  <a:lnTo>
                    <a:pt x="573" y="903"/>
                  </a:lnTo>
                  <a:lnTo>
                    <a:pt x="568" y="908"/>
                  </a:lnTo>
                  <a:lnTo>
                    <a:pt x="564" y="913"/>
                  </a:lnTo>
                  <a:lnTo>
                    <a:pt x="559" y="920"/>
                  </a:lnTo>
                  <a:lnTo>
                    <a:pt x="556" y="927"/>
                  </a:lnTo>
                  <a:lnTo>
                    <a:pt x="553" y="934"/>
                  </a:lnTo>
                  <a:lnTo>
                    <a:pt x="551" y="943"/>
                  </a:lnTo>
                  <a:lnTo>
                    <a:pt x="548" y="953"/>
                  </a:lnTo>
                  <a:lnTo>
                    <a:pt x="547" y="964"/>
                  </a:lnTo>
                  <a:lnTo>
                    <a:pt x="548" y="976"/>
                  </a:lnTo>
                  <a:lnTo>
                    <a:pt x="549" y="988"/>
                  </a:lnTo>
                  <a:lnTo>
                    <a:pt x="552" y="1002"/>
                  </a:lnTo>
                  <a:lnTo>
                    <a:pt x="555" y="1017"/>
                  </a:lnTo>
                  <a:lnTo>
                    <a:pt x="560" y="1033"/>
                  </a:lnTo>
                  <a:lnTo>
                    <a:pt x="567" y="1051"/>
                  </a:lnTo>
                  <a:lnTo>
                    <a:pt x="575" y="1069"/>
                  </a:lnTo>
                  <a:lnTo>
                    <a:pt x="584" y="1089"/>
                  </a:lnTo>
                  <a:lnTo>
                    <a:pt x="595" y="1111"/>
                  </a:lnTo>
                  <a:lnTo>
                    <a:pt x="608" y="1134"/>
                  </a:lnTo>
                  <a:lnTo>
                    <a:pt x="604" y="1130"/>
                  </a:lnTo>
                  <a:lnTo>
                    <a:pt x="593" y="1124"/>
                  </a:lnTo>
                  <a:lnTo>
                    <a:pt x="585" y="1119"/>
                  </a:lnTo>
                  <a:lnTo>
                    <a:pt x="576" y="1117"/>
                  </a:lnTo>
                  <a:lnTo>
                    <a:pt x="565" y="1115"/>
                  </a:lnTo>
                  <a:lnTo>
                    <a:pt x="553" y="1115"/>
                  </a:lnTo>
                  <a:lnTo>
                    <a:pt x="546" y="1116"/>
                  </a:lnTo>
                  <a:lnTo>
                    <a:pt x="540" y="1117"/>
                  </a:lnTo>
                  <a:lnTo>
                    <a:pt x="532" y="1119"/>
                  </a:lnTo>
                  <a:lnTo>
                    <a:pt x="526" y="1123"/>
                  </a:lnTo>
                  <a:lnTo>
                    <a:pt x="518" y="1126"/>
                  </a:lnTo>
                  <a:lnTo>
                    <a:pt x="509" y="1130"/>
                  </a:lnTo>
                  <a:lnTo>
                    <a:pt x="502" y="1136"/>
                  </a:lnTo>
                  <a:lnTo>
                    <a:pt x="493" y="1142"/>
                  </a:lnTo>
                  <a:lnTo>
                    <a:pt x="484" y="1150"/>
                  </a:lnTo>
                  <a:lnTo>
                    <a:pt x="475" y="1159"/>
                  </a:lnTo>
                  <a:lnTo>
                    <a:pt x="467" y="1169"/>
                  </a:lnTo>
                  <a:lnTo>
                    <a:pt x="458" y="1179"/>
                  </a:lnTo>
                  <a:lnTo>
                    <a:pt x="448" y="1193"/>
                  </a:lnTo>
                  <a:lnTo>
                    <a:pt x="438" y="1207"/>
                  </a:lnTo>
                  <a:lnTo>
                    <a:pt x="429" y="1222"/>
                  </a:lnTo>
                  <a:lnTo>
                    <a:pt x="420" y="1238"/>
                  </a:lnTo>
                  <a:lnTo>
                    <a:pt x="400" y="1220"/>
                  </a:lnTo>
                  <a:lnTo>
                    <a:pt x="377" y="1197"/>
                  </a:lnTo>
                  <a:lnTo>
                    <a:pt x="354" y="1174"/>
                  </a:lnTo>
                  <a:lnTo>
                    <a:pt x="336" y="1154"/>
                  </a:lnTo>
                  <a:lnTo>
                    <a:pt x="329" y="1134"/>
                  </a:lnTo>
                  <a:lnTo>
                    <a:pt x="322" y="1113"/>
                  </a:lnTo>
                  <a:lnTo>
                    <a:pt x="313" y="1094"/>
                  </a:lnTo>
                  <a:lnTo>
                    <a:pt x="303" y="1076"/>
                  </a:lnTo>
                  <a:lnTo>
                    <a:pt x="292" y="1058"/>
                  </a:lnTo>
                  <a:lnTo>
                    <a:pt x="281" y="1042"/>
                  </a:lnTo>
                  <a:lnTo>
                    <a:pt x="269" y="1026"/>
                  </a:lnTo>
                  <a:lnTo>
                    <a:pt x="256" y="1010"/>
                  </a:lnTo>
                  <a:lnTo>
                    <a:pt x="229" y="981"/>
                  </a:lnTo>
                  <a:lnTo>
                    <a:pt x="202" y="953"/>
                  </a:lnTo>
                  <a:lnTo>
                    <a:pt x="172" y="925"/>
                  </a:lnTo>
                  <a:lnTo>
                    <a:pt x="144" y="897"/>
                  </a:lnTo>
                  <a:lnTo>
                    <a:pt x="116" y="870"/>
                  </a:lnTo>
                  <a:lnTo>
                    <a:pt x="90" y="840"/>
                  </a:lnTo>
                  <a:lnTo>
                    <a:pt x="77" y="825"/>
                  </a:lnTo>
                  <a:lnTo>
                    <a:pt x="65" y="810"/>
                  </a:lnTo>
                  <a:lnTo>
                    <a:pt x="54" y="794"/>
                  </a:lnTo>
                  <a:lnTo>
                    <a:pt x="44" y="777"/>
                  </a:lnTo>
                  <a:lnTo>
                    <a:pt x="34" y="760"/>
                  </a:lnTo>
                  <a:lnTo>
                    <a:pt x="25" y="741"/>
                  </a:lnTo>
                  <a:lnTo>
                    <a:pt x="18" y="722"/>
                  </a:lnTo>
                  <a:lnTo>
                    <a:pt x="11" y="701"/>
                  </a:lnTo>
                  <a:lnTo>
                    <a:pt x="7" y="680"/>
                  </a:lnTo>
                  <a:lnTo>
                    <a:pt x="2" y="657"/>
                  </a:lnTo>
                  <a:lnTo>
                    <a:pt x="0" y="634"/>
                  </a:lnTo>
                  <a:lnTo>
                    <a:pt x="0" y="609"/>
                  </a:lnTo>
                  <a:lnTo>
                    <a:pt x="0" y="594"/>
                  </a:lnTo>
                  <a:lnTo>
                    <a:pt x="2" y="580"/>
                  </a:lnTo>
                  <a:lnTo>
                    <a:pt x="5" y="566"/>
                  </a:lnTo>
                  <a:lnTo>
                    <a:pt x="9" y="554"/>
                  </a:lnTo>
                  <a:lnTo>
                    <a:pt x="13" y="542"/>
                  </a:lnTo>
                  <a:lnTo>
                    <a:pt x="19" y="530"/>
                  </a:lnTo>
                  <a:lnTo>
                    <a:pt x="24" y="519"/>
                  </a:lnTo>
                  <a:lnTo>
                    <a:pt x="32" y="509"/>
                  </a:lnTo>
                  <a:lnTo>
                    <a:pt x="46" y="489"/>
                  </a:lnTo>
                  <a:lnTo>
                    <a:pt x="62" y="472"/>
                  </a:lnTo>
                  <a:lnTo>
                    <a:pt x="80" y="456"/>
                  </a:lnTo>
                  <a:lnTo>
                    <a:pt x="97" y="438"/>
                  </a:lnTo>
                  <a:lnTo>
                    <a:pt x="112" y="422"/>
                  </a:lnTo>
                  <a:lnTo>
                    <a:pt x="128" y="404"/>
                  </a:lnTo>
                  <a:lnTo>
                    <a:pt x="134" y="395"/>
                  </a:lnTo>
                  <a:lnTo>
                    <a:pt x="141" y="385"/>
                  </a:lnTo>
                  <a:lnTo>
                    <a:pt x="145" y="375"/>
                  </a:lnTo>
                  <a:lnTo>
                    <a:pt x="151" y="364"/>
                  </a:lnTo>
                  <a:lnTo>
                    <a:pt x="154" y="353"/>
                  </a:lnTo>
                  <a:lnTo>
                    <a:pt x="156" y="341"/>
                  </a:lnTo>
                  <a:lnTo>
                    <a:pt x="158" y="328"/>
                  </a:lnTo>
                  <a:lnTo>
                    <a:pt x="158" y="315"/>
                  </a:lnTo>
                  <a:lnTo>
                    <a:pt x="157" y="301"/>
                  </a:lnTo>
                  <a:lnTo>
                    <a:pt x="155" y="286"/>
                  </a:lnTo>
                  <a:lnTo>
                    <a:pt x="152" y="269"/>
                  </a:lnTo>
                  <a:lnTo>
                    <a:pt x="146" y="252"/>
                  </a:lnTo>
                  <a:lnTo>
                    <a:pt x="193" y="256"/>
                  </a:lnTo>
                  <a:lnTo>
                    <a:pt x="237" y="258"/>
                  </a:lnTo>
                  <a:lnTo>
                    <a:pt x="276" y="261"/>
                  </a:lnTo>
                  <a:lnTo>
                    <a:pt x="312" y="262"/>
                  </a:lnTo>
                  <a:lnTo>
                    <a:pt x="344" y="262"/>
                  </a:lnTo>
                  <a:lnTo>
                    <a:pt x="372" y="261"/>
                  </a:lnTo>
                  <a:lnTo>
                    <a:pt x="398" y="259"/>
                  </a:lnTo>
                  <a:lnTo>
                    <a:pt x="420" y="257"/>
                  </a:lnTo>
                  <a:lnTo>
                    <a:pt x="439" y="254"/>
                  </a:lnTo>
                  <a:lnTo>
                    <a:pt x="457" y="251"/>
                  </a:lnTo>
                  <a:lnTo>
                    <a:pt x="471" y="246"/>
                  </a:lnTo>
                  <a:lnTo>
                    <a:pt x="483" y="241"/>
                  </a:lnTo>
                  <a:lnTo>
                    <a:pt x="493" y="235"/>
                  </a:lnTo>
                  <a:lnTo>
                    <a:pt x="500" y="228"/>
                  </a:lnTo>
                  <a:lnTo>
                    <a:pt x="507" y="221"/>
                  </a:lnTo>
                  <a:lnTo>
                    <a:pt x="511" y="213"/>
                  </a:lnTo>
                  <a:lnTo>
                    <a:pt x="514" y="204"/>
                  </a:lnTo>
                  <a:lnTo>
                    <a:pt x="515" y="195"/>
                  </a:lnTo>
                  <a:lnTo>
                    <a:pt x="516" y="185"/>
                  </a:lnTo>
                  <a:lnTo>
                    <a:pt x="515" y="174"/>
                  </a:lnTo>
                  <a:lnTo>
                    <a:pt x="510" y="152"/>
                  </a:lnTo>
                  <a:lnTo>
                    <a:pt x="504" y="125"/>
                  </a:lnTo>
                  <a:lnTo>
                    <a:pt x="496" y="97"/>
                  </a:lnTo>
                  <a:lnTo>
                    <a:pt x="490" y="68"/>
                  </a:lnTo>
                  <a:lnTo>
                    <a:pt x="486" y="51"/>
                  </a:lnTo>
                  <a:lnTo>
                    <a:pt x="484" y="35"/>
                  </a:lnTo>
                  <a:lnTo>
                    <a:pt x="483" y="17"/>
                  </a:lnTo>
                  <a:lnTo>
                    <a:pt x="482" y="0"/>
                  </a:lnTo>
                  <a:lnTo>
                    <a:pt x="797" y="22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Freeform 12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Freeform 13"/>
            <p:cNvSpPr/>
            <p:nvPr/>
          </p:nvSpPr>
          <p:spPr>
            <a:xfrm>
              <a:off x="4433760" y="2546280"/>
              <a:ext cx="639360" cy="931680"/>
            </a:xfrm>
            <a:custGeom>
              <a:avLst/>
              <a:gdLst>
                <a:gd name="textAreaLeft" fmla="*/ 0 w 639360"/>
                <a:gd name="textAreaRight" fmla="*/ 639720 w 639360"/>
                <a:gd name="textAreaTop" fmla="*/ 0 h 931680"/>
                <a:gd name="textAreaBottom" fmla="*/ 932040 h 931680"/>
              </a:gdLst>
              <a:ahLst/>
              <a:rect l="textAreaLeft" t="textAreaTop" r="textAreaRight" b="textAreaBottom"/>
              <a:pathLst>
                <a:path w="1762" h="3105">
                  <a:moveTo>
                    <a:pt x="252" y="84"/>
                  </a:moveTo>
                  <a:lnTo>
                    <a:pt x="231" y="335"/>
                  </a:lnTo>
                  <a:lnTo>
                    <a:pt x="247" y="363"/>
                  </a:lnTo>
                  <a:lnTo>
                    <a:pt x="263" y="388"/>
                  </a:lnTo>
                  <a:lnTo>
                    <a:pt x="276" y="412"/>
                  </a:lnTo>
                  <a:lnTo>
                    <a:pt x="289" y="434"/>
                  </a:lnTo>
                  <a:lnTo>
                    <a:pt x="299" y="454"/>
                  </a:lnTo>
                  <a:lnTo>
                    <a:pt x="309" y="475"/>
                  </a:lnTo>
                  <a:lnTo>
                    <a:pt x="316" y="494"/>
                  </a:lnTo>
                  <a:lnTo>
                    <a:pt x="324" y="511"/>
                  </a:lnTo>
                  <a:lnTo>
                    <a:pt x="329" y="527"/>
                  </a:lnTo>
                  <a:lnTo>
                    <a:pt x="334" y="543"/>
                  </a:lnTo>
                  <a:lnTo>
                    <a:pt x="337" y="557"/>
                  </a:lnTo>
                  <a:lnTo>
                    <a:pt x="340" y="571"/>
                  </a:lnTo>
                  <a:lnTo>
                    <a:pt x="342" y="584"/>
                  </a:lnTo>
                  <a:lnTo>
                    <a:pt x="343" y="596"/>
                  </a:lnTo>
                  <a:lnTo>
                    <a:pt x="343" y="608"/>
                  </a:lnTo>
                  <a:lnTo>
                    <a:pt x="343" y="619"/>
                  </a:lnTo>
                  <a:lnTo>
                    <a:pt x="341" y="640"/>
                  </a:lnTo>
                  <a:lnTo>
                    <a:pt x="338" y="659"/>
                  </a:lnTo>
                  <a:lnTo>
                    <a:pt x="334" y="678"/>
                  </a:lnTo>
                  <a:lnTo>
                    <a:pt x="328" y="695"/>
                  </a:lnTo>
                  <a:lnTo>
                    <a:pt x="323" y="714"/>
                  </a:lnTo>
                  <a:lnTo>
                    <a:pt x="318" y="733"/>
                  </a:lnTo>
                  <a:lnTo>
                    <a:pt x="316" y="754"/>
                  </a:lnTo>
                  <a:lnTo>
                    <a:pt x="315" y="776"/>
                  </a:lnTo>
                  <a:lnTo>
                    <a:pt x="316" y="912"/>
                  </a:lnTo>
                  <a:lnTo>
                    <a:pt x="318" y="1023"/>
                  </a:lnTo>
                  <a:lnTo>
                    <a:pt x="318" y="1072"/>
                  </a:lnTo>
                  <a:lnTo>
                    <a:pt x="317" y="1116"/>
                  </a:lnTo>
                  <a:lnTo>
                    <a:pt x="316" y="1137"/>
                  </a:lnTo>
                  <a:lnTo>
                    <a:pt x="314" y="1157"/>
                  </a:lnTo>
                  <a:lnTo>
                    <a:pt x="312" y="1177"/>
                  </a:lnTo>
                  <a:lnTo>
                    <a:pt x="310" y="1196"/>
                  </a:lnTo>
                  <a:lnTo>
                    <a:pt x="306" y="1214"/>
                  </a:lnTo>
                  <a:lnTo>
                    <a:pt x="302" y="1233"/>
                  </a:lnTo>
                  <a:lnTo>
                    <a:pt x="298" y="1250"/>
                  </a:lnTo>
                  <a:lnTo>
                    <a:pt x="292" y="1267"/>
                  </a:lnTo>
                  <a:lnTo>
                    <a:pt x="286" y="1285"/>
                  </a:lnTo>
                  <a:lnTo>
                    <a:pt x="279" y="1302"/>
                  </a:lnTo>
                  <a:lnTo>
                    <a:pt x="270" y="1320"/>
                  </a:lnTo>
                  <a:lnTo>
                    <a:pt x="262" y="1337"/>
                  </a:lnTo>
                  <a:lnTo>
                    <a:pt x="251" y="1355"/>
                  </a:lnTo>
                  <a:lnTo>
                    <a:pt x="240" y="1372"/>
                  </a:lnTo>
                  <a:lnTo>
                    <a:pt x="228" y="1391"/>
                  </a:lnTo>
                  <a:lnTo>
                    <a:pt x="214" y="1409"/>
                  </a:lnTo>
                  <a:lnTo>
                    <a:pt x="200" y="1428"/>
                  </a:lnTo>
                  <a:lnTo>
                    <a:pt x="183" y="1448"/>
                  </a:lnTo>
                  <a:lnTo>
                    <a:pt x="166" y="1468"/>
                  </a:lnTo>
                  <a:lnTo>
                    <a:pt x="147" y="1490"/>
                  </a:lnTo>
                  <a:lnTo>
                    <a:pt x="135" y="1502"/>
                  </a:lnTo>
                  <a:lnTo>
                    <a:pt x="124" y="1515"/>
                  </a:lnTo>
                  <a:lnTo>
                    <a:pt x="115" y="1529"/>
                  </a:lnTo>
                  <a:lnTo>
                    <a:pt x="106" y="1543"/>
                  </a:lnTo>
                  <a:lnTo>
                    <a:pt x="97" y="1557"/>
                  </a:lnTo>
                  <a:lnTo>
                    <a:pt x="89" y="1574"/>
                  </a:lnTo>
                  <a:lnTo>
                    <a:pt x="83" y="1589"/>
                  </a:lnTo>
                  <a:lnTo>
                    <a:pt x="76" y="1605"/>
                  </a:lnTo>
                  <a:lnTo>
                    <a:pt x="65" y="1638"/>
                  </a:lnTo>
                  <a:lnTo>
                    <a:pt x="56" y="1672"/>
                  </a:lnTo>
                  <a:lnTo>
                    <a:pt x="48" y="1706"/>
                  </a:lnTo>
                  <a:lnTo>
                    <a:pt x="42" y="1738"/>
                  </a:lnTo>
                  <a:lnTo>
                    <a:pt x="32" y="1800"/>
                  </a:lnTo>
                  <a:lnTo>
                    <a:pt x="23" y="1853"/>
                  </a:lnTo>
                  <a:lnTo>
                    <a:pt x="19" y="1873"/>
                  </a:lnTo>
                  <a:lnTo>
                    <a:pt x="13" y="1890"/>
                  </a:lnTo>
                  <a:lnTo>
                    <a:pt x="10" y="1897"/>
                  </a:lnTo>
                  <a:lnTo>
                    <a:pt x="7" y="1903"/>
                  </a:lnTo>
                  <a:lnTo>
                    <a:pt x="3" y="1906"/>
                  </a:lnTo>
                  <a:lnTo>
                    <a:pt x="0" y="1909"/>
                  </a:lnTo>
                  <a:lnTo>
                    <a:pt x="15" y="1931"/>
                  </a:lnTo>
                  <a:lnTo>
                    <a:pt x="31" y="1950"/>
                  </a:lnTo>
                  <a:lnTo>
                    <a:pt x="45" y="1966"/>
                  </a:lnTo>
                  <a:lnTo>
                    <a:pt x="58" y="1980"/>
                  </a:lnTo>
                  <a:lnTo>
                    <a:pt x="69" y="1993"/>
                  </a:lnTo>
                  <a:lnTo>
                    <a:pt x="76" y="2006"/>
                  </a:lnTo>
                  <a:lnTo>
                    <a:pt x="80" y="2013"/>
                  </a:lnTo>
                  <a:lnTo>
                    <a:pt x="82" y="2021"/>
                  </a:lnTo>
                  <a:lnTo>
                    <a:pt x="83" y="2027"/>
                  </a:lnTo>
                  <a:lnTo>
                    <a:pt x="84" y="2035"/>
                  </a:lnTo>
                  <a:lnTo>
                    <a:pt x="87" y="2037"/>
                  </a:lnTo>
                  <a:lnTo>
                    <a:pt x="98" y="2041"/>
                  </a:lnTo>
                  <a:lnTo>
                    <a:pt x="115" y="2049"/>
                  </a:lnTo>
                  <a:lnTo>
                    <a:pt x="136" y="2057"/>
                  </a:lnTo>
                  <a:lnTo>
                    <a:pt x="161" y="2064"/>
                  </a:lnTo>
                  <a:lnTo>
                    <a:pt x="190" y="2071"/>
                  </a:lnTo>
                  <a:lnTo>
                    <a:pt x="205" y="2073"/>
                  </a:lnTo>
                  <a:lnTo>
                    <a:pt x="220" y="2075"/>
                  </a:lnTo>
                  <a:lnTo>
                    <a:pt x="235" y="2076"/>
                  </a:lnTo>
                  <a:lnTo>
                    <a:pt x="252" y="2077"/>
                  </a:lnTo>
                  <a:lnTo>
                    <a:pt x="249" y="2082"/>
                  </a:lnTo>
                  <a:lnTo>
                    <a:pt x="245" y="2086"/>
                  </a:lnTo>
                  <a:lnTo>
                    <a:pt x="244" y="2091"/>
                  </a:lnTo>
                  <a:lnTo>
                    <a:pt x="243" y="2097"/>
                  </a:lnTo>
                  <a:lnTo>
                    <a:pt x="242" y="2110"/>
                  </a:lnTo>
                  <a:lnTo>
                    <a:pt x="244" y="2124"/>
                  </a:lnTo>
                  <a:lnTo>
                    <a:pt x="246" y="2141"/>
                  </a:lnTo>
                  <a:lnTo>
                    <a:pt x="249" y="2160"/>
                  </a:lnTo>
                  <a:lnTo>
                    <a:pt x="251" y="2181"/>
                  </a:lnTo>
                  <a:lnTo>
                    <a:pt x="252" y="2203"/>
                  </a:lnTo>
                  <a:lnTo>
                    <a:pt x="252" y="2234"/>
                  </a:lnTo>
                  <a:lnTo>
                    <a:pt x="254" y="2267"/>
                  </a:lnTo>
                  <a:lnTo>
                    <a:pt x="256" y="2299"/>
                  </a:lnTo>
                  <a:lnTo>
                    <a:pt x="259" y="2330"/>
                  </a:lnTo>
                  <a:lnTo>
                    <a:pt x="263" y="2362"/>
                  </a:lnTo>
                  <a:lnTo>
                    <a:pt x="268" y="2392"/>
                  </a:lnTo>
                  <a:lnTo>
                    <a:pt x="274" y="2422"/>
                  </a:lnTo>
                  <a:lnTo>
                    <a:pt x="280" y="2450"/>
                  </a:lnTo>
                  <a:lnTo>
                    <a:pt x="288" y="2476"/>
                  </a:lnTo>
                  <a:lnTo>
                    <a:pt x="295" y="2501"/>
                  </a:lnTo>
                  <a:lnTo>
                    <a:pt x="304" y="2524"/>
                  </a:lnTo>
                  <a:lnTo>
                    <a:pt x="314" y="2545"/>
                  </a:lnTo>
                  <a:lnTo>
                    <a:pt x="324" y="2563"/>
                  </a:lnTo>
                  <a:lnTo>
                    <a:pt x="334" y="2580"/>
                  </a:lnTo>
                  <a:lnTo>
                    <a:pt x="339" y="2586"/>
                  </a:lnTo>
                  <a:lnTo>
                    <a:pt x="344" y="2592"/>
                  </a:lnTo>
                  <a:lnTo>
                    <a:pt x="351" y="2597"/>
                  </a:lnTo>
                  <a:lnTo>
                    <a:pt x="356" y="2602"/>
                  </a:lnTo>
                  <a:lnTo>
                    <a:pt x="335" y="2601"/>
                  </a:lnTo>
                  <a:lnTo>
                    <a:pt x="303" y="2596"/>
                  </a:lnTo>
                  <a:lnTo>
                    <a:pt x="265" y="2593"/>
                  </a:lnTo>
                  <a:lnTo>
                    <a:pt x="226" y="2591"/>
                  </a:lnTo>
                  <a:lnTo>
                    <a:pt x="206" y="2592"/>
                  </a:lnTo>
                  <a:lnTo>
                    <a:pt x="188" y="2594"/>
                  </a:lnTo>
                  <a:lnTo>
                    <a:pt x="171" y="2597"/>
                  </a:lnTo>
                  <a:lnTo>
                    <a:pt x="156" y="2602"/>
                  </a:lnTo>
                  <a:lnTo>
                    <a:pt x="149" y="2605"/>
                  </a:lnTo>
                  <a:lnTo>
                    <a:pt x="143" y="2608"/>
                  </a:lnTo>
                  <a:lnTo>
                    <a:pt x="138" y="2613"/>
                  </a:lnTo>
                  <a:lnTo>
                    <a:pt x="134" y="2618"/>
                  </a:lnTo>
                  <a:lnTo>
                    <a:pt x="131" y="2623"/>
                  </a:lnTo>
                  <a:lnTo>
                    <a:pt x="128" y="2629"/>
                  </a:lnTo>
                  <a:lnTo>
                    <a:pt x="127" y="2636"/>
                  </a:lnTo>
                  <a:lnTo>
                    <a:pt x="125" y="2644"/>
                  </a:lnTo>
                  <a:lnTo>
                    <a:pt x="127" y="2663"/>
                  </a:lnTo>
                  <a:lnTo>
                    <a:pt x="128" y="2681"/>
                  </a:lnTo>
                  <a:lnTo>
                    <a:pt x="131" y="2698"/>
                  </a:lnTo>
                  <a:lnTo>
                    <a:pt x="135" y="2714"/>
                  </a:lnTo>
                  <a:lnTo>
                    <a:pt x="140" y="2728"/>
                  </a:lnTo>
                  <a:lnTo>
                    <a:pt x="145" y="2742"/>
                  </a:lnTo>
                  <a:lnTo>
                    <a:pt x="152" y="2756"/>
                  </a:lnTo>
                  <a:lnTo>
                    <a:pt x="158" y="2769"/>
                  </a:lnTo>
                  <a:lnTo>
                    <a:pt x="166" y="2781"/>
                  </a:lnTo>
                  <a:lnTo>
                    <a:pt x="174" y="2793"/>
                  </a:lnTo>
                  <a:lnTo>
                    <a:pt x="183" y="2804"/>
                  </a:lnTo>
                  <a:lnTo>
                    <a:pt x="192" y="2815"/>
                  </a:lnTo>
                  <a:lnTo>
                    <a:pt x="212" y="2837"/>
                  </a:lnTo>
                  <a:lnTo>
                    <a:pt x="231" y="2859"/>
                  </a:lnTo>
                  <a:lnTo>
                    <a:pt x="250" y="2881"/>
                  </a:lnTo>
                  <a:lnTo>
                    <a:pt x="269" y="2904"/>
                  </a:lnTo>
                  <a:lnTo>
                    <a:pt x="278" y="2917"/>
                  </a:lnTo>
                  <a:lnTo>
                    <a:pt x="287" y="2929"/>
                  </a:lnTo>
                  <a:lnTo>
                    <a:pt x="295" y="2943"/>
                  </a:lnTo>
                  <a:lnTo>
                    <a:pt x="303" y="2957"/>
                  </a:lnTo>
                  <a:lnTo>
                    <a:pt x="310" y="2971"/>
                  </a:lnTo>
                  <a:lnTo>
                    <a:pt x="316" y="2987"/>
                  </a:lnTo>
                  <a:lnTo>
                    <a:pt x="322" y="3004"/>
                  </a:lnTo>
                  <a:lnTo>
                    <a:pt x="327" y="3021"/>
                  </a:lnTo>
                  <a:lnTo>
                    <a:pt x="330" y="3041"/>
                  </a:lnTo>
                  <a:lnTo>
                    <a:pt x="334" y="3060"/>
                  </a:lnTo>
                  <a:lnTo>
                    <a:pt x="335" y="3082"/>
                  </a:lnTo>
                  <a:lnTo>
                    <a:pt x="336" y="3105"/>
                  </a:lnTo>
                  <a:lnTo>
                    <a:pt x="483" y="3105"/>
                  </a:lnTo>
                  <a:lnTo>
                    <a:pt x="498" y="3098"/>
                  </a:lnTo>
                  <a:lnTo>
                    <a:pt x="514" y="3091"/>
                  </a:lnTo>
                  <a:lnTo>
                    <a:pt x="532" y="3086"/>
                  </a:lnTo>
                  <a:lnTo>
                    <a:pt x="548" y="3080"/>
                  </a:lnTo>
                  <a:lnTo>
                    <a:pt x="583" y="3071"/>
                  </a:lnTo>
                  <a:lnTo>
                    <a:pt x="619" y="3064"/>
                  </a:lnTo>
                  <a:lnTo>
                    <a:pt x="689" y="3052"/>
                  </a:lnTo>
                  <a:lnTo>
                    <a:pt x="755" y="3040"/>
                  </a:lnTo>
                  <a:lnTo>
                    <a:pt x="771" y="3037"/>
                  </a:lnTo>
                  <a:lnTo>
                    <a:pt x="786" y="3032"/>
                  </a:lnTo>
                  <a:lnTo>
                    <a:pt x="800" y="3028"/>
                  </a:lnTo>
                  <a:lnTo>
                    <a:pt x="813" y="3022"/>
                  </a:lnTo>
                  <a:lnTo>
                    <a:pt x="826" y="3017"/>
                  </a:lnTo>
                  <a:lnTo>
                    <a:pt x="838" y="3011"/>
                  </a:lnTo>
                  <a:lnTo>
                    <a:pt x="850" y="3004"/>
                  </a:lnTo>
                  <a:lnTo>
                    <a:pt x="860" y="2996"/>
                  </a:lnTo>
                  <a:lnTo>
                    <a:pt x="870" y="2987"/>
                  </a:lnTo>
                  <a:lnTo>
                    <a:pt x="877" y="2978"/>
                  </a:lnTo>
                  <a:lnTo>
                    <a:pt x="885" y="2967"/>
                  </a:lnTo>
                  <a:lnTo>
                    <a:pt x="890" y="2955"/>
                  </a:lnTo>
                  <a:lnTo>
                    <a:pt x="896" y="2943"/>
                  </a:lnTo>
                  <a:lnTo>
                    <a:pt x="899" y="2928"/>
                  </a:lnTo>
                  <a:lnTo>
                    <a:pt x="901" y="2912"/>
                  </a:lnTo>
                  <a:lnTo>
                    <a:pt x="902" y="2896"/>
                  </a:lnTo>
                  <a:lnTo>
                    <a:pt x="902" y="2880"/>
                  </a:lnTo>
                  <a:lnTo>
                    <a:pt x="902" y="2864"/>
                  </a:lnTo>
                  <a:lnTo>
                    <a:pt x="902" y="2848"/>
                  </a:lnTo>
                  <a:lnTo>
                    <a:pt x="902" y="2833"/>
                  </a:lnTo>
                  <a:lnTo>
                    <a:pt x="944" y="2839"/>
                  </a:lnTo>
                  <a:lnTo>
                    <a:pt x="982" y="2842"/>
                  </a:lnTo>
                  <a:lnTo>
                    <a:pt x="1017" y="2842"/>
                  </a:lnTo>
                  <a:lnTo>
                    <a:pt x="1050" y="2840"/>
                  </a:lnTo>
                  <a:lnTo>
                    <a:pt x="1079" y="2836"/>
                  </a:lnTo>
                  <a:lnTo>
                    <a:pt x="1106" y="2828"/>
                  </a:lnTo>
                  <a:lnTo>
                    <a:pt x="1131" y="2820"/>
                  </a:lnTo>
                  <a:lnTo>
                    <a:pt x="1154" y="2809"/>
                  </a:lnTo>
                  <a:lnTo>
                    <a:pt x="1175" y="2797"/>
                  </a:lnTo>
                  <a:lnTo>
                    <a:pt x="1195" y="2783"/>
                  </a:lnTo>
                  <a:lnTo>
                    <a:pt x="1212" y="2766"/>
                  </a:lnTo>
                  <a:lnTo>
                    <a:pt x="1228" y="2750"/>
                  </a:lnTo>
                  <a:lnTo>
                    <a:pt x="1244" y="2732"/>
                  </a:lnTo>
                  <a:lnTo>
                    <a:pt x="1258" y="2714"/>
                  </a:lnTo>
                  <a:lnTo>
                    <a:pt x="1272" y="2694"/>
                  </a:lnTo>
                  <a:lnTo>
                    <a:pt x="1285" y="2675"/>
                  </a:lnTo>
                  <a:lnTo>
                    <a:pt x="1310" y="2635"/>
                  </a:lnTo>
                  <a:lnTo>
                    <a:pt x="1335" y="2596"/>
                  </a:lnTo>
                  <a:lnTo>
                    <a:pt x="1348" y="2578"/>
                  </a:lnTo>
                  <a:lnTo>
                    <a:pt x="1361" y="2559"/>
                  </a:lnTo>
                  <a:lnTo>
                    <a:pt x="1377" y="2542"/>
                  </a:lnTo>
                  <a:lnTo>
                    <a:pt x="1392" y="2525"/>
                  </a:lnTo>
                  <a:lnTo>
                    <a:pt x="1408" y="2510"/>
                  </a:lnTo>
                  <a:lnTo>
                    <a:pt x="1427" y="2497"/>
                  </a:lnTo>
                  <a:lnTo>
                    <a:pt x="1446" y="2485"/>
                  </a:lnTo>
                  <a:lnTo>
                    <a:pt x="1467" y="2474"/>
                  </a:lnTo>
                  <a:lnTo>
                    <a:pt x="1490" y="2466"/>
                  </a:lnTo>
                  <a:lnTo>
                    <a:pt x="1516" y="2460"/>
                  </a:lnTo>
                  <a:lnTo>
                    <a:pt x="1543" y="2457"/>
                  </a:lnTo>
                  <a:lnTo>
                    <a:pt x="1574" y="2454"/>
                  </a:lnTo>
                  <a:lnTo>
                    <a:pt x="1574" y="2434"/>
                  </a:lnTo>
                  <a:lnTo>
                    <a:pt x="1559" y="2406"/>
                  </a:lnTo>
                  <a:lnTo>
                    <a:pt x="1547" y="2379"/>
                  </a:lnTo>
                  <a:lnTo>
                    <a:pt x="1536" y="2352"/>
                  </a:lnTo>
                  <a:lnTo>
                    <a:pt x="1527" y="2325"/>
                  </a:lnTo>
                  <a:lnTo>
                    <a:pt x="1511" y="2272"/>
                  </a:lnTo>
                  <a:lnTo>
                    <a:pt x="1497" y="2221"/>
                  </a:lnTo>
                  <a:lnTo>
                    <a:pt x="1490" y="2197"/>
                  </a:lnTo>
                  <a:lnTo>
                    <a:pt x="1482" y="2174"/>
                  </a:lnTo>
                  <a:lnTo>
                    <a:pt x="1474" y="2151"/>
                  </a:lnTo>
                  <a:lnTo>
                    <a:pt x="1464" y="2130"/>
                  </a:lnTo>
                  <a:lnTo>
                    <a:pt x="1458" y="2120"/>
                  </a:lnTo>
                  <a:lnTo>
                    <a:pt x="1453" y="2110"/>
                  </a:lnTo>
                  <a:lnTo>
                    <a:pt x="1446" y="2100"/>
                  </a:lnTo>
                  <a:lnTo>
                    <a:pt x="1440" y="2090"/>
                  </a:lnTo>
                  <a:lnTo>
                    <a:pt x="1432" y="2082"/>
                  </a:lnTo>
                  <a:lnTo>
                    <a:pt x="1423" y="2073"/>
                  </a:lnTo>
                  <a:lnTo>
                    <a:pt x="1415" y="2064"/>
                  </a:lnTo>
                  <a:lnTo>
                    <a:pt x="1406" y="2057"/>
                  </a:lnTo>
                  <a:lnTo>
                    <a:pt x="1420" y="2040"/>
                  </a:lnTo>
                  <a:lnTo>
                    <a:pt x="1432" y="2025"/>
                  </a:lnTo>
                  <a:lnTo>
                    <a:pt x="1443" y="2009"/>
                  </a:lnTo>
                  <a:lnTo>
                    <a:pt x="1451" y="1992"/>
                  </a:lnTo>
                  <a:lnTo>
                    <a:pt x="1458" y="1976"/>
                  </a:lnTo>
                  <a:lnTo>
                    <a:pt x="1464" y="1960"/>
                  </a:lnTo>
                  <a:lnTo>
                    <a:pt x="1468" y="1942"/>
                  </a:lnTo>
                  <a:lnTo>
                    <a:pt x="1471" y="1925"/>
                  </a:lnTo>
                  <a:lnTo>
                    <a:pt x="1476" y="1889"/>
                  </a:lnTo>
                  <a:lnTo>
                    <a:pt x="1479" y="1850"/>
                  </a:lnTo>
                  <a:lnTo>
                    <a:pt x="1483" y="1808"/>
                  </a:lnTo>
                  <a:lnTo>
                    <a:pt x="1490" y="1762"/>
                  </a:lnTo>
                  <a:lnTo>
                    <a:pt x="1493" y="1749"/>
                  </a:lnTo>
                  <a:lnTo>
                    <a:pt x="1499" y="1735"/>
                  </a:lnTo>
                  <a:lnTo>
                    <a:pt x="1504" y="1723"/>
                  </a:lnTo>
                  <a:lnTo>
                    <a:pt x="1509" y="1710"/>
                  </a:lnTo>
                  <a:lnTo>
                    <a:pt x="1516" y="1698"/>
                  </a:lnTo>
                  <a:lnTo>
                    <a:pt x="1523" y="1686"/>
                  </a:lnTo>
                  <a:lnTo>
                    <a:pt x="1530" y="1675"/>
                  </a:lnTo>
                  <a:lnTo>
                    <a:pt x="1538" y="1664"/>
                  </a:lnTo>
                  <a:lnTo>
                    <a:pt x="1554" y="1642"/>
                  </a:lnTo>
                  <a:lnTo>
                    <a:pt x="1572" y="1623"/>
                  </a:lnTo>
                  <a:lnTo>
                    <a:pt x="1590" y="1604"/>
                  </a:lnTo>
                  <a:lnTo>
                    <a:pt x="1610" y="1587"/>
                  </a:lnTo>
                  <a:lnTo>
                    <a:pt x="1629" y="1570"/>
                  </a:lnTo>
                  <a:lnTo>
                    <a:pt x="1650" y="1555"/>
                  </a:lnTo>
                  <a:lnTo>
                    <a:pt x="1670" y="1542"/>
                  </a:lnTo>
                  <a:lnTo>
                    <a:pt x="1690" y="1529"/>
                  </a:lnTo>
                  <a:lnTo>
                    <a:pt x="1729" y="1507"/>
                  </a:lnTo>
                  <a:lnTo>
                    <a:pt x="1762" y="1490"/>
                  </a:lnTo>
                  <a:lnTo>
                    <a:pt x="1762" y="776"/>
                  </a:lnTo>
                  <a:lnTo>
                    <a:pt x="420" y="0"/>
                  </a:lnTo>
                  <a:lnTo>
                    <a:pt x="398" y="1"/>
                  </a:lnTo>
                  <a:lnTo>
                    <a:pt x="379" y="3"/>
                  </a:lnTo>
                  <a:lnTo>
                    <a:pt x="363" y="6"/>
                  </a:lnTo>
                  <a:lnTo>
                    <a:pt x="349" y="11"/>
                  </a:lnTo>
                  <a:lnTo>
                    <a:pt x="336" y="14"/>
                  </a:lnTo>
                  <a:lnTo>
                    <a:pt x="322" y="17"/>
                  </a:lnTo>
                  <a:lnTo>
                    <a:pt x="309" y="19"/>
                  </a:lnTo>
                  <a:lnTo>
                    <a:pt x="293" y="20"/>
                  </a:lnTo>
                  <a:lnTo>
                    <a:pt x="285" y="30"/>
                  </a:lnTo>
                  <a:lnTo>
                    <a:pt x="265" y="52"/>
                  </a:lnTo>
                  <a:lnTo>
                    <a:pt x="255" y="64"/>
                  </a:lnTo>
                  <a:lnTo>
                    <a:pt x="250" y="74"/>
                  </a:lnTo>
                  <a:lnTo>
                    <a:pt x="247" y="78"/>
                  </a:lnTo>
                  <a:lnTo>
                    <a:pt x="247" y="82"/>
                  </a:lnTo>
                  <a:lnTo>
                    <a:pt x="249" y="83"/>
                  </a:lnTo>
                  <a:lnTo>
                    <a:pt x="252" y="84"/>
                  </a:lnTo>
                </a:path>
              </a:pathLst>
            </a:custGeom>
            <a:noFill/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Freeform 16"/>
            <p:cNvSpPr/>
            <p:nvPr/>
          </p:nvSpPr>
          <p:spPr>
            <a:xfrm>
              <a:off x="2533680" y="3179520"/>
              <a:ext cx="200160" cy="109440"/>
            </a:xfrm>
            <a:custGeom>
              <a:avLst/>
              <a:gdLst>
                <a:gd name="textAreaLeft" fmla="*/ 0 w 200160"/>
                <a:gd name="textAreaRight" fmla="*/ 200520 w 200160"/>
                <a:gd name="textAreaTop" fmla="*/ 0 h 109440"/>
                <a:gd name="textAreaBottom" fmla="*/ 109800 h 109440"/>
              </a:gdLst>
              <a:ahLst/>
              <a:rect l="textAreaLeft" t="textAreaTop" r="textAreaRight" b="textAreaBottom"/>
              <a:pathLst>
                <a:path w="546" h="365">
                  <a:moveTo>
                    <a:pt x="546" y="30"/>
                  </a:moveTo>
                  <a:lnTo>
                    <a:pt x="533" y="52"/>
                  </a:lnTo>
                  <a:lnTo>
                    <a:pt x="520" y="76"/>
                  </a:lnTo>
                  <a:lnTo>
                    <a:pt x="506" y="99"/>
                  </a:lnTo>
                  <a:lnTo>
                    <a:pt x="490" y="123"/>
                  </a:lnTo>
                  <a:lnTo>
                    <a:pt x="475" y="146"/>
                  </a:lnTo>
                  <a:lnTo>
                    <a:pt x="458" y="169"/>
                  </a:lnTo>
                  <a:lnTo>
                    <a:pt x="440" y="191"/>
                  </a:lnTo>
                  <a:lnTo>
                    <a:pt x="423" y="213"/>
                  </a:lnTo>
                  <a:lnTo>
                    <a:pt x="403" y="234"/>
                  </a:lnTo>
                  <a:lnTo>
                    <a:pt x="383" y="255"/>
                  </a:lnTo>
                  <a:lnTo>
                    <a:pt x="363" y="275"/>
                  </a:lnTo>
                  <a:lnTo>
                    <a:pt x="342" y="294"/>
                  </a:lnTo>
                  <a:lnTo>
                    <a:pt x="320" y="313"/>
                  </a:lnTo>
                  <a:lnTo>
                    <a:pt x="298" y="331"/>
                  </a:lnTo>
                  <a:lnTo>
                    <a:pt x="276" y="349"/>
                  </a:lnTo>
                  <a:lnTo>
                    <a:pt x="252" y="365"/>
                  </a:lnTo>
                  <a:lnTo>
                    <a:pt x="244" y="353"/>
                  </a:lnTo>
                  <a:lnTo>
                    <a:pt x="237" y="341"/>
                  </a:lnTo>
                  <a:lnTo>
                    <a:pt x="232" y="329"/>
                  </a:lnTo>
                  <a:lnTo>
                    <a:pt x="227" y="318"/>
                  </a:lnTo>
                  <a:lnTo>
                    <a:pt x="218" y="295"/>
                  </a:lnTo>
                  <a:lnTo>
                    <a:pt x="210" y="273"/>
                  </a:lnTo>
                  <a:lnTo>
                    <a:pt x="201" y="252"/>
                  </a:lnTo>
                  <a:lnTo>
                    <a:pt x="193" y="232"/>
                  </a:lnTo>
                  <a:lnTo>
                    <a:pt x="187" y="222"/>
                  </a:lnTo>
                  <a:lnTo>
                    <a:pt x="182" y="214"/>
                  </a:lnTo>
                  <a:lnTo>
                    <a:pt x="175" y="205"/>
                  </a:lnTo>
                  <a:lnTo>
                    <a:pt x="168" y="197"/>
                  </a:lnTo>
                  <a:lnTo>
                    <a:pt x="122" y="152"/>
                  </a:lnTo>
                  <a:lnTo>
                    <a:pt x="91" y="121"/>
                  </a:lnTo>
                  <a:lnTo>
                    <a:pt x="72" y="104"/>
                  </a:lnTo>
                  <a:lnTo>
                    <a:pt x="60" y="95"/>
                  </a:lnTo>
                  <a:lnTo>
                    <a:pt x="51" y="91"/>
                  </a:lnTo>
                  <a:lnTo>
                    <a:pt x="41" y="87"/>
                  </a:lnTo>
                  <a:lnTo>
                    <a:pt x="25" y="83"/>
                  </a:lnTo>
                  <a:lnTo>
                    <a:pt x="0" y="71"/>
                  </a:lnTo>
                  <a:lnTo>
                    <a:pt x="63" y="50"/>
                  </a:lnTo>
                  <a:lnTo>
                    <a:pt x="84" y="39"/>
                  </a:lnTo>
                  <a:lnTo>
                    <a:pt x="106" y="30"/>
                  </a:lnTo>
                  <a:lnTo>
                    <a:pt x="128" y="21"/>
                  </a:lnTo>
                  <a:lnTo>
                    <a:pt x="154" y="14"/>
                  </a:lnTo>
                  <a:lnTo>
                    <a:pt x="179" y="9"/>
                  </a:lnTo>
                  <a:lnTo>
                    <a:pt x="207" y="4"/>
                  </a:lnTo>
                  <a:lnTo>
                    <a:pt x="235" y="2"/>
                  </a:lnTo>
                  <a:lnTo>
                    <a:pt x="265" y="0"/>
                  </a:lnTo>
                  <a:lnTo>
                    <a:pt x="296" y="0"/>
                  </a:lnTo>
                  <a:lnTo>
                    <a:pt x="328" y="1"/>
                  </a:lnTo>
                  <a:lnTo>
                    <a:pt x="362" y="2"/>
                  </a:lnTo>
                  <a:lnTo>
                    <a:pt x="397" y="6"/>
                  </a:lnTo>
                  <a:lnTo>
                    <a:pt x="433" y="10"/>
                  </a:lnTo>
                  <a:lnTo>
                    <a:pt x="468" y="15"/>
                  </a:lnTo>
                  <a:lnTo>
                    <a:pt x="507" y="22"/>
                  </a:lnTo>
                  <a:lnTo>
                    <a:pt x="546" y="30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Freeform 22"/>
            <p:cNvSpPr/>
            <p:nvPr/>
          </p:nvSpPr>
          <p:spPr>
            <a:xfrm>
              <a:off x="2520360" y="3119040"/>
              <a:ext cx="204120" cy="38160"/>
            </a:xfrm>
            <a:custGeom>
              <a:avLst/>
              <a:gdLst>
                <a:gd name="textAreaLeft" fmla="*/ 0 w 204120"/>
                <a:gd name="textAreaRight" fmla="*/ 204480 w 204120"/>
                <a:gd name="textAreaTop" fmla="*/ 0 h 38160"/>
                <a:gd name="textAreaBottom" fmla="*/ 38520 h 38160"/>
              </a:gdLst>
              <a:ahLst/>
              <a:rect l="textAreaLeft" t="textAreaTop" r="textAreaRight" b="textAreaBottom"/>
              <a:pathLst>
                <a:path w="566" h="126">
                  <a:moveTo>
                    <a:pt x="0" y="64"/>
                  </a:moveTo>
                  <a:lnTo>
                    <a:pt x="53" y="48"/>
                  </a:lnTo>
                  <a:lnTo>
                    <a:pt x="101" y="35"/>
                  </a:lnTo>
                  <a:lnTo>
                    <a:pt x="145" y="24"/>
                  </a:lnTo>
                  <a:lnTo>
                    <a:pt x="189" y="16"/>
                  </a:lnTo>
                  <a:lnTo>
                    <a:pt x="233" y="9"/>
                  </a:lnTo>
                  <a:lnTo>
                    <a:pt x="277" y="4"/>
                  </a:lnTo>
                  <a:lnTo>
                    <a:pt x="325" y="2"/>
                  </a:lnTo>
                  <a:lnTo>
                    <a:pt x="378" y="0"/>
                  </a:lnTo>
                  <a:lnTo>
                    <a:pt x="416" y="0"/>
                  </a:lnTo>
                  <a:lnTo>
                    <a:pt x="452" y="2"/>
                  </a:lnTo>
                  <a:lnTo>
                    <a:pt x="468" y="3"/>
                  </a:lnTo>
                  <a:lnTo>
                    <a:pt x="483" y="5"/>
                  </a:lnTo>
                  <a:lnTo>
                    <a:pt x="498" y="7"/>
                  </a:lnTo>
                  <a:lnTo>
                    <a:pt x="512" y="10"/>
                  </a:lnTo>
                  <a:lnTo>
                    <a:pt x="524" y="16"/>
                  </a:lnTo>
                  <a:lnTo>
                    <a:pt x="534" y="21"/>
                  </a:lnTo>
                  <a:lnTo>
                    <a:pt x="544" y="28"/>
                  </a:lnTo>
                  <a:lnTo>
                    <a:pt x="552" y="35"/>
                  </a:lnTo>
                  <a:lnTo>
                    <a:pt x="555" y="41"/>
                  </a:lnTo>
                  <a:lnTo>
                    <a:pt x="558" y="45"/>
                  </a:lnTo>
                  <a:lnTo>
                    <a:pt x="561" y="51"/>
                  </a:lnTo>
                  <a:lnTo>
                    <a:pt x="563" y="56"/>
                  </a:lnTo>
                  <a:lnTo>
                    <a:pt x="566" y="69"/>
                  </a:lnTo>
                  <a:lnTo>
                    <a:pt x="566" y="84"/>
                  </a:lnTo>
                  <a:lnTo>
                    <a:pt x="555" y="88"/>
                  </a:lnTo>
                  <a:lnTo>
                    <a:pt x="543" y="90"/>
                  </a:lnTo>
                  <a:lnTo>
                    <a:pt x="531" y="92"/>
                  </a:lnTo>
                  <a:lnTo>
                    <a:pt x="519" y="93"/>
                  </a:lnTo>
                  <a:lnTo>
                    <a:pt x="494" y="93"/>
                  </a:lnTo>
                  <a:lnTo>
                    <a:pt x="469" y="92"/>
                  </a:lnTo>
                  <a:lnTo>
                    <a:pt x="443" y="90"/>
                  </a:lnTo>
                  <a:lnTo>
                    <a:pt x="416" y="88"/>
                  </a:lnTo>
                  <a:lnTo>
                    <a:pt x="387" y="85"/>
                  </a:lnTo>
                  <a:lnTo>
                    <a:pt x="357" y="84"/>
                  </a:lnTo>
                  <a:lnTo>
                    <a:pt x="331" y="84"/>
                  </a:lnTo>
                  <a:lnTo>
                    <a:pt x="306" y="85"/>
                  </a:lnTo>
                  <a:lnTo>
                    <a:pt x="282" y="88"/>
                  </a:lnTo>
                  <a:lnTo>
                    <a:pt x="260" y="91"/>
                  </a:lnTo>
                  <a:lnTo>
                    <a:pt x="218" y="97"/>
                  </a:lnTo>
                  <a:lnTo>
                    <a:pt x="178" y="105"/>
                  </a:lnTo>
                  <a:lnTo>
                    <a:pt x="139" y="113"/>
                  </a:lnTo>
                  <a:lnTo>
                    <a:pt x="97" y="119"/>
                  </a:lnTo>
                  <a:lnTo>
                    <a:pt x="75" y="123"/>
                  </a:lnTo>
                  <a:lnTo>
                    <a:pt x="52" y="125"/>
                  </a:lnTo>
                  <a:lnTo>
                    <a:pt x="27" y="126"/>
                  </a:lnTo>
                  <a:lnTo>
                    <a:pt x="0" y="126"/>
                  </a:lnTo>
                  <a:lnTo>
                    <a:pt x="0" y="111"/>
                  </a:lnTo>
                  <a:lnTo>
                    <a:pt x="0" y="94"/>
                  </a:lnTo>
                  <a:lnTo>
                    <a:pt x="0" y="79"/>
                  </a:lnTo>
                  <a:lnTo>
                    <a:pt x="0" y="64"/>
                  </a:lnTo>
                  <a:close/>
                </a:path>
              </a:pathLst>
            </a:custGeom>
            <a:solidFill>
              <a:srgbClr val="deded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280" bIns="-828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0" name="Line 24"/>
            <p:cNvSpPr/>
            <p:nvPr/>
          </p:nvSpPr>
          <p:spPr>
            <a:xfrm flipH="1" flipV="1">
              <a:off x="4647600" y="5862240"/>
              <a:ext cx="12960" cy="4464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160" bIns="-21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Line 25"/>
            <p:cNvSpPr/>
            <p:nvPr/>
          </p:nvSpPr>
          <p:spPr>
            <a:xfrm flipV="1">
              <a:off x="4335480" y="4740120"/>
              <a:ext cx="1800" cy="100080"/>
            </a:xfrm>
            <a:prstGeom prst="line">
              <a:avLst/>
            </a:prstGeom>
            <a:ln w="0">
              <a:solidFill>
                <a:srgbClr val="949393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Line 27"/>
            <p:cNvSpPr/>
            <p:nvPr/>
          </p:nvSpPr>
          <p:spPr>
            <a:xfrm>
              <a:off x="6477840" y="1704600"/>
              <a:ext cx="1800" cy="392616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Line 27"/>
            <p:cNvSpPr/>
            <p:nvPr/>
          </p:nvSpPr>
          <p:spPr>
            <a:xfrm>
              <a:off x="4571640" y="1857240"/>
              <a:ext cx="180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Line 27"/>
            <p:cNvSpPr/>
            <p:nvPr/>
          </p:nvSpPr>
          <p:spPr>
            <a:xfrm>
              <a:off x="2575080" y="1904760"/>
              <a:ext cx="1440" cy="3925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Line 27"/>
            <p:cNvSpPr/>
            <p:nvPr/>
          </p:nvSpPr>
          <p:spPr>
            <a:xfrm flipH="1">
              <a:off x="2211480" y="1750680"/>
              <a:ext cx="4676040" cy="180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66" name="Group 65"/>
            <p:cNvGrpSpPr/>
            <p:nvPr/>
          </p:nvGrpSpPr>
          <p:grpSpPr>
            <a:xfrm>
              <a:off x="1848600" y="1155600"/>
              <a:ext cx="1503000" cy="1139760"/>
              <a:chOff x="1848600" y="1155600"/>
              <a:chExt cx="1503000" cy="1139760"/>
            </a:xfrm>
          </p:grpSpPr>
          <p:grpSp>
            <p:nvGrpSpPr>
              <p:cNvPr id="167" name="Group 66"/>
              <p:cNvGrpSpPr/>
              <p:nvPr/>
            </p:nvGrpSpPr>
            <p:grpSpPr>
              <a:xfrm>
                <a:off x="1848600" y="1155600"/>
                <a:ext cx="1475640" cy="1139760"/>
                <a:chOff x="1848600" y="1155600"/>
                <a:chExt cx="1475640" cy="1139760"/>
              </a:xfrm>
            </p:grpSpPr>
            <p:grpSp>
              <p:nvGrpSpPr>
                <p:cNvPr id="168" name="Group 67"/>
                <p:cNvGrpSpPr/>
                <p:nvPr/>
              </p:nvGrpSpPr>
              <p:grpSpPr>
                <a:xfrm>
                  <a:off x="1909800" y="1155600"/>
                  <a:ext cx="1372320" cy="1139760"/>
                  <a:chOff x="1909800" y="1155600"/>
                  <a:chExt cx="1372320" cy="1139760"/>
                </a:xfrm>
              </p:grpSpPr>
              <p:sp>
                <p:nvSpPr>
                  <p:cNvPr id="169" name="Freeform 68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  <a:close/>
                      </a:path>
                    </a:pathLst>
                  </a:custGeom>
                  <a:solidFill>
                    <a:srgbClr val="00007d"/>
                  </a:soli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70" name="Freeform 69"/>
                  <p:cNvSpPr/>
                  <p:nvPr/>
                </p:nvSpPr>
                <p:spPr>
                  <a:xfrm>
                    <a:off x="1909800" y="1155600"/>
                    <a:ext cx="1372320" cy="1139760"/>
                  </a:xfrm>
                  <a:custGeom>
                    <a:avLst/>
                    <a:gdLst>
                      <a:gd name="textAreaLeft" fmla="*/ 0 w 1372320"/>
                      <a:gd name="textAreaRight" fmla="*/ 1372680 w 1372320"/>
                      <a:gd name="textAreaTop" fmla="*/ 0 h 1139760"/>
                      <a:gd name="textAreaBottom" fmla="*/ 1140120 h 1139760"/>
                    </a:gdLst>
                    <a:ahLst/>
                    <a:rect l="textAreaLeft" t="textAreaTop" r="textAreaRight" b="textAreaBottom"/>
                    <a:pathLst>
                      <a:path w="3795" h="3795">
                        <a:moveTo>
                          <a:pt x="1898" y="3795"/>
                        </a:moveTo>
                        <a:lnTo>
                          <a:pt x="1995" y="3793"/>
                        </a:lnTo>
                        <a:lnTo>
                          <a:pt x="2091" y="3786"/>
                        </a:lnTo>
                        <a:lnTo>
                          <a:pt x="2185" y="3774"/>
                        </a:lnTo>
                        <a:lnTo>
                          <a:pt x="2279" y="3756"/>
                        </a:lnTo>
                        <a:lnTo>
                          <a:pt x="2371" y="3735"/>
                        </a:lnTo>
                        <a:lnTo>
                          <a:pt x="2461" y="3709"/>
                        </a:lnTo>
                        <a:lnTo>
                          <a:pt x="2548" y="3680"/>
                        </a:lnTo>
                        <a:lnTo>
                          <a:pt x="2634" y="3646"/>
                        </a:lnTo>
                        <a:lnTo>
                          <a:pt x="2718" y="3608"/>
                        </a:lnTo>
                        <a:lnTo>
                          <a:pt x="2800" y="3565"/>
                        </a:lnTo>
                        <a:lnTo>
                          <a:pt x="2880" y="3520"/>
                        </a:lnTo>
                        <a:lnTo>
                          <a:pt x="2957" y="3471"/>
                        </a:lnTo>
                        <a:lnTo>
                          <a:pt x="3031" y="3417"/>
                        </a:lnTo>
                        <a:lnTo>
                          <a:pt x="3103" y="3360"/>
                        </a:lnTo>
                        <a:lnTo>
                          <a:pt x="3172" y="3302"/>
                        </a:lnTo>
                        <a:lnTo>
                          <a:pt x="3238" y="3238"/>
                        </a:lnTo>
                        <a:lnTo>
                          <a:pt x="3301" y="3172"/>
                        </a:lnTo>
                        <a:lnTo>
                          <a:pt x="3360" y="3103"/>
                        </a:lnTo>
                        <a:lnTo>
                          <a:pt x="3417" y="3031"/>
                        </a:lnTo>
                        <a:lnTo>
                          <a:pt x="3470" y="2957"/>
                        </a:lnTo>
                        <a:lnTo>
                          <a:pt x="3519" y="2880"/>
                        </a:lnTo>
                        <a:lnTo>
                          <a:pt x="3565" y="2801"/>
                        </a:lnTo>
                        <a:lnTo>
                          <a:pt x="3608" y="2720"/>
                        </a:lnTo>
                        <a:lnTo>
                          <a:pt x="3646" y="2635"/>
                        </a:lnTo>
                        <a:lnTo>
                          <a:pt x="3679" y="2548"/>
                        </a:lnTo>
                        <a:lnTo>
                          <a:pt x="3709" y="2461"/>
                        </a:lnTo>
                        <a:lnTo>
                          <a:pt x="3735" y="2371"/>
                        </a:lnTo>
                        <a:lnTo>
                          <a:pt x="3756" y="2279"/>
                        </a:lnTo>
                        <a:lnTo>
                          <a:pt x="3773" y="2185"/>
                        </a:lnTo>
                        <a:lnTo>
                          <a:pt x="3785" y="2091"/>
                        </a:lnTo>
                        <a:lnTo>
                          <a:pt x="3792" y="1995"/>
                        </a:lnTo>
                        <a:lnTo>
                          <a:pt x="3795" y="1898"/>
                        </a:lnTo>
                        <a:lnTo>
                          <a:pt x="3792" y="1801"/>
                        </a:lnTo>
                        <a:lnTo>
                          <a:pt x="3785" y="1704"/>
                        </a:lnTo>
                        <a:lnTo>
                          <a:pt x="3773" y="1609"/>
                        </a:lnTo>
                        <a:lnTo>
                          <a:pt x="3756" y="1516"/>
                        </a:lnTo>
                        <a:lnTo>
                          <a:pt x="3735" y="1425"/>
                        </a:lnTo>
                        <a:lnTo>
                          <a:pt x="3709" y="1334"/>
                        </a:lnTo>
                        <a:lnTo>
                          <a:pt x="3679" y="1246"/>
                        </a:lnTo>
                        <a:lnTo>
                          <a:pt x="3646" y="1160"/>
                        </a:lnTo>
                        <a:lnTo>
                          <a:pt x="3608" y="1076"/>
                        </a:lnTo>
                        <a:lnTo>
                          <a:pt x="3565" y="994"/>
                        </a:lnTo>
                        <a:lnTo>
                          <a:pt x="3519" y="915"/>
                        </a:lnTo>
                        <a:lnTo>
                          <a:pt x="3470" y="838"/>
                        </a:lnTo>
                        <a:lnTo>
                          <a:pt x="3417" y="763"/>
                        </a:lnTo>
                        <a:lnTo>
                          <a:pt x="3360" y="692"/>
                        </a:lnTo>
                        <a:lnTo>
                          <a:pt x="3301" y="622"/>
                        </a:lnTo>
                        <a:lnTo>
                          <a:pt x="3238" y="557"/>
                        </a:lnTo>
                        <a:lnTo>
                          <a:pt x="3172" y="494"/>
                        </a:lnTo>
                        <a:lnTo>
                          <a:pt x="3103" y="434"/>
                        </a:lnTo>
                        <a:lnTo>
                          <a:pt x="3031" y="378"/>
                        </a:lnTo>
                        <a:lnTo>
                          <a:pt x="2957" y="325"/>
                        </a:lnTo>
                        <a:lnTo>
                          <a:pt x="2880" y="276"/>
                        </a:lnTo>
                        <a:lnTo>
                          <a:pt x="2800" y="230"/>
                        </a:lnTo>
                        <a:lnTo>
                          <a:pt x="2718" y="187"/>
                        </a:lnTo>
                        <a:lnTo>
                          <a:pt x="2634" y="149"/>
                        </a:lnTo>
                        <a:lnTo>
                          <a:pt x="2548" y="116"/>
                        </a:lnTo>
                        <a:lnTo>
                          <a:pt x="2461" y="85"/>
                        </a:lnTo>
                        <a:lnTo>
                          <a:pt x="2371" y="60"/>
                        </a:lnTo>
                        <a:lnTo>
                          <a:pt x="2279" y="38"/>
                        </a:lnTo>
                        <a:lnTo>
                          <a:pt x="2185" y="22"/>
                        </a:lnTo>
                        <a:lnTo>
                          <a:pt x="2091" y="10"/>
                        </a:lnTo>
                        <a:lnTo>
                          <a:pt x="1995" y="2"/>
                        </a:lnTo>
                        <a:lnTo>
                          <a:pt x="1898" y="0"/>
                        </a:lnTo>
                        <a:lnTo>
                          <a:pt x="1800" y="2"/>
                        </a:lnTo>
                        <a:lnTo>
                          <a:pt x="1704" y="10"/>
                        </a:lnTo>
                        <a:lnTo>
                          <a:pt x="1609" y="22"/>
                        </a:lnTo>
                        <a:lnTo>
                          <a:pt x="1516" y="38"/>
                        </a:lnTo>
                        <a:lnTo>
                          <a:pt x="1425" y="60"/>
                        </a:lnTo>
                        <a:lnTo>
                          <a:pt x="1334" y="85"/>
                        </a:lnTo>
                        <a:lnTo>
                          <a:pt x="1246" y="116"/>
                        </a:lnTo>
                        <a:lnTo>
                          <a:pt x="1160" y="149"/>
                        </a:lnTo>
                        <a:lnTo>
                          <a:pt x="1076" y="187"/>
                        </a:lnTo>
                        <a:lnTo>
                          <a:pt x="994" y="230"/>
                        </a:lnTo>
                        <a:lnTo>
                          <a:pt x="915" y="276"/>
                        </a:lnTo>
                        <a:lnTo>
                          <a:pt x="838" y="325"/>
                        </a:lnTo>
                        <a:lnTo>
                          <a:pt x="763" y="378"/>
                        </a:lnTo>
                        <a:lnTo>
                          <a:pt x="692" y="434"/>
                        </a:lnTo>
                        <a:lnTo>
                          <a:pt x="623" y="494"/>
                        </a:lnTo>
                        <a:lnTo>
                          <a:pt x="557" y="557"/>
                        </a:lnTo>
                        <a:lnTo>
                          <a:pt x="494" y="622"/>
                        </a:lnTo>
                        <a:lnTo>
                          <a:pt x="434" y="692"/>
                        </a:lnTo>
                        <a:lnTo>
                          <a:pt x="378" y="763"/>
                        </a:lnTo>
                        <a:lnTo>
                          <a:pt x="325" y="838"/>
                        </a:lnTo>
                        <a:lnTo>
                          <a:pt x="276" y="915"/>
                        </a:lnTo>
                        <a:lnTo>
                          <a:pt x="230" y="994"/>
                        </a:lnTo>
                        <a:lnTo>
                          <a:pt x="188" y="1076"/>
                        </a:lnTo>
                        <a:lnTo>
                          <a:pt x="150" y="1160"/>
                        </a:lnTo>
                        <a:lnTo>
                          <a:pt x="116" y="1246"/>
                        </a:lnTo>
                        <a:lnTo>
                          <a:pt x="85" y="1334"/>
                        </a:lnTo>
                        <a:lnTo>
                          <a:pt x="60" y="1425"/>
                        </a:lnTo>
                        <a:lnTo>
                          <a:pt x="38" y="1516"/>
                        </a:lnTo>
                        <a:lnTo>
                          <a:pt x="22" y="1609"/>
                        </a:lnTo>
                        <a:lnTo>
                          <a:pt x="10" y="1704"/>
                        </a:lnTo>
                        <a:lnTo>
                          <a:pt x="2" y="1801"/>
                        </a:lnTo>
                        <a:lnTo>
                          <a:pt x="0" y="1898"/>
                        </a:lnTo>
                        <a:lnTo>
                          <a:pt x="2" y="1995"/>
                        </a:lnTo>
                        <a:lnTo>
                          <a:pt x="10" y="2091"/>
                        </a:lnTo>
                        <a:lnTo>
                          <a:pt x="22" y="2185"/>
                        </a:lnTo>
                        <a:lnTo>
                          <a:pt x="38" y="2279"/>
                        </a:lnTo>
                        <a:lnTo>
                          <a:pt x="60" y="2371"/>
                        </a:lnTo>
                        <a:lnTo>
                          <a:pt x="85" y="2461"/>
                        </a:lnTo>
                        <a:lnTo>
                          <a:pt x="116" y="2548"/>
                        </a:lnTo>
                        <a:lnTo>
                          <a:pt x="150" y="2635"/>
                        </a:lnTo>
                        <a:lnTo>
                          <a:pt x="188" y="2720"/>
                        </a:lnTo>
                        <a:lnTo>
                          <a:pt x="230" y="2801"/>
                        </a:lnTo>
                        <a:lnTo>
                          <a:pt x="276" y="2880"/>
                        </a:lnTo>
                        <a:lnTo>
                          <a:pt x="325" y="2957"/>
                        </a:lnTo>
                        <a:lnTo>
                          <a:pt x="378" y="3031"/>
                        </a:lnTo>
                        <a:lnTo>
                          <a:pt x="434" y="3103"/>
                        </a:lnTo>
                        <a:lnTo>
                          <a:pt x="494" y="3172"/>
                        </a:lnTo>
                        <a:lnTo>
                          <a:pt x="557" y="3238"/>
                        </a:lnTo>
                        <a:lnTo>
                          <a:pt x="623" y="3302"/>
                        </a:lnTo>
                        <a:lnTo>
                          <a:pt x="692" y="3360"/>
                        </a:lnTo>
                        <a:lnTo>
                          <a:pt x="763" y="3417"/>
                        </a:lnTo>
                        <a:lnTo>
                          <a:pt x="838" y="3471"/>
                        </a:lnTo>
                        <a:lnTo>
                          <a:pt x="915" y="3520"/>
                        </a:lnTo>
                        <a:lnTo>
                          <a:pt x="994" y="3565"/>
                        </a:lnTo>
                        <a:lnTo>
                          <a:pt x="1076" y="3608"/>
                        </a:lnTo>
                        <a:lnTo>
                          <a:pt x="1160" y="3646"/>
                        </a:lnTo>
                        <a:lnTo>
                          <a:pt x="1246" y="3680"/>
                        </a:lnTo>
                        <a:lnTo>
                          <a:pt x="1334" y="3709"/>
                        </a:lnTo>
                        <a:lnTo>
                          <a:pt x="1425" y="3735"/>
                        </a:lnTo>
                        <a:lnTo>
                          <a:pt x="1516" y="3756"/>
                        </a:lnTo>
                        <a:lnTo>
                          <a:pt x="1609" y="3774"/>
                        </a:lnTo>
                        <a:lnTo>
                          <a:pt x="1704" y="3786"/>
                        </a:lnTo>
                        <a:lnTo>
                          <a:pt x="1800" y="3793"/>
                        </a:lnTo>
                        <a:lnTo>
                          <a:pt x="1898" y="3795"/>
                        </a:lnTo>
                      </a:path>
                    </a:pathLst>
                  </a:cu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0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sp>
              <p:nvSpPr>
                <p:cNvPr id="171" name="Text Box 70"/>
                <p:cNvSpPr/>
                <p:nvPr/>
              </p:nvSpPr>
              <p:spPr>
                <a:xfrm>
                  <a:off x="1848600" y="1418400"/>
                  <a:ext cx="1475640" cy="36756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spAutoFit/>
                </a:bodyPr>
                <a:p>
                  <a:pPr algn="ctr">
                    <a:lnSpc>
                      <a:spcPct val="100000"/>
                    </a:lnSpc>
                    <a:spcBef>
                      <a:spcPts val="125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2" name="Text Box 71"/>
              <p:cNvSpPr/>
              <p:nvPr/>
            </p:nvSpPr>
            <p:spPr>
              <a:xfrm>
                <a:off x="1875600" y="1628640"/>
                <a:ext cx="1476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рганизация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3" name="Group 72"/>
            <p:cNvGrpSpPr/>
            <p:nvPr/>
          </p:nvGrpSpPr>
          <p:grpSpPr>
            <a:xfrm>
              <a:off x="3821400" y="1155600"/>
              <a:ext cx="1476360" cy="1139760"/>
              <a:chOff x="3821400" y="1155600"/>
              <a:chExt cx="1476360" cy="1139760"/>
            </a:xfrm>
          </p:grpSpPr>
          <p:sp>
            <p:nvSpPr>
              <p:cNvPr id="174" name="Freeform 73"/>
              <p:cNvSpPr/>
              <p:nvPr/>
            </p:nvSpPr>
            <p:spPr>
              <a:xfrm>
                <a:off x="3870000" y="1155600"/>
                <a:ext cx="1373400" cy="1139760"/>
              </a:xfrm>
              <a:custGeom>
                <a:avLst/>
                <a:gdLst>
                  <a:gd name="textAreaLeft" fmla="*/ 0 w 1373400"/>
                  <a:gd name="textAreaRight" fmla="*/ 1373760 w 137340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0" y="3735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0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6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5"/>
                    </a:lnTo>
                    <a:lnTo>
                      <a:pt x="3679" y="2548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5"/>
                    </a:lnTo>
                    <a:lnTo>
                      <a:pt x="3785" y="2091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4"/>
                    </a:lnTo>
                    <a:lnTo>
                      <a:pt x="3772" y="1609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6"/>
                    </a:lnTo>
                    <a:lnTo>
                      <a:pt x="3644" y="1160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8"/>
                    </a:lnTo>
                    <a:lnTo>
                      <a:pt x="3416" y="763"/>
                    </a:lnTo>
                    <a:lnTo>
                      <a:pt x="3360" y="692"/>
                    </a:lnTo>
                    <a:lnTo>
                      <a:pt x="3300" y="622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4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0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8"/>
                    </a:lnTo>
                    <a:lnTo>
                      <a:pt x="1423" y="60"/>
                    </a:lnTo>
                    <a:lnTo>
                      <a:pt x="1334" y="85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4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2"/>
                    </a:lnTo>
                    <a:lnTo>
                      <a:pt x="434" y="692"/>
                    </a:lnTo>
                    <a:lnTo>
                      <a:pt x="377" y="763"/>
                    </a:lnTo>
                    <a:lnTo>
                      <a:pt x="325" y="838"/>
                    </a:lnTo>
                    <a:lnTo>
                      <a:pt x="274" y="915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0"/>
                    </a:lnTo>
                    <a:lnTo>
                      <a:pt x="115" y="1246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1"/>
                    </a:lnTo>
                    <a:lnTo>
                      <a:pt x="22" y="2185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48"/>
                    </a:lnTo>
                    <a:lnTo>
                      <a:pt x="149" y="2635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0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09"/>
                    </a:lnTo>
                    <a:lnTo>
                      <a:pt x="1423" y="3735"/>
                    </a:lnTo>
                    <a:lnTo>
                      <a:pt x="1516" y="3756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9360">
                <a:solidFill>
                  <a:srgbClr val="000099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75" name="Text Box 74"/>
              <p:cNvSpPr/>
              <p:nvPr/>
            </p:nvSpPr>
            <p:spPr>
              <a:xfrm>
                <a:off x="3821400" y="162864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ерсонал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76" name="Group 75"/>
            <p:cNvGrpSpPr/>
            <p:nvPr/>
          </p:nvGrpSpPr>
          <p:grpSpPr>
            <a:xfrm>
              <a:off x="5727600" y="1155600"/>
              <a:ext cx="1476360" cy="1139760"/>
              <a:chOff x="5727600" y="1155600"/>
              <a:chExt cx="1476360" cy="1139760"/>
            </a:xfrm>
          </p:grpSpPr>
          <p:grpSp>
            <p:nvGrpSpPr>
              <p:cNvPr id="177" name="Group 76"/>
              <p:cNvGrpSpPr/>
              <p:nvPr/>
            </p:nvGrpSpPr>
            <p:grpSpPr>
              <a:xfrm>
                <a:off x="5781600" y="1155600"/>
                <a:ext cx="1373040" cy="1139760"/>
                <a:chOff x="5781600" y="1155600"/>
                <a:chExt cx="1373040" cy="1139760"/>
              </a:xfrm>
            </p:grpSpPr>
            <p:sp>
              <p:nvSpPr>
                <p:cNvPr id="178" name="Freeform 77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solidFill>
                  <a:srgbClr val="00007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9" name="Freeform 78"/>
                <p:cNvSpPr/>
                <p:nvPr/>
              </p:nvSpPr>
              <p:spPr>
                <a:xfrm>
                  <a:off x="5781600" y="1155600"/>
                  <a:ext cx="1373040" cy="1139760"/>
                </a:xfrm>
                <a:custGeom>
                  <a:avLst/>
                  <a:gdLst>
                    <a:gd name="textAreaLeft" fmla="*/ 0 w 1373040"/>
                    <a:gd name="textAreaRight" fmla="*/ 1373400 w 1373040"/>
                    <a:gd name="textAreaTop" fmla="*/ 0 h 1139760"/>
                    <a:gd name="textAreaBottom" fmla="*/ 1140120 h 1139760"/>
                  </a:gdLst>
                  <a:ahLst/>
                  <a:rect l="textAreaLeft" t="textAreaTop" r="textAreaRight" b="textAreaBottom"/>
                  <a:pathLst>
                    <a:path w="3795" h="3795">
                      <a:moveTo>
                        <a:pt x="1897" y="3795"/>
                      </a:moveTo>
                      <a:lnTo>
                        <a:pt x="1995" y="3793"/>
                      </a:lnTo>
                      <a:lnTo>
                        <a:pt x="2091" y="3786"/>
                      </a:lnTo>
                      <a:lnTo>
                        <a:pt x="2186" y="3774"/>
                      </a:lnTo>
                      <a:lnTo>
                        <a:pt x="2279" y="3756"/>
                      </a:lnTo>
                      <a:lnTo>
                        <a:pt x="2371" y="3735"/>
                      </a:lnTo>
                      <a:lnTo>
                        <a:pt x="2461" y="3709"/>
                      </a:lnTo>
                      <a:lnTo>
                        <a:pt x="2549" y="3680"/>
                      </a:lnTo>
                      <a:lnTo>
                        <a:pt x="2635" y="3646"/>
                      </a:lnTo>
                      <a:lnTo>
                        <a:pt x="2719" y="3608"/>
                      </a:lnTo>
                      <a:lnTo>
                        <a:pt x="2801" y="3565"/>
                      </a:lnTo>
                      <a:lnTo>
                        <a:pt x="2880" y="3520"/>
                      </a:lnTo>
                      <a:lnTo>
                        <a:pt x="2958" y="3471"/>
                      </a:lnTo>
                      <a:lnTo>
                        <a:pt x="3032" y="3417"/>
                      </a:lnTo>
                      <a:lnTo>
                        <a:pt x="3104" y="3360"/>
                      </a:lnTo>
                      <a:lnTo>
                        <a:pt x="3172" y="3302"/>
                      </a:lnTo>
                      <a:lnTo>
                        <a:pt x="3238" y="3238"/>
                      </a:lnTo>
                      <a:lnTo>
                        <a:pt x="3301" y="3172"/>
                      </a:lnTo>
                      <a:lnTo>
                        <a:pt x="3361" y="3103"/>
                      </a:lnTo>
                      <a:lnTo>
                        <a:pt x="3418" y="3031"/>
                      </a:lnTo>
                      <a:lnTo>
                        <a:pt x="3470" y="2957"/>
                      </a:lnTo>
                      <a:lnTo>
                        <a:pt x="3520" y="2880"/>
                      </a:lnTo>
                      <a:lnTo>
                        <a:pt x="3566" y="2801"/>
                      </a:lnTo>
                      <a:lnTo>
                        <a:pt x="3607" y="2720"/>
                      </a:lnTo>
                      <a:lnTo>
                        <a:pt x="3645" y="2635"/>
                      </a:lnTo>
                      <a:lnTo>
                        <a:pt x="3679" y="2548"/>
                      </a:lnTo>
                      <a:lnTo>
                        <a:pt x="3710" y="2461"/>
                      </a:lnTo>
                      <a:lnTo>
                        <a:pt x="3735" y="2371"/>
                      </a:lnTo>
                      <a:lnTo>
                        <a:pt x="3756" y="2279"/>
                      </a:lnTo>
                      <a:lnTo>
                        <a:pt x="3773" y="2185"/>
                      </a:lnTo>
                      <a:lnTo>
                        <a:pt x="3785" y="2091"/>
                      </a:lnTo>
                      <a:lnTo>
                        <a:pt x="3792" y="1995"/>
                      </a:lnTo>
                      <a:lnTo>
                        <a:pt x="3795" y="1898"/>
                      </a:lnTo>
                      <a:lnTo>
                        <a:pt x="3792" y="1801"/>
                      </a:lnTo>
                      <a:lnTo>
                        <a:pt x="3785" y="1704"/>
                      </a:lnTo>
                      <a:lnTo>
                        <a:pt x="3773" y="1609"/>
                      </a:lnTo>
                      <a:lnTo>
                        <a:pt x="3756" y="1516"/>
                      </a:lnTo>
                      <a:lnTo>
                        <a:pt x="3735" y="1425"/>
                      </a:lnTo>
                      <a:lnTo>
                        <a:pt x="3710" y="1334"/>
                      </a:lnTo>
                      <a:lnTo>
                        <a:pt x="3679" y="1246"/>
                      </a:lnTo>
                      <a:lnTo>
                        <a:pt x="3645" y="1160"/>
                      </a:lnTo>
                      <a:lnTo>
                        <a:pt x="3607" y="1076"/>
                      </a:lnTo>
                      <a:lnTo>
                        <a:pt x="3566" y="994"/>
                      </a:lnTo>
                      <a:lnTo>
                        <a:pt x="3520" y="915"/>
                      </a:lnTo>
                      <a:lnTo>
                        <a:pt x="3470" y="838"/>
                      </a:lnTo>
                      <a:lnTo>
                        <a:pt x="3418" y="763"/>
                      </a:lnTo>
                      <a:lnTo>
                        <a:pt x="3361" y="692"/>
                      </a:lnTo>
                      <a:lnTo>
                        <a:pt x="3301" y="622"/>
                      </a:lnTo>
                      <a:lnTo>
                        <a:pt x="3238" y="557"/>
                      </a:lnTo>
                      <a:lnTo>
                        <a:pt x="3172" y="494"/>
                      </a:lnTo>
                      <a:lnTo>
                        <a:pt x="3104" y="434"/>
                      </a:lnTo>
                      <a:lnTo>
                        <a:pt x="3032" y="378"/>
                      </a:lnTo>
                      <a:lnTo>
                        <a:pt x="2958" y="325"/>
                      </a:lnTo>
                      <a:lnTo>
                        <a:pt x="2880" y="276"/>
                      </a:lnTo>
                      <a:lnTo>
                        <a:pt x="2801" y="230"/>
                      </a:lnTo>
                      <a:lnTo>
                        <a:pt x="2719" y="187"/>
                      </a:lnTo>
                      <a:lnTo>
                        <a:pt x="2635" y="149"/>
                      </a:lnTo>
                      <a:lnTo>
                        <a:pt x="2549" y="116"/>
                      </a:lnTo>
                      <a:lnTo>
                        <a:pt x="2461" y="85"/>
                      </a:lnTo>
                      <a:lnTo>
                        <a:pt x="2371" y="60"/>
                      </a:lnTo>
                      <a:lnTo>
                        <a:pt x="2279" y="38"/>
                      </a:lnTo>
                      <a:lnTo>
                        <a:pt x="2186" y="22"/>
                      </a:lnTo>
                      <a:lnTo>
                        <a:pt x="2091" y="10"/>
                      </a:lnTo>
                      <a:lnTo>
                        <a:pt x="1995" y="2"/>
                      </a:lnTo>
                      <a:lnTo>
                        <a:pt x="1897" y="0"/>
                      </a:lnTo>
                      <a:lnTo>
                        <a:pt x="1800" y="2"/>
                      </a:lnTo>
                      <a:lnTo>
                        <a:pt x="1704" y="10"/>
                      </a:lnTo>
                      <a:lnTo>
                        <a:pt x="1610" y="22"/>
                      </a:lnTo>
                      <a:lnTo>
                        <a:pt x="1516" y="38"/>
                      </a:lnTo>
                      <a:lnTo>
                        <a:pt x="1424" y="60"/>
                      </a:lnTo>
                      <a:lnTo>
                        <a:pt x="1335" y="85"/>
                      </a:lnTo>
                      <a:lnTo>
                        <a:pt x="1247" y="116"/>
                      </a:lnTo>
                      <a:lnTo>
                        <a:pt x="1161" y="149"/>
                      </a:lnTo>
                      <a:lnTo>
                        <a:pt x="1077" y="187"/>
                      </a:lnTo>
                      <a:lnTo>
                        <a:pt x="995" y="230"/>
                      </a:lnTo>
                      <a:lnTo>
                        <a:pt x="915" y="276"/>
                      </a:lnTo>
                      <a:lnTo>
                        <a:pt x="838" y="325"/>
                      </a:lnTo>
                      <a:lnTo>
                        <a:pt x="764" y="378"/>
                      </a:lnTo>
                      <a:lnTo>
                        <a:pt x="692" y="434"/>
                      </a:lnTo>
                      <a:lnTo>
                        <a:pt x="623" y="494"/>
                      </a:lnTo>
                      <a:lnTo>
                        <a:pt x="557" y="557"/>
                      </a:lnTo>
                      <a:lnTo>
                        <a:pt x="495" y="622"/>
                      </a:lnTo>
                      <a:lnTo>
                        <a:pt x="435" y="692"/>
                      </a:lnTo>
                      <a:lnTo>
                        <a:pt x="378" y="763"/>
                      </a:lnTo>
                      <a:lnTo>
                        <a:pt x="325" y="838"/>
                      </a:lnTo>
                      <a:lnTo>
                        <a:pt x="276" y="915"/>
                      </a:lnTo>
                      <a:lnTo>
                        <a:pt x="230" y="994"/>
                      </a:lnTo>
                      <a:lnTo>
                        <a:pt x="187" y="1076"/>
                      </a:lnTo>
                      <a:lnTo>
                        <a:pt x="150" y="1160"/>
                      </a:lnTo>
                      <a:lnTo>
                        <a:pt x="115" y="1246"/>
                      </a:lnTo>
                      <a:lnTo>
                        <a:pt x="86" y="1334"/>
                      </a:lnTo>
                      <a:lnTo>
                        <a:pt x="60" y="1425"/>
                      </a:lnTo>
                      <a:lnTo>
                        <a:pt x="39" y="1516"/>
                      </a:lnTo>
                      <a:lnTo>
                        <a:pt x="23" y="1609"/>
                      </a:lnTo>
                      <a:lnTo>
                        <a:pt x="10" y="1704"/>
                      </a:lnTo>
                      <a:lnTo>
                        <a:pt x="3" y="1801"/>
                      </a:lnTo>
                      <a:lnTo>
                        <a:pt x="0" y="1898"/>
                      </a:lnTo>
                      <a:lnTo>
                        <a:pt x="3" y="1995"/>
                      </a:lnTo>
                      <a:lnTo>
                        <a:pt x="10" y="2091"/>
                      </a:lnTo>
                      <a:lnTo>
                        <a:pt x="23" y="2185"/>
                      </a:lnTo>
                      <a:lnTo>
                        <a:pt x="39" y="2279"/>
                      </a:lnTo>
                      <a:lnTo>
                        <a:pt x="60" y="2371"/>
                      </a:lnTo>
                      <a:lnTo>
                        <a:pt x="86" y="2461"/>
                      </a:lnTo>
                      <a:lnTo>
                        <a:pt x="115" y="2548"/>
                      </a:lnTo>
                      <a:lnTo>
                        <a:pt x="150" y="2635"/>
                      </a:lnTo>
                      <a:lnTo>
                        <a:pt x="187" y="2720"/>
                      </a:lnTo>
                      <a:lnTo>
                        <a:pt x="230" y="2801"/>
                      </a:lnTo>
                      <a:lnTo>
                        <a:pt x="276" y="2880"/>
                      </a:lnTo>
                      <a:lnTo>
                        <a:pt x="325" y="2957"/>
                      </a:lnTo>
                      <a:lnTo>
                        <a:pt x="378" y="3031"/>
                      </a:lnTo>
                      <a:lnTo>
                        <a:pt x="435" y="3103"/>
                      </a:lnTo>
                      <a:lnTo>
                        <a:pt x="495" y="3172"/>
                      </a:lnTo>
                      <a:lnTo>
                        <a:pt x="557" y="3238"/>
                      </a:lnTo>
                      <a:lnTo>
                        <a:pt x="623" y="3302"/>
                      </a:lnTo>
                      <a:lnTo>
                        <a:pt x="692" y="3360"/>
                      </a:lnTo>
                      <a:lnTo>
                        <a:pt x="764" y="3417"/>
                      </a:lnTo>
                      <a:lnTo>
                        <a:pt x="838" y="3471"/>
                      </a:lnTo>
                      <a:lnTo>
                        <a:pt x="915" y="3520"/>
                      </a:lnTo>
                      <a:lnTo>
                        <a:pt x="995" y="3565"/>
                      </a:lnTo>
                      <a:lnTo>
                        <a:pt x="1077" y="3608"/>
                      </a:lnTo>
                      <a:lnTo>
                        <a:pt x="1161" y="3646"/>
                      </a:lnTo>
                      <a:lnTo>
                        <a:pt x="1247" y="3680"/>
                      </a:lnTo>
                      <a:lnTo>
                        <a:pt x="1335" y="3709"/>
                      </a:lnTo>
                      <a:lnTo>
                        <a:pt x="1424" y="3735"/>
                      </a:lnTo>
                      <a:lnTo>
                        <a:pt x="1516" y="3756"/>
                      </a:lnTo>
                      <a:lnTo>
                        <a:pt x="1610" y="3774"/>
                      </a:lnTo>
                      <a:lnTo>
                        <a:pt x="1704" y="3786"/>
                      </a:lnTo>
                      <a:lnTo>
                        <a:pt x="1800" y="3793"/>
                      </a:lnTo>
                      <a:lnTo>
                        <a:pt x="1897" y="3795"/>
                      </a:lnTo>
                      <a:close/>
                    </a:path>
                  </a:pathLst>
                </a:cu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0" name="Text Box 79"/>
              <p:cNvSpPr/>
              <p:nvPr/>
            </p:nvSpPr>
            <p:spPr>
              <a:xfrm>
                <a:off x="5727600" y="1629360"/>
                <a:ext cx="147636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орудование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1" name="Line 27"/>
            <p:cNvSpPr/>
            <p:nvPr/>
          </p:nvSpPr>
          <p:spPr>
            <a:xfrm flipH="1">
              <a:off x="2302560" y="30463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2" name="Group 130"/>
            <p:cNvGrpSpPr/>
            <p:nvPr/>
          </p:nvGrpSpPr>
          <p:grpSpPr>
            <a:xfrm>
              <a:off x="1848600" y="2438280"/>
              <a:ext cx="1382040" cy="1139760"/>
              <a:chOff x="1848600" y="2438280"/>
              <a:chExt cx="1382040" cy="1139760"/>
            </a:xfrm>
          </p:grpSpPr>
          <p:sp>
            <p:nvSpPr>
              <p:cNvPr id="183" name="Freeform 46"/>
              <p:cNvSpPr/>
              <p:nvPr/>
            </p:nvSpPr>
            <p:spPr>
              <a:xfrm>
                <a:off x="1854000" y="2438280"/>
                <a:ext cx="1376640" cy="1139760"/>
              </a:xfrm>
              <a:custGeom>
                <a:avLst/>
                <a:gdLst>
                  <a:gd name="textAreaLeft" fmla="*/ 0 w 1376640"/>
                  <a:gd name="textAreaRight" fmla="*/ 1377000 w 137664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0" y="3709"/>
                    </a:lnTo>
                    <a:lnTo>
                      <a:pt x="2548" y="3680"/>
                    </a:lnTo>
                    <a:lnTo>
                      <a:pt x="2634" y="3645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0" y="3172"/>
                    </a:lnTo>
                    <a:lnTo>
                      <a:pt x="3360" y="3103"/>
                    </a:lnTo>
                    <a:lnTo>
                      <a:pt x="3417" y="3031"/>
                    </a:lnTo>
                    <a:lnTo>
                      <a:pt x="3470" y="2957"/>
                    </a:lnTo>
                    <a:lnTo>
                      <a:pt x="3519" y="2880"/>
                    </a:lnTo>
                    <a:lnTo>
                      <a:pt x="3565" y="2800"/>
                    </a:lnTo>
                    <a:lnTo>
                      <a:pt x="3608" y="2719"/>
                    </a:lnTo>
                    <a:lnTo>
                      <a:pt x="3646" y="2635"/>
                    </a:lnTo>
                    <a:lnTo>
                      <a:pt x="3680" y="2549"/>
                    </a:lnTo>
                    <a:lnTo>
                      <a:pt x="3709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09" y="1334"/>
                    </a:lnTo>
                    <a:lnTo>
                      <a:pt x="3680" y="1246"/>
                    </a:lnTo>
                    <a:lnTo>
                      <a:pt x="3646" y="1160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5"/>
                    </a:lnTo>
                    <a:lnTo>
                      <a:pt x="3470" y="837"/>
                    </a:lnTo>
                    <a:lnTo>
                      <a:pt x="3417" y="763"/>
                    </a:lnTo>
                    <a:lnTo>
                      <a:pt x="3360" y="691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4"/>
                    </a:lnTo>
                    <a:lnTo>
                      <a:pt x="3031" y="377"/>
                    </a:lnTo>
                    <a:lnTo>
                      <a:pt x="2957" y="325"/>
                    </a:lnTo>
                    <a:lnTo>
                      <a:pt x="2880" y="275"/>
                    </a:lnTo>
                    <a:lnTo>
                      <a:pt x="2800" y="229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8"/>
                    </a:lnTo>
                    <a:lnTo>
                      <a:pt x="1425" y="60"/>
                    </a:lnTo>
                    <a:lnTo>
                      <a:pt x="1334" y="85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3" y="377"/>
                    </a:lnTo>
                    <a:lnTo>
                      <a:pt x="691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1"/>
                    </a:lnTo>
                    <a:lnTo>
                      <a:pt x="377" y="763"/>
                    </a:lnTo>
                    <a:lnTo>
                      <a:pt x="325" y="837"/>
                    </a:lnTo>
                    <a:lnTo>
                      <a:pt x="275" y="915"/>
                    </a:lnTo>
                    <a:lnTo>
                      <a:pt x="229" y="994"/>
                    </a:lnTo>
                    <a:lnTo>
                      <a:pt x="188" y="1076"/>
                    </a:lnTo>
                    <a:lnTo>
                      <a:pt x="150" y="1160"/>
                    </a:lnTo>
                    <a:lnTo>
                      <a:pt x="116" y="1246"/>
                    </a:lnTo>
                    <a:lnTo>
                      <a:pt x="85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2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2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5" y="2460"/>
                    </a:lnTo>
                    <a:lnTo>
                      <a:pt x="116" y="2549"/>
                    </a:lnTo>
                    <a:lnTo>
                      <a:pt x="150" y="2635"/>
                    </a:lnTo>
                    <a:lnTo>
                      <a:pt x="188" y="2719"/>
                    </a:lnTo>
                    <a:lnTo>
                      <a:pt x="229" y="2800"/>
                    </a:lnTo>
                    <a:lnTo>
                      <a:pt x="275" y="2880"/>
                    </a:lnTo>
                    <a:lnTo>
                      <a:pt x="325" y="2957"/>
                    </a:lnTo>
                    <a:lnTo>
                      <a:pt x="377" y="3031"/>
                    </a:lnTo>
                    <a:lnTo>
                      <a:pt x="434" y="3103"/>
                    </a:lnTo>
                    <a:lnTo>
                      <a:pt x="494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1" y="3361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5"/>
                    </a:lnTo>
                    <a:lnTo>
                      <a:pt x="1246" y="3680"/>
                    </a:lnTo>
                    <a:lnTo>
                      <a:pt x="1334" y="3709"/>
                    </a:lnTo>
                    <a:lnTo>
                      <a:pt x="1425" y="3736"/>
                    </a:lnTo>
                    <a:lnTo>
                      <a:pt x="1516" y="3756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Text Box 47"/>
              <p:cNvSpPr/>
              <p:nvPr/>
            </p:nvSpPr>
            <p:spPr>
              <a:xfrm>
                <a:off x="1848600" y="2713320"/>
                <a:ext cx="138204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Закупка и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Arial"/>
                  </a:rPr>
                  <a:t> </a:t>
                </a:r>
                <a:br>
                  <a:rPr sz="1200"/>
                </a:b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нвентарный учет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Freeform 31"/>
            <p:cNvSpPr/>
            <p:nvPr/>
          </p:nvSpPr>
          <p:spPr>
            <a:xfrm>
              <a:off x="3879720" y="2498400"/>
              <a:ext cx="1373040" cy="1141560"/>
            </a:xfrm>
            <a:custGeom>
              <a:avLst/>
              <a:gdLst>
                <a:gd name="textAreaLeft" fmla="*/ 0 w 1373040"/>
                <a:gd name="textAreaRight" fmla="*/ 1373400 w 137304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4" y="3793"/>
                  </a:lnTo>
                  <a:lnTo>
                    <a:pt x="2090" y="3785"/>
                  </a:lnTo>
                  <a:lnTo>
                    <a:pt x="2185" y="3773"/>
                  </a:lnTo>
                  <a:lnTo>
                    <a:pt x="2279" y="3756"/>
                  </a:lnTo>
                  <a:lnTo>
                    <a:pt x="2370" y="3735"/>
                  </a:lnTo>
                  <a:lnTo>
                    <a:pt x="2460" y="3709"/>
                  </a:lnTo>
                  <a:lnTo>
                    <a:pt x="2548" y="3680"/>
                  </a:lnTo>
                  <a:lnTo>
                    <a:pt x="2634" y="3646"/>
                  </a:lnTo>
                  <a:lnTo>
                    <a:pt x="2718" y="3608"/>
                  </a:lnTo>
                  <a:lnTo>
                    <a:pt x="2800" y="3565"/>
                  </a:lnTo>
                  <a:lnTo>
                    <a:pt x="2879" y="3520"/>
                  </a:lnTo>
                  <a:lnTo>
                    <a:pt x="2956" y="3470"/>
                  </a:lnTo>
                  <a:lnTo>
                    <a:pt x="3031" y="3417"/>
                  </a:lnTo>
                  <a:lnTo>
                    <a:pt x="3103" y="3361"/>
                  </a:lnTo>
                  <a:lnTo>
                    <a:pt x="3171" y="3302"/>
                  </a:lnTo>
                  <a:lnTo>
                    <a:pt x="3238" y="3238"/>
                  </a:lnTo>
                  <a:lnTo>
                    <a:pt x="3300" y="3173"/>
                  </a:lnTo>
                  <a:lnTo>
                    <a:pt x="3360" y="3103"/>
                  </a:lnTo>
                  <a:lnTo>
                    <a:pt x="3416" y="3031"/>
                  </a:lnTo>
                  <a:lnTo>
                    <a:pt x="3470" y="2957"/>
                  </a:lnTo>
                  <a:lnTo>
                    <a:pt x="3519" y="2881"/>
                  </a:lnTo>
                  <a:lnTo>
                    <a:pt x="3565" y="2801"/>
                  </a:lnTo>
                  <a:lnTo>
                    <a:pt x="3606" y="2719"/>
                  </a:lnTo>
                  <a:lnTo>
                    <a:pt x="3644" y="2636"/>
                  </a:lnTo>
                  <a:lnTo>
                    <a:pt x="3679" y="2549"/>
                  </a:lnTo>
                  <a:lnTo>
                    <a:pt x="3708" y="2461"/>
                  </a:lnTo>
                  <a:lnTo>
                    <a:pt x="3735" y="2371"/>
                  </a:lnTo>
                  <a:lnTo>
                    <a:pt x="3755" y="2279"/>
                  </a:lnTo>
                  <a:lnTo>
                    <a:pt x="3772" y="2185"/>
                  </a:lnTo>
                  <a:lnTo>
                    <a:pt x="3785" y="2092"/>
                  </a:lnTo>
                  <a:lnTo>
                    <a:pt x="3791" y="1995"/>
                  </a:lnTo>
                  <a:lnTo>
                    <a:pt x="3795" y="1898"/>
                  </a:lnTo>
                  <a:lnTo>
                    <a:pt x="3791" y="1801"/>
                  </a:lnTo>
                  <a:lnTo>
                    <a:pt x="3785" y="1704"/>
                  </a:lnTo>
                  <a:lnTo>
                    <a:pt x="3772" y="1609"/>
                  </a:lnTo>
                  <a:lnTo>
                    <a:pt x="3755" y="1516"/>
                  </a:lnTo>
                  <a:lnTo>
                    <a:pt x="3735" y="1425"/>
                  </a:lnTo>
                  <a:lnTo>
                    <a:pt x="3708" y="1334"/>
                  </a:lnTo>
                  <a:lnTo>
                    <a:pt x="3679" y="1246"/>
                  </a:lnTo>
                  <a:lnTo>
                    <a:pt x="3644" y="1160"/>
                  </a:lnTo>
                  <a:lnTo>
                    <a:pt x="3606" y="1076"/>
                  </a:lnTo>
                  <a:lnTo>
                    <a:pt x="3565" y="994"/>
                  </a:lnTo>
                  <a:lnTo>
                    <a:pt x="3519" y="914"/>
                  </a:lnTo>
                  <a:lnTo>
                    <a:pt x="3470" y="838"/>
                  </a:lnTo>
                  <a:lnTo>
                    <a:pt x="3416" y="763"/>
                  </a:lnTo>
                  <a:lnTo>
                    <a:pt x="3360" y="692"/>
                  </a:lnTo>
                  <a:lnTo>
                    <a:pt x="3300" y="622"/>
                  </a:lnTo>
                  <a:lnTo>
                    <a:pt x="3238" y="557"/>
                  </a:lnTo>
                  <a:lnTo>
                    <a:pt x="3171" y="494"/>
                  </a:lnTo>
                  <a:lnTo>
                    <a:pt x="3103" y="434"/>
                  </a:lnTo>
                  <a:lnTo>
                    <a:pt x="3031" y="378"/>
                  </a:lnTo>
                  <a:lnTo>
                    <a:pt x="2956" y="325"/>
                  </a:lnTo>
                  <a:lnTo>
                    <a:pt x="2879" y="276"/>
                  </a:lnTo>
                  <a:lnTo>
                    <a:pt x="2800" y="230"/>
                  </a:lnTo>
                  <a:lnTo>
                    <a:pt x="2718" y="187"/>
                  </a:lnTo>
                  <a:lnTo>
                    <a:pt x="2634" y="149"/>
                  </a:lnTo>
                  <a:lnTo>
                    <a:pt x="2548" y="115"/>
                  </a:lnTo>
                  <a:lnTo>
                    <a:pt x="2460" y="85"/>
                  </a:lnTo>
                  <a:lnTo>
                    <a:pt x="2370" y="60"/>
                  </a:lnTo>
                  <a:lnTo>
                    <a:pt x="2279" y="38"/>
                  </a:lnTo>
                  <a:lnTo>
                    <a:pt x="2185" y="22"/>
                  </a:lnTo>
                  <a:lnTo>
                    <a:pt x="2090" y="10"/>
                  </a:lnTo>
                  <a:lnTo>
                    <a:pt x="1994" y="2"/>
                  </a:lnTo>
                  <a:lnTo>
                    <a:pt x="1897" y="0"/>
                  </a:lnTo>
                  <a:lnTo>
                    <a:pt x="1799" y="2"/>
                  </a:lnTo>
                  <a:lnTo>
                    <a:pt x="1703" y="10"/>
                  </a:lnTo>
                  <a:lnTo>
                    <a:pt x="1608" y="22"/>
                  </a:lnTo>
                  <a:lnTo>
                    <a:pt x="1516" y="38"/>
                  </a:lnTo>
                  <a:lnTo>
                    <a:pt x="1423" y="60"/>
                  </a:lnTo>
                  <a:lnTo>
                    <a:pt x="1334" y="85"/>
                  </a:lnTo>
                  <a:lnTo>
                    <a:pt x="1245" y="115"/>
                  </a:lnTo>
                  <a:lnTo>
                    <a:pt x="1159" y="149"/>
                  </a:lnTo>
                  <a:lnTo>
                    <a:pt x="1075" y="187"/>
                  </a:lnTo>
                  <a:lnTo>
                    <a:pt x="994" y="230"/>
                  </a:lnTo>
                  <a:lnTo>
                    <a:pt x="914" y="276"/>
                  </a:lnTo>
                  <a:lnTo>
                    <a:pt x="837" y="325"/>
                  </a:lnTo>
                  <a:lnTo>
                    <a:pt x="763" y="378"/>
                  </a:lnTo>
                  <a:lnTo>
                    <a:pt x="691" y="434"/>
                  </a:lnTo>
                  <a:lnTo>
                    <a:pt x="622" y="494"/>
                  </a:lnTo>
                  <a:lnTo>
                    <a:pt x="557" y="557"/>
                  </a:lnTo>
                  <a:lnTo>
                    <a:pt x="494" y="622"/>
                  </a:lnTo>
                  <a:lnTo>
                    <a:pt x="434" y="692"/>
                  </a:lnTo>
                  <a:lnTo>
                    <a:pt x="377" y="763"/>
                  </a:lnTo>
                  <a:lnTo>
                    <a:pt x="325" y="838"/>
                  </a:lnTo>
                  <a:lnTo>
                    <a:pt x="274" y="914"/>
                  </a:lnTo>
                  <a:lnTo>
                    <a:pt x="229" y="994"/>
                  </a:lnTo>
                  <a:lnTo>
                    <a:pt x="187" y="1076"/>
                  </a:lnTo>
                  <a:lnTo>
                    <a:pt x="149" y="1160"/>
                  </a:lnTo>
                  <a:lnTo>
                    <a:pt x="115" y="1246"/>
                  </a:lnTo>
                  <a:lnTo>
                    <a:pt x="85" y="1334"/>
                  </a:lnTo>
                  <a:lnTo>
                    <a:pt x="60" y="1425"/>
                  </a:lnTo>
                  <a:lnTo>
                    <a:pt x="38" y="1516"/>
                  </a:lnTo>
                  <a:lnTo>
                    <a:pt x="22" y="1609"/>
                  </a:lnTo>
                  <a:lnTo>
                    <a:pt x="10" y="1704"/>
                  </a:lnTo>
                  <a:lnTo>
                    <a:pt x="2" y="1801"/>
                  </a:lnTo>
                  <a:lnTo>
                    <a:pt x="0" y="1898"/>
                  </a:lnTo>
                  <a:lnTo>
                    <a:pt x="2" y="1995"/>
                  </a:lnTo>
                  <a:lnTo>
                    <a:pt x="10" y="2092"/>
                  </a:lnTo>
                  <a:lnTo>
                    <a:pt x="22" y="2185"/>
                  </a:lnTo>
                  <a:lnTo>
                    <a:pt x="38" y="2279"/>
                  </a:lnTo>
                  <a:lnTo>
                    <a:pt x="60" y="2371"/>
                  </a:lnTo>
                  <a:lnTo>
                    <a:pt x="85" y="2461"/>
                  </a:lnTo>
                  <a:lnTo>
                    <a:pt x="115" y="2549"/>
                  </a:lnTo>
                  <a:lnTo>
                    <a:pt x="149" y="2636"/>
                  </a:lnTo>
                  <a:lnTo>
                    <a:pt x="187" y="2719"/>
                  </a:lnTo>
                  <a:lnTo>
                    <a:pt x="229" y="2801"/>
                  </a:lnTo>
                  <a:lnTo>
                    <a:pt x="274" y="2881"/>
                  </a:lnTo>
                  <a:lnTo>
                    <a:pt x="325" y="2957"/>
                  </a:lnTo>
                  <a:lnTo>
                    <a:pt x="377" y="3031"/>
                  </a:lnTo>
                  <a:lnTo>
                    <a:pt x="434" y="3103"/>
                  </a:lnTo>
                  <a:lnTo>
                    <a:pt x="494" y="3173"/>
                  </a:lnTo>
                  <a:lnTo>
                    <a:pt x="557" y="3238"/>
                  </a:lnTo>
                  <a:lnTo>
                    <a:pt x="622" y="3302"/>
                  </a:lnTo>
                  <a:lnTo>
                    <a:pt x="691" y="3361"/>
                  </a:lnTo>
                  <a:lnTo>
                    <a:pt x="763" y="3417"/>
                  </a:lnTo>
                  <a:lnTo>
                    <a:pt x="837" y="3470"/>
                  </a:lnTo>
                  <a:lnTo>
                    <a:pt x="914" y="3520"/>
                  </a:lnTo>
                  <a:lnTo>
                    <a:pt x="994" y="3565"/>
                  </a:lnTo>
                  <a:lnTo>
                    <a:pt x="1075" y="3608"/>
                  </a:lnTo>
                  <a:lnTo>
                    <a:pt x="1159" y="3646"/>
                  </a:lnTo>
                  <a:lnTo>
                    <a:pt x="1245" y="3680"/>
                  </a:lnTo>
                  <a:lnTo>
                    <a:pt x="1334" y="3709"/>
                  </a:lnTo>
                  <a:lnTo>
                    <a:pt x="1423" y="3735"/>
                  </a:lnTo>
                  <a:lnTo>
                    <a:pt x="1516" y="3756"/>
                  </a:lnTo>
                  <a:lnTo>
                    <a:pt x="1608" y="3773"/>
                  </a:lnTo>
                  <a:lnTo>
                    <a:pt x="1703" y="3785"/>
                  </a:lnTo>
                  <a:lnTo>
                    <a:pt x="1799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Text Box 43"/>
            <p:cNvSpPr/>
            <p:nvPr/>
          </p:nvSpPr>
          <p:spPr>
            <a:xfrm>
              <a:off x="3885480" y="2815920"/>
              <a:ext cx="136872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Контроль процессов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87" name="Group 135"/>
            <p:cNvGrpSpPr/>
            <p:nvPr/>
          </p:nvGrpSpPr>
          <p:grpSpPr>
            <a:xfrm>
              <a:off x="5751720" y="2455560"/>
              <a:ext cx="1393200" cy="1139760"/>
              <a:chOff x="5751720" y="2455560"/>
              <a:chExt cx="1393200" cy="1139760"/>
            </a:xfrm>
          </p:grpSpPr>
          <p:sp>
            <p:nvSpPr>
              <p:cNvPr id="188" name="Freeform 48"/>
              <p:cNvSpPr/>
              <p:nvPr/>
            </p:nvSpPr>
            <p:spPr>
              <a:xfrm>
                <a:off x="5751720" y="245556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2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6"/>
                    </a:lnTo>
                    <a:lnTo>
                      <a:pt x="2371" y="3736"/>
                    </a:lnTo>
                    <a:lnTo>
                      <a:pt x="2461" y="3709"/>
                    </a:lnTo>
                    <a:lnTo>
                      <a:pt x="2549" y="3680"/>
                    </a:lnTo>
                    <a:lnTo>
                      <a:pt x="2635" y="3645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1"/>
                    </a:lnTo>
                    <a:lnTo>
                      <a:pt x="3172" y="3301"/>
                    </a:lnTo>
                    <a:lnTo>
                      <a:pt x="3238" y="3239"/>
                    </a:lnTo>
                    <a:lnTo>
                      <a:pt x="3301" y="3172"/>
                    </a:lnTo>
                    <a:lnTo>
                      <a:pt x="3361" y="3103"/>
                    </a:lnTo>
                    <a:lnTo>
                      <a:pt x="3418" y="3031"/>
                    </a:lnTo>
                    <a:lnTo>
                      <a:pt x="3470" y="2957"/>
                    </a:lnTo>
                    <a:lnTo>
                      <a:pt x="3520" y="2880"/>
                    </a:lnTo>
                    <a:lnTo>
                      <a:pt x="3566" y="2800"/>
                    </a:lnTo>
                    <a:lnTo>
                      <a:pt x="3607" y="2719"/>
                    </a:lnTo>
                    <a:lnTo>
                      <a:pt x="3645" y="2635"/>
                    </a:lnTo>
                    <a:lnTo>
                      <a:pt x="3679" y="2549"/>
                    </a:lnTo>
                    <a:lnTo>
                      <a:pt x="3710" y="2460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6"/>
                    </a:lnTo>
                    <a:lnTo>
                      <a:pt x="3785" y="2091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0"/>
                    </a:lnTo>
                    <a:lnTo>
                      <a:pt x="3785" y="1704"/>
                    </a:lnTo>
                    <a:lnTo>
                      <a:pt x="3773" y="1609"/>
                    </a:lnTo>
                    <a:lnTo>
                      <a:pt x="3756" y="1516"/>
                    </a:lnTo>
                    <a:lnTo>
                      <a:pt x="3735" y="1424"/>
                    </a:lnTo>
                    <a:lnTo>
                      <a:pt x="3710" y="1334"/>
                    </a:lnTo>
                    <a:lnTo>
                      <a:pt x="3679" y="1246"/>
                    </a:lnTo>
                    <a:lnTo>
                      <a:pt x="3645" y="1160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5"/>
                    </a:lnTo>
                    <a:lnTo>
                      <a:pt x="3470" y="837"/>
                    </a:lnTo>
                    <a:lnTo>
                      <a:pt x="3418" y="763"/>
                    </a:lnTo>
                    <a:lnTo>
                      <a:pt x="3361" y="691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4"/>
                    </a:lnTo>
                    <a:lnTo>
                      <a:pt x="3032" y="377"/>
                    </a:lnTo>
                    <a:lnTo>
                      <a:pt x="2958" y="325"/>
                    </a:lnTo>
                    <a:lnTo>
                      <a:pt x="2880" y="275"/>
                    </a:lnTo>
                    <a:lnTo>
                      <a:pt x="2801" y="229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5"/>
                    </a:lnTo>
                    <a:lnTo>
                      <a:pt x="2371" y="60"/>
                    </a:lnTo>
                    <a:lnTo>
                      <a:pt x="2279" y="38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8"/>
                    </a:lnTo>
                    <a:lnTo>
                      <a:pt x="1424" y="60"/>
                    </a:lnTo>
                    <a:lnTo>
                      <a:pt x="1335" y="85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29"/>
                    </a:lnTo>
                    <a:lnTo>
                      <a:pt x="915" y="275"/>
                    </a:lnTo>
                    <a:lnTo>
                      <a:pt x="838" y="325"/>
                    </a:lnTo>
                    <a:lnTo>
                      <a:pt x="764" y="377"/>
                    </a:lnTo>
                    <a:lnTo>
                      <a:pt x="692" y="434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3"/>
                    </a:lnTo>
                    <a:lnTo>
                      <a:pt x="435" y="691"/>
                    </a:lnTo>
                    <a:lnTo>
                      <a:pt x="378" y="763"/>
                    </a:lnTo>
                    <a:lnTo>
                      <a:pt x="325" y="837"/>
                    </a:lnTo>
                    <a:lnTo>
                      <a:pt x="276" y="915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0"/>
                    </a:lnTo>
                    <a:lnTo>
                      <a:pt x="115" y="1246"/>
                    </a:lnTo>
                    <a:lnTo>
                      <a:pt x="86" y="1334"/>
                    </a:lnTo>
                    <a:lnTo>
                      <a:pt x="60" y="1424"/>
                    </a:lnTo>
                    <a:lnTo>
                      <a:pt x="39" y="1516"/>
                    </a:lnTo>
                    <a:lnTo>
                      <a:pt x="23" y="1609"/>
                    </a:lnTo>
                    <a:lnTo>
                      <a:pt x="10" y="1704"/>
                    </a:lnTo>
                    <a:lnTo>
                      <a:pt x="3" y="1800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1"/>
                    </a:lnTo>
                    <a:lnTo>
                      <a:pt x="23" y="2186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0"/>
                    </a:lnTo>
                    <a:lnTo>
                      <a:pt x="115" y="2549"/>
                    </a:lnTo>
                    <a:lnTo>
                      <a:pt x="150" y="2635"/>
                    </a:lnTo>
                    <a:lnTo>
                      <a:pt x="187" y="2719"/>
                    </a:lnTo>
                    <a:lnTo>
                      <a:pt x="230" y="2800"/>
                    </a:lnTo>
                    <a:lnTo>
                      <a:pt x="276" y="2880"/>
                    </a:lnTo>
                    <a:lnTo>
                      <a:pt x="325" y="2957"/>
                    </a:lnTo>
                    <a:lnTo>
                      <a:pt x="378" y="3031"/>
                    </a:lnTo>
                    <a:lnTo>
                      <a:pt x="435" y="3103"/>
                    </a:lnTo>
                    <a:lnTo>
                      <a:pt x="495" y="3172"/>
                    </a:lnTo>
                    <a:lnTo>
                      <a:pt x="557" y="3239"/>
                    </a:lnTo>
                    <a:lnTo>
                      <a:pt x="623" y="3301"/>
                    </a:lnTo>
                    <a:lnTo>
                      <a:pt x="692" y="3361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6"/>
                    </a:lnTo>
                    <a:lnTo>
                      <a:pt x="1077" y="3608"/>
                    </a:lnTo>
                    <a:lnTo>
                      <a:pt x="1161" y="3645"/>
                    </a:lnTo>
                    <a:lnTo>
                      <a:pt x="1247" y="3680"/>
                    </a:lnTo>
                    <a:lnTo>
                      <a:pt x="1335" y="3709"/>
                    </a:lnTo>
                    <a:lnTo>
                      <a:pt x="1424" y="3736"/>
                    </a:lnTo>
                    <a:lnTo>
                      <a:pt x="1516" y="3756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2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Text Box 55"/>
              <p:cNvSpPr/>
              <p:nvPr/>
            </p:nvSpPr>
            <p:spPr>
              <a:xfrm>
                <a:off x="5759280" y="2818440"/>
                <a:ext cx="138564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информацией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Line 27"/>
            <p:cNvSpPr/>
            <p:nvPr/>
          </p:nvSpPr>
          <p:spPr>
            <a:xfrm flipH="1">
              <a:off x="2211480" y="426708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1" name="Group 139"/>
            <p:cNvGrpSpPr/>
            <p:nvPr/>
          </p:nvGrpSpPr>
          <p:grpSpPr>
            <a:xfrm>
              <a:off x="1848600" y="3740040"/>
              <a:ext cx="1434600" cy="1141200"/>
              <a:chOff x="1848600" y="3740040"/>
              <a:chExt cx="1434600" cy="1141200"/>
            </a:xfrm>
          </p:grpSpPr>
          <p:sp>
            <p:nvSpPr>
              <p:cNvPr id="192" name="Freeform 81"/>
              <p:cNvSpPr/>
              <p:nvPr/>
            </p:nvSpPr>
            <p:spPr>
              <a:xfrm>
                <a:off x="1886400" y="3740040"/>
                <a:ext cx="1373760" cy="1141200"/>
              </a:xfrm>
              <a:custGeom>
                <a:avLst/>
                <a:gdLst>
                  <a:gd name="textAreaLeft" fmla="*/ 0 w 1373760"/>
                  <a:gd name="textAreaRight" fmla="*/ 1373760 w 137376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6"/>
                    </a:lnTo>
                    <a:lnTo>
                      <a:pt x="2880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6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3"/>
                    </a:lnTo>
                    <a:lnTo>
                      <a:pt x="3238" y="557"/>
                    </a:lnTo>
                    <a:lnTo>
                      <a:pt x="3172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3"/>
                    </a:lnTo>
                    <a:lnTo>
                      <a:pt x="1898" y="0"/>
                    </a:lnTo>
                    <a:lnTo>
                      <a:pt x="1801" y="3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5"/>
                    </a:lnTo>
                    <a:lnTo>
                      <a:pt x="188" y="1077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8"/>
                    </a:lnTo>
                    <a:lnTo>
                      <a:pt x="378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8"/>
                    </a:lnTo>
                    <a:lnTo>
                      <a:pt x="838" y="3471"/>
                    </a:lnTo>
                    <a:lnTo>
                      <a:pt x="915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3" name="Text Box 82"/>
              <p:cNvSpPr/>
              <p:nvPr/>
            </p:nvSpPr>
            <p:spPr>
              <a:xfrm>
                <a:off x="1848600" y="4039920"/>
                <a:ext cx="14346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Документы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и запис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94" name="Group 142"/>
            <p:cNvGrpSpPr/>
            <p:nvPr/>
          </p:nvGrpSpPr>
          <p:grpSpPr>
            <a:xfrm>
              <a:off x="3798720" y="3740040"/>
              <a:ext cx="1476360" cy="1141200"/>
              <a:chOff x="3798720" y="3740040"/>
              <a:chExt cx="1476360" cy="1141200"/>
            </a:xfrm>
          </p:grpSpPr>
          <p:sp>
            <p:nvSpPr>
              <p:cNvPr id="195" name="Freeform 30"/>
              <p:cNvSpPr/>
              <p:nvPr/>
            </p:nvSpPr>
            <p:spPr>
              <a:xfrm>
                <a:off x="3853440" y="3740040"/>
                <a:ext cx="1374480" cy="114120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41200"/>
                  <a:gd name="textAreaBottom" fmla="*/ 1141560 h 114120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6"/>
                    </a:lnTo>
                    <a:lnTo>
                      <a:pt x="2879" y="3521"/>
                    </a:lnTo>
                    <a:lnTo>
                      <a:pt x="2957" y="3471"/>
                    </a:lnTo>
                    <a:lnTo>
                      <a:pt x="3031" y="3418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4"/>
                    </a:lnTo>
                    <a:lnTo>
                      <a:pt x="3417" y="3032"/>
                    </a:lnTo>
                    <a:lnTo>
                      <a:pt x="3470" y="2958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2"/>
                    </a:lnTo>
                    <a:lnTo>
                      <a:pt x="3756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2" y="1996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5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7"/>
                    </a:lnTo>
                    <a:lnTo>
                      <a:pt x="3565" y="995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0" y="623"/>
                    </a:lnTo>
                    <a:lnTo>
                      <a:pt x="3238" y="557"/>
                    </a:lnTo>
                    <a:lnTo>
                      <a:pt x="3171" y="495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7"/>
                    </a:lnTo>
                    <a:lnTo>
                      <a:pt x="2634" y="150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3"/>
                    </a:lnTo>
                    <a:lnTo>
                      <a:pt x="1897" y="0"/>
                    </a:lnTo>
                    <a:lnTo>
                      <a:pt x="1799" y="3"/>
                    </a:lnTo>
                    <a:lnTo>
                      <a:pt x="1703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50"/>
                    </a:lnTo>
                    <a:lnTo>
                      <a:pt x="1076" y="187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5"/>
                    </a:lnTo>
                    <a:lnTo>
                      <a:pt x="557" y="557"/>
                    </a:lnTo>
                    <a:lnTo>
                      <a:pt x="494" y="623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5" y="916"/>
                    </a:lnTo>
                    <a:lnTo>
                      <a:pt x="229" y="995"/>
                    </a:lnTo>
                    <a:lnTo>
                      <a:pt x="188" y="1077"/>
                    </a:lnTo>
                    <a:lnTo>
                      <a:pt x="149" y="1161"/>
                    </a:lnTo>
                    <a:lnTo>
                      <a:pt x="116" y="1247"/>
                    </a:lnTo>
                    <a:lnTo>
                      <a:pt x="85" y="1335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6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2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49" y="2636"/>
                    </a:lnTo>
                    <a:lnTo>
                      <a:pt x="188" y="2720"/>
                    </a:lnTo>
                    <a:lnTo>
                      <a:pt x="229" y="2801"/>
                    </a:lnTo>
                    <a:lnTo>
                      <a:pt x="275" y="2881"/>
                    </a:lnTo>
                    <a:lnTo>
                      <a:pt x="325" y="2958"/>
                    </a:lnTo>
                    <a:lnTo>
                      <a:pt x="377" y="3032"/>
                    </a:lnTo>
                    <a:lnTo>
                      <a:pt x="434" y="3104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8"/>
                    </a:lnTo>
                    <a:lnTo>
                      <a:pt x="837" y="3471"/>
                    </a:lnTo>
                    <a:lnTo>
                      <a:pt x="914" y="3521"/>
                    </a:lnTo>
                    <a:lnTo>
                      <a:pt x="994" y="3566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6" name="Text Box 54"/>
              <p:cNvSpPr/>
              <p:nvPr/>
            </p:nvSpPr>
            <p:spPr>
              <a:xfrm>
                <a:off x="3798720" y="396432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правление нештатными ситуациями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7" name="Freeform 50"/>
            <p:cNvSpPr/>
            <p:nvPr/>
          </p:nvSpPr>
          <p:spPr>
            <a:xfrm>
              <a:off x="5751720" y="3733560"/>
              <a:ext cx="1374480" cy="1141560"/>
            </a:xfrm>
            <a:custGeom>
              <a:avLst/>
              <a:gdLst>
                <a:gd name="textAreaLeft" fmla="*/ 0 w 1374480"/>
                <a:gd name="textAreaRight" fmla="*/ 1374840 w 1374480"/>
                <a:gd name="textAreaTop" fmla="*/ 0 h 1141560"/>
                <a:gd name="textAreaBottom" fmla="*/ 1141920 h 1141560"/>
              </a:gdLst>
              <a:ahLst/>
              <a:rect l="textAreaLeft" t="textAreaTop" r="textAreaRight" b="textAreaBottom"/>
              <a:pathLst>
                <a:path w="3795" h="3795">
                  <a:moveTo>
                    <a:pt x="1897" y="3795"/>
                  </a:moveTo>
                  <a:lnTo>
                    <a:pt x="1995" y="3793"/>
                  </a:lnTo>
                  <a:lnTo>
                    <a:pt x="2091" y="3786"/>
                  </a:lnTo>
                  <a:lnTo>
                    <a:pt x="2186" y="3774"/>
                  </a:lnTo>
                  <a:lnTo>
                    <a:pt x="2279" y="3757"/>
                  </a:lnTo>
                  <a:lnTo>
                    <a:pt x="2371" y="3735"/>
                  </a:lnTo>
                  <a:lnTo>
                    <a:pt x="2461" y="3710"/>
                  </a:lnTo>
                  <a:lnTo>
                    <a:pt x="2549" y="3680"/>
                  </a:lnTo>
                  <a:lnTo>
                    <a:pt x="2635" y="3646"/>
                  </a:lnTo>
                  <a:lnTo>
                    <a:pt x="2719" y="3608"/>
                  </a:lnTo>
                  <a:lnTo>
                    <a:pt x="2801" y="3566"/>
                  </a:lnTo>
                  <a:lnTo>
                    <a:pt x="2880" y="3521"/>
                  </a:lnTo>
                  <a:lnTo>
                    <a:pt x="2958" y="3471"/>
                  </a:lnTo>
                  <a:lnTo>
                    <a:pt x="3032" y="3418"/>
                  </a:lnTo>
                  <a:lnTo>
                    <a:pt x="3104" y="3362"/>
                  </a:lnTo>
                  <a:lnTo>
                    <a:pt x="3172" y="3302"/>
                  </a:lnTo>
                  <a:lnTo>
                    <a:pt x="3238" y="3238"/>
                  </a:lnTo>
                  <a:lnTo>
                    <a:pt x="3301" y="3173"/>
                  </a:lnTo>
                  <a:lnTo>
                    <a:pt x="3361" y="3104"/>
                  </a:lnTo>
                  <a:lnTo>
                    <a:pt x="3418" y="3032"/>
                  </a:lnTo>
                  <a:lnTo>
                    <a:pt x="3470" y="2958"/>
                  </a:lnTo>
                  <a:lnTo>
                    <a:pt x="3520" y="2881"/>
                  </a:lnTo>
                  <a:lnTo>
                    <a:pt x="3566" y="2801"/>
                  </a:lnTo>
                  <a:lnTo>
                    <a:pt x="3607" y="2720"/>
                  </a:lnTo>
                  <a:lnTo>
                    <a:pt x="3645" y="2636"/>
                  </a:lnTo>
                  <a:lnTo>
                    <a:pt x="3679" y="2550"/>
                  </a:lnTo>
                  <a:lnTo>
                    <a:pt x="3710" y="2461"/>
                  </a:lnTo>
                  <a:lnTo>
                    <a:pt x="3735" y="2372"/>
                  </a:lnTo>
                  <a:lnTo>
                    <a:pt x="3756" y="2279"/>
                  </a:lnTo>
                  <a:lnTo>
                    <a:pt x="3773" y="2187"/>
                  </a:lnTo>
                  <a:lnTo>
                    <a:pt x="3785" y="2092"/>
                  </a:lnTo>
                  <a:lnTo>
                    <a:pt x="3792" y="1996"/>
                  </a:lnTo>
                  <a:lnTo>
                    <a:pt x="3795" y="1898"/>
                  </a:lnTo>
                  <a:lnTo>
                    <a:pt x="3792" y="1801"/>
                  </a:lnTo>
                  <a:lnTo>
                    <a:pt x="3785" y="1705"/>
                  </a:lnTo>
                  <a:lnTo>
                    <a:pt x="3773" y="1610"/>
                  </a:lnTo>
                  <a:lnTo>
                    <a:pt x="3756" y="1516"/>
                  </a:lnTo>
                  <a:lnTo>
                    <a:pt x="3735" y="1425"/>
                  </a:lnTo>
                  <a:lnTo>
                    <a:pt x="3710" y="1335"/>
                  </a:lnTo>
                  <a:lnTo>
                    <a:pt x="3679" y="1247"/>
                  </a:lnTo>
                  <a:lnTo>
                    <a:pt x="3645" y="1161"/>
                  </a:lnTo>
                  <a:lnTo>
                    <a:pt x="3607" y="1077"/>
                  </a:lnTo>
                  <a:lnTo>
                    <a:pt x="3566" y="995"/>
                  </a:lnTo>
                  <a:lnTo>
                    <a:pt x="3520" y="916"/>
                  </a:lnTo>
                  <a:lnTo>
                    <a:pt x="3470" y="838"/>
                  </a:lnTo>
                  <a:lnTo>
                    <a:pt x="3418" y="764"/>
                  </a:lnTo>
                  <a:lnTo>
                    <a:pt x="3361" y="692"/>
                  </a:lnTo>
                  <a:lnTo>
                    <a:pt x="3301" y="623"/>
                  </a:lnTo>
                  <a:lnTo>
                    <a:pt x="3238" y="557"/>
                  </a:lnTo>
                  <a:lnTo>
                    <a:pt x="3172" y="495"/>
                  </a:lnTo>
                  <a:lnTo>
                    <a:pt x="3104" y="435"/>
                  </a:lnTo>
                  <a:lnTo>
                    <a:pt x="3032" y="378"/>
                  </a:lnTo>
                  <a:lnTo>
                    <a:pt x="2958" y="325"/>
                  </a:lnTo>
                  <a:lnTo>
                    <a:pt x="2880" y="276"/>
                  </a:lnTo>
                  <a:lnTo>
                    <a:pt x="2801" y="230"/>
                  </a:lnTo>
                  <a:lnTo>
                    <a:pt x="2719" y="187"/>
                  </a:lnTo>
                  <a:lnTo>
                    <a:pt x="2635" y="150"/>
                  </a:lnTo>
                  <a:lnTo>
                    <a:pt x="2549" y="116"/>
                  </a:lnTo>
                  <a:lnTo>
                    <a:pt x="2461" y="86"/>
                  </a:lnTo>
                  <a:lnTo>
                    <a:pt x="2371" y="60"/>
                  </a:lnTo>
                  <a:lnTo>
                    <a:pt x="2279" y="39"/>
                  </a:lnTo>
                  <a:lnTo>
                    <a:pt x="2186" y="22"/>
                  </a:lnTo>
                  <a:lnTo>
                    <a:pt x="2091" y="10"/>
                  </a:lnTo>
                  <a:lnTo>
                    <a:pt x="1995" y="3"/>
                  </a:lnTo>
                  <a:lnTo>
                    <a:pt x="1897" y="0"/>
                  </a:lnTo>
                  <a:lnTo>
                    <a:pt x="1800" y="3"/>
                  </a:lnTo>
                  <a:lnTo>
                    <a:pt x="1704" y="10"/>
                  </a:lnTo>
                  <a:lnTo>
                    <a:pt x="1610" y="22"/>
                  </a:lnTo>
                  <a:lnTo>
                    <a:pt x="1516" y="39"/>
                  </a:lnTo>
                  <a:lnTo>
                    <a:pt x="1424" y="60"/>
                  </a:lnTo>
                  <a:lnTo>
                    <a:pt x="1335" y="86"/>
                  </a:lnTo>
                  <a:lnTo>
                    <a:pt x="1247" y="116"/>
                  </a:lnTo>
                  <a:lnTo>
                    <a:pt x="1161" y="150"/>
                  </a:lnTo>
                  <a:lnTo>
                    <a:pt x="1077" y="187"/>
                  </a:lnTo>
                  <a:lnTo>
                    <a:pt x="995" y="230"/>
                  </a:lnTo>
                  <a:lnTo>
                    <a:pt x="915" y="276"/>
                  </a:lnTo>
                  <a:lnTo>
                    <a:pt x="838" y="325"/>
                  </a:lnTo>
                  <a:lnTo>
                    <a:pt x="764" y="378"/>
                  </a:lnTo>
                  <a:lnTo>
                    <a:pt x="692" y="435"/>
                  </a:lnTo>
                  <a:lnTo>
                    <a:pt x="623" y="495"/>
                  </a:lnTo>
                  <a:lnTo>
                    <a:pt x="557" y="557"/>
                  </a:lnTo>
                  <a:lnTo>
                    <a:pt x="495" y="623"/>
                  </a:lnTo>
                  <a:lnTo>
                    <a:pt x="435" y="692"/>
                  </a:lnTo>
                  <a:lnTo>
                    <a:pt x="378" y="764"/>
                  </a:lnTo>
                  <a:lnTo>
                    <a:pt x="325" y="838"/>
                  </a:lnTo>
                  <a:lnTo>
                    <a:pt x="276" y="916"/>
                  </a:lnTo>
                  <a:lnTo>
                    <a:pt x="230" y="995"/>
                  </a:lnTo>
                  <a:lnTo>
                    <a:pt x="187" y="1077"/>
                  </a:lnTo>
                  <a:lnTo>
                    <a:pt x="150" y="1161"/>
                  </a:lnTo>
                  <a:lnTo>
                    <a:pt x="115" y="1247"/>
                  </a:lnTo>
                  <a:lnTo>
                    <a:pt x="86" y="1335"/>
                  </a:lnTo>
                  <a:lnTo>
                    <a:pt x="60" y="1425"/>
                  </a:lnTo>
                  <a:lnTo>
                    <a:pt x="39" y="1516"/>
                  </a:lnTo>
                  <a:lnTo>
                    <a:pt x="23" y="1610"/>
                  </a:lnTo>
                  <a:lnTo>
                    <a:pt x="10" y="1705"/>
                  </a:lnTo>
                  <a:lnTo>
                    <a:pt x="3" y="1801"/>
                  </a:lnTo>
                  <a:lnTo>
                    <a:pt x="0" y="1898"/>
                  </a:lnTo>
                  <a:lnTo>
                    <a:pt x="3" y="1996"/>
                  </a:lnTo>
                  <a:lnTo>
                    <a:pt x="10" y="2092"/>
                  </a:lnTo>
                  <a:lnTo>
                    <a:pt x="23" y="2187"/>
                  </a:lnTo>
                  <a:lnTo>
                    <a:pt x="39" y="2279"/>
                  </a:lnTo>
                  <a:lnTo>
                    <a:pt x="60" y="2372"/>
                  </a:lnTo>
                  <a:lnTo>
                    <a:pt x="86" y="2461"/>
                  </a:lnTo>
                  <a:lnTo>
                    <a:pt x="115" y="2550"/>
                  </a:lnTo>
                  <a:lnTo>
                    <a:pt x="150" y="2636"/>
                  </a:lnTo>
                  <a:lnTo>
                    <a:pt x="187" y="2720"/>
                  </a:lnTo>
                  <a:lnTo>
                    <a:pt x="230" y="2801"/>
                  </a:lnTo>
                  <a:lnTo>
                    <a:pt x="276" y="2881"/>
                  </a:lnTo>
                  <a:lnTo>
                    <a:pt x="325" y="2958"/>
                  </a:lnTo>
                  <a:lnTo>
                    <a:pt x="378" y="3032"/>
                  </a:lnTo>
                  <a:lnTo>
                    <a:pt x="435" y="3104"/>
                  </a:lnTo>
                  <a:lnTo>
                    <a:pt x="495" y="3173"/>
                  </a:lnTo>
                  <a:lnTo>
                    <a:pt x="557" y="3238"/>
                  </a:lnTo>
                  <a:lnTo>
                    <a:pt x="623" y="3302"/>
                  </a:lnTo>
                  <a:lnTo>
                    <a:pt x="692" y="3362"/>
                  </a:lnTo>
                  <a:lnTo>
                    <a:pt x="764" y="3418"/>
                  </a:lnTo>
                  <a:lnTo>
                    <a:pt x="838" y="3471"/>
                  </a:lnTo>
                  <a:lnTo>
                    <a:pt x="915" y="3521"/>
                  </a:lnTo>
                  <a:lnTo>
                    <a:pt x="995" y="3566"/>
                  </a:lnTo>
                  <a:lnTo>
                    <a:pt x="1077" y="3608"/>
                  </a:lnTo>
                  <a:lnTo>
                    <a:pt x="1161" y="3646"/>
                  </a:lnTo>
                  <a:lnTo>
                    <a:pt x="1247" y="3680"/>
                  </a:lnTo>
                  <a:lnTo>
                    <a:pt x="1335" y="3710"/>
                  </a:lnTo>
                  <a:lnTo>
                    <a:pt x="1424" y="3735"/>
                  </a:lnTo>
                  <a:lnTo>
                    <a:pt x="1516" y="3757"/>
                  </a:lnTo>
                  <a:lnTo>
                    <a:pt x="1610" y="3774"/>
                  </a:lnTo>
                  <a:lnTo>
                    <a:pt x="1704" y="3786"/>
                  </a:lnTo>
                  <a:lnTo>
                    <a:pt x="1800" y="3793"/>
                  </a:lnTo>
                  <a:lnTo>
                    <a:pt x="1897" y="3795"/>
                  </a:lnTo>
                  <a:close/>
                </a:path>
              </a:pathLst>
            </a:cu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Text Box 51"/>
            <p:cNvSpPr/>
            <p:nvPr/>
          </p:nvSpPr>
          <p:spPr>
            <a:xfrm>
              <a:off x="5706360" y="4143240"/>
              <a:ext cx="14767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sp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ffffff"/>
                  </a:solidFill>
                  <a:latin typeface="Arial"/>
                </a:rPr>
                <a:t>Оценка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Line 27"/>
            <p:cNvSpPr/>
            <p:nvPr/>
          </p:nvSpPr>
          <p:spPr>
            <a:xfrm flipH="1">
              <a:off x="2302560" y="5560920"/>
              <a:ext cx="4676040" cy="1440"/>
            </a:xfrm>
            <a:prstGeom prst="line">
              <a:avLst/>
            </a:prstGeom>
            <a:ln w="3240">
              <a:solidFill>
                <a:srgbClr val="6666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00" name="Group 148"/>
            <p:cNvGrpSpPr/>
            <p:nvPr/>
          </p:nvGrpSpPr>
          <p:grpSpPr>
            <a:xfrm>
              <a:off x="1879200" y="5032080"/>
              <a:ext cx="1472400" cy="1139760"/>
              <a:chOff x="1879200" y="5032080"/>
              <a:chExt cx="1472400" cy="1139760"/>
            </a:xfrm>
          </p:grpSpPr>
          <p:sp>
            <p:nvSpPr>
              <p:cNvPr id="201" name="Freeform 57"/>
              <p:cNvSpPr/>
              <p:nvPr/>
            </p:nvSpPr>
            <p:spPr>
              <a:xfrm>
                <a:off x="1935720" y="5032080"/>
                <a:ext cx="1372680" cy="113976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8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7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0" y="3103"/>
                    </a:lnTo>
                    <a:lnTo>
                      <a:pt x="3417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8" y="2720"/>
                    </a:lnTo>
                    <a:lnTo>
                      <a:pt x="3646" y="2636"/>
                    </a:lnTo>
                    <a:lnTo>
                      <a:pt x="3679" y="2550"/>
                    </a:lnTo>
                    <a:lnTo>
                      <a:pt x="3709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3" y="1995"/>
                    </a:lnTo>
                    <a:lnTo>
                      <a:pt x="3795" y="1898"/>
                    </a:lnTo>
                    <a:lnTo>
                      <a:pt x="3793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09" y="1334"/>
                    </a:lnTo>
                    <a:lnTo>
                      <a:pt x="3679" y="1247"/>
                    </a:lnTo>
                    <a:lnTo>
                      <a:pt x="3646" y="1161"/>
                    </a:lnTo>
                    <a:lnTo>
                      <a:pt x="3608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7" y="764"/>
                    </a:lnTo>
                    <a:lnTo>
                      <a:pt x="3360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7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8" y="0"/>
                    </a:lnTo>
                    <a:lnTo>
                      <a:pt x="1801" y="2"/>
                    </a:lnTo>
                    <a:lnTo>
                      <a:pt x="1704" y="10"/>
                    </a:lnTo>
                    <a:lnTo>
                      <a:pt x="1609" y="22"/>
                    </a:lnTo>
                    <a:lnTo>
                      <a:pt x="1516" y="39"/>
                    </a:lnTo>
                    <a:lnTo>
                      <a:pt x="1425" y="60"/>
                    </a:lnTo>
                    <a:lnTo>
                      <a:pt x="1334" y="86"/>
                    </a:lnTo>
                    <a:lnTo>
                      <a:pt x="1246" y="116"/>
                    </a:lnTo>
                    <a:lnTo>
                      <a:pt x="1160" y="149"/>
                    </a:lnTo>
                    <a:lnTo>
                      <a:pt x="1076" y="188"/>
                    </a:lnTo>
                    <a:lnTo>
                      <a:pt x="994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3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8" y="1076"/>
                    </a:lnTo>
                    <a:lnTo>
                      <a:pt x="150" y="1161"/>
                    </a:lnTo>
                    <a:lnTo>
                      <a:pt x="116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6" y="2550"/>
                    </a:lnTo>
                    <a:lnTo>
                      <a:pt x="150" y="2636"/>
                    </a:lnTo>
                    <a:lnTo>
                      <a:pt x="188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3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4" y="3565"/>
                    </a:lnTo>
                    <a:lnTo>
                      <a:pt x="1076" y="3608"/>
                    </a:lnTo>
                    <a:lnTo>
                      <a:pt x="1160" y="3646"/>
                    </a:lnTo>
                    <a:lnTo>
                      <a:pt x="1246" y="3680"/>
                    </a:lnTo>
                    <a:lnTo>
                      <a:pt x="1334" y="3710"/>
                    </a:lnTo>
                    <a:lnTo>
                      <a:pt x="1425" y="3735"/>
                    </a:lnTo>
                    <a:lnTo>
                      <a:pt x="1516" y="3757"/>
                    </a:lnTo>
                    <a:lnTo>
                      <a:pt x="1609" y="3774"/>
                    </a:lnTo>
                    <a:lnTo>
                      <a:pt x="1704" y="3786"/>
                    </a:lnTo>
                    <a:lnTo>
                      <a:pt x="1801" y="3793"/>
                    </a:lnTo>
                    <a:lnTo>
                      <a:pt x="1898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2" name="Text Box 58"/>
              <p:cNvSpPr/>
              <p:nvPr/>
            </p:nvSpPr>
            <p:spPr>
              <a:xfrm>
                <a:off x="1879200" y="5333040"/>
                <a:ext cx="14724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Улучшение процесс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3" name="Group 151"/>
            <p:cNvGrpSpPr/>
            <p:nvPr/>
          </p:nvGrpSpPr>
          <p:grpSpPr>
            <a:xfrm>
              <a:off x="3821400" y="4966920"/>
              <a:ext cx="1476360" cy="1140120"/>
              <a:chOff x="3821400" y="4966920"/>
              <a:chExt cx="1476360" cy="1140120"/>
            </a:xfrm>
          </p:grpSpPr>
          <p:sp>
            <p:nvSpPr>
              <p:cNvPr id="204" name="Freeform 34"/>
              <p:cNvSpPr/>
              <p:nvPr/>
            </p:nvSpPr>
            <p:spPr>
              <a:xfrm>
                <a:off x="3879360" y="4966920"/>
                <a:ext cx="1372680" cy="1140120"/>
              </a:xfrm>
              <a:custGeom>
                <a:avLst/>
                <a:gdLst>
                  <a:gd name="textAreaLeft" fmla="*/ 0 w 1372680"/>
                  <a:gd name="textAreaRight" fmla="*/ 1372680 w 1372680"/>
                  <a:gd name="textAreaTop" fmla="*/ 0 h 1140120"/>
                  <a:gd name="textAreaBottom" fmla="*/ 1140480 h 114012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4" y="3793"/>
                    </a:lnTo>
                    <a:lnTo>
                      <a:pt x="2090" y="3786"/>
                    </a:lnTo>
                    <a:lnTo>
                      <a:pt x="2185" y="3774"/>
                    </a:lnTo>
                    <a:lnTo>
                      <a:pt x="2279" y="3757"/>
                    </a:lnTo>
                    <a:lnTo>
                      <a:pt x="2370" y="3735"/>
                    </a:lnTo>
                    <a:lnTo>
                      <a:pt x="2460" y="3710"/>
                    </a:lnTo>
                    <a:lnTo>
                      <a:pt x="2548" y="3680"/>
                    </a:lnTo>
                    <a:lnTo>
                      <a:pt x="2634" y="3646"/>
                    </a:lnTo>
                    <a:lnTo>
                      <a:pt x="2718" y="3608"/>
                    </a:lnTo>
                    <a:lnTo>
                      <a:pt x="2800" y="3565"/>
                    </a:lnTo>
                    <a:lnTo>
                      <a:pt x="2879" y="3520"/>
                    </a:lnTo>
                    <a:lnTo>
                      <a:pt x="2956" y="3471"/>
                    </a:lnTo>
                    <a:lnTo>
                      <a:pt x="3031" y="3417"/>
                    </a:lnTo>
                    <a:lnTo>
                      <a:pt x="3103" y="3362"/>
                    </a:lnTo>
                    <a:lnTo>
                      <a:pt x="3171" y="3302"/>
                    </a:lnTo>
                    <a:lnTo>
                      <a:pt x="3238" y="3238"/>
                    </a:lnTo>
                    <a:lnTo>
                      <a:pt x="3300" y="3173"/>
                    </a:lnTo>
                    <a:lnTo>
                      <a:pt x="3360" y="3103"/>
                    </a:lnTo>
                    <a:lnTo>
                      <a:pt x="3416" y="3032"/>
                    </a:lnTo>
                    <a:lnTo>
                      <a:pt x="3470" y="2957"/>
                    </a:lnTo>
                    <a:lnTo>
                      <a:pt x="3519" y="2881"/>
                    </a:lnTo>
                    <a:lnTo>
                      <a:pt x="3565" y="2801"/>
                    </a:lnTo>
                    <a:lnTo>
                      <a:pt x="3606" y="2720"/>
                    </a:lnTo>
                    <a:lnTo>
                      <a:pt x="3644" y="2636"/>
                    </a:lnTo>
                    <a:lnTo>
                      <a:pt x="3679" y="2550"/>
                    </a:lnTo>
                    <a:lnTo>
                      <a:pt x="3708" y="2461"/>
                    </a:lnTo>
                    <a:lnTo>
                      <a:pt x="3735" y="2371"/>
                    </a:lnTo>
                    <a:lnTo>
                      <a:pt x="3755" y="2279"/>
                    </a:lnTo>
                    <a:lnTo>
                      <a:pt x="3772" y="2187"/>
                    </a:lnTo>
                    <a:lnTo>
                      <a:pt x="3785" y="2092"/>
                    </a:lnTo>
                    <a:lnTo>
                      <a:pt x="3791" y="1995"/>
                    </a:lnTo>
                    <a:lnTo>
                      <a:pt x="3795" y="1898"/>
                    </a:lnTo>
                    <a:lnTo>
                      <a:pt x="3791" y="1801"/>
                    </a:lnTo>
                    <a:lnTo>
                      <a:pt x="3785" y="1705"/>
                    </a:lnTo>
                    <a:lnTo>
                      <a:pt x="3772" y="1610"/>
                    </a:lnTo>
                    <a:lnTo>
                      <a:pt x="3755" y="1516"/>
                    </a:lnTo>
                    <a:lnTo>
                      <a:pt x="3735" y="1425"/>
                    </a:lnTo>
                    <a:lnTo>
                      <a:pt x="3708" y="1334"/>
                    </a:lnTo>
                    <a:lnTo>
                      <a:pt x="3679" y="1247"/>
                    </a:lnTo>
                    <a:lnTo>
                      <a:pt x="3644" y="1161"/>
                    </a:lnTo>
                    <a:lnTo>
                      <a:pt x="3606" y="1076"/>
                    </a:lnTo>
                    <a:lnTo>
                      <a:pt x="3565" y="994"/>
                    </a:lnTo>
                    <a:lnTo>
                      <a:pt x="3519" y="916"/>
                    </a:lnTo>
                    <a:lnTo>
                      <a:pt x="3470" y="838"/>
                    </a:lnTo>
                    <a:lnTo>
                      <a:pt x="3416" y="764"/>
                    </a:lnTo>
                    <a:lnTo>
                      <a:pt x="3360" y="692"/>
                    </a:lnTo>
                    <a:lnTo>
                      <a:pt x="3300" y="624"/>
                    </a:lnTo>
                    <a:lnTo>
                      <a:pt x="3238" y="557"/>
                    </a:lnTo>
                    <a:lnTo>
                      <a:pt x="3171" y="494"/>
                    </a:lnTo>
                    <a:lnTo>
                      <a:pt x="3103" y="435"/>
                    </a:lnTo>
                    <a:lnTo>
                      <a:pt x="3031" y="378"/>
                    </a:lnTo>
                    <a:lnTo>
                      <a:pt x="2956" y="325"/>
                    </a:lnTo>
                    <a:lnTo>
                      <a:pt x="2879" y="276"/>
                    </a:lnTo>
                    <a:lnTo>
                      <a:pt x="2800" y="230"/>
                    </a:lnTo>
                    <a:lnTo>
                      <a:pt x="2718" y="188"/>
                    </a:lnTo>
                    <a:lnTo>
                      <a:pt x="2634" y="149"/>
                    </a:lnTo>
                    <a:lnTo>
                      <a:pt x="2548" y="116"/>
                    </a:lnTo>
                    <a:lnTo>
                      <a:pt x="2460" y="86"/>
                    </a:lnTo>
                    <a:lnTo>
                      <a:pt x="2370" y="60"/>
                    </a:lnTo>
                    <a:lnTo>
                      <a:pt x="2279" y="39"/>
                    </a:lnTo>
                    <a:lnTo>
                      <a:pt x="2185" y="22"/>
                    </a:lnTo>
                    <a:lnTo>
                      <a:pt x="2090" y="10"/>
                    </a:lnTo>
                    <a:lnTo>
                      <a:pt x="1994" y="2"/>
                    </a:lnTo>
                    <a:lnTo>
                      <a:pt x="1897" y="0"/>
                    </a:lnTo>
                    <a:lnTo>
                      <a:pt x="1799" y="2"/>
                    </a:lnTo>
                    <a:lnTo>
                      <a:pt x="1703" y="10"/>
                    </a:lnTo>
                    <a:lnTo>
                      <a:pt x="1608" y="22"/>
                    </a:lnTo>
                    <a:lnTo>
                      <a:pt x="1516" y="39"/>
                    </a:lnTo>
                    <a:lnTo>
                      <a:pt x="1423" y="60"/>
                    </a:lnTo>
                    <a:lnTo>
                      <a:pt x="1334" y="86"/>
                    </a:lnTo>
                    <a:lnTo>
                      <a:pt x="1245" y="116"/>
                    </a:lnTo>
                    <a:lnTo>
                      <a:pt x="1159" y="149"/>
                    </a:lnTo>
                    <a:lnTo>
                      <a:pt x="1075" y="188"/>
                    </a:lnTo>
                    <a:lnTo>
                      <a:pt x="994" y="230"/>
                    </a:lnTo>
                    <a:lnTo>
                      <a:pt x="914" y="276"/>
                    </a:lnTo>
                    <a:lnTo>
                      <a:pt x="837" y="325"/>
                    </a:lnTo>
                    <a:lnTo>
                      <a:pt x="763" y="378"/>
                    </a:lnTo>
                    <a:lnTo>
                      <a:pt x="691" y="435"/>
                    </a:lnTo>
                    <a:lnTo>
                      <a:pt x="622" y="494"/>
                    </a:lnTo>
                    <a:lnTo>
                      <a:pt x="557" y="557"/>
                    </a:lnTo>
                    <a:lnTo>
                      <a:pt x="494" y="624"/>
                    </a:lnTo>
                    <a:lnTo>
                      <a:pt x="434" y="692"/>
                    </a:lnTo>
                    <a:lnTo>
                      <a:pt x="377" y="764"/>
                    </a:lnTo>
                    <a:lnTo>
                      <a:pt x="325" y="838"/>
                    </a:lnTo>
                    <a:lnTo>
                      <a:pt x="274" y="916"/>
                    </a:lnTo>
                    <a:lnTo>
                      <a:pt x="229" y="994"/>
                    </a:lnTo>
                    <a:lnTo>
                      <a:pt x="187" y="1076"/>
                    </a:lnTo>
                    <a:lnTo>
                      <a:pt x="149" y="1161"/>
                    </a:lnTo>
                    <a:lnTo>
                      <a:pt x="115" y="1247"/>
                    </a:lnTo>
                    <a:lnTo>
                      <a:pt x="85" y="1334"/>
                    </a:lnTo>
                    <a:lnTo>
                      <a:pt x="60" y="1425"/>
                    </a:lnTo>
                    <a:lnTo>
                      <a:pt x="38" y="1516"/>
                    </a:lnTo>
                    <a:lnTo>
                      <a:pt x="22" y="1610"/>
                    </a:lnTo>
                    <a:lnTo>
                      <a:pt x="10" y="1705"/>
                    </a:lnTo>
                    <a:lnTo>
                      <a:pt x="2" y="1801"/>
                    </a:lnTo>
                    <a:lnTo>
                      <a:pt x="0" y="1898"/>
                    </a:lnTo>
                    <a:lnTo>
                      <a:pt x="2" y="1995"/>
                    </a:lnTo>
                    <a:lnTo>
                      <a:pt x="10" y="2092"/>
                    </a:lnTo>
                    <a:lnTo>
                      <a:pt x="22" y="2187"/>
                    </a:lnTo>
                    <a:lnTo>
                      <a:pt x="38" y="2279"/>
                    </a:lnTo>
                    <a:lnTo>
                      <a:pt x="60" y="2371"/>
                    </a:lnTo>
                    <a:lnTo>
                      <a:pt x="85" y="2461"/>
                    </a:lnTo>
                    <a:lnTo>
                      <a:pt x="115" y="2550"/>
                    </a:lnTo>
                    <a:lnTo>
                      <a:pt x="149" y="2636"/>
                    </a:lnTo>
                    <a:lnTo>
                      <a:pt x="187" y="2720"/>
                    </a:lnTo>
                    <a:lnTo>
                      <a:pt x="229" y="2801"/>
                    </a:lnTo>
                    <a:lnTo>
                      <a:pt x="274" y="2881"/>
                    </a:lnTo>
                    <a:lnTo>
                      <a:pt x="325" y="2957"/>
                    </a:lnTo>
                    <a:lnTo>
                      <a:pt x="377" y="3032"/>
                    </a:lnTo>
                    <a:lnTo>
                      <a:pt x="434" y="3103"/>
                    </a:lnTo>
                    <a:lnTo>
                      <a:pt x="494" y="3173"/>
                    </a:lnTo>
                    <a:lnTo>
                      <a:pt x="557" y="3238"/>
                    </a:lnTo>
                    <a:lnTo>
                      <a:pt x="622" y="3302"/>
                    </a:lnTo>
                    <a:lnTo>
                      <a:pt x="691" y="3362"/>
                    </a:lnTo>
                    <a:lnTo>
                      <a:pt x="763" y="3417"/>
                    </a:lnTo>
                    <a:lnTo>
                      <a:pt x="837" y="3471"/>
                    </a:lnTo>
                    <a:lnTo>
                      <a:pt x="914" y="3520"/>
                    </a:lnTo>
                    <a:lnTo>
                      <a:pt x="994" y="3565"/>
                    </a:lnTo>
                    <a:lnTo>
                      <a:pt x="1075" y="3608"/>
                    </a:lnTo>
                    <a:lnTo>
                      <a:pt x="1159" y="3646"/>
                    </a:lnTo>
                    <a:lnTo>
                      <a:pt x="1245" y="3680"/>
                    </a:lnTo>
                    <a:lnTo>
                      <a:pt x="1334" y="3710"/>
                    </a:lnTo>
                    <a:lnTo>
                      <a:pt x="1423" y="3735"/>
                    </a:lnTo>
                    <a:lnTo>
                      <a:pt x="1516" y="3757"/>
                    </a:lnTo>
                    <a:lnTo>
                      <a:pt x="1608" y="3774"/>
                    </a:lnTo>
                    <a:lnTo>
                      <a:pt x="1703" y="3786"/>
                    </a:lnTo>
                    <a:lnTo>
                      <a:pt x="1799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5" name="Text Box 61"/>
              <p:cNvSpPr/>
              <p:nvPr/>
            </p:nvSpPr>
            <p:spPr>
              <a:xfrm>
                <a:off x="3821400" y="5333040"/>
                <a:ext cx="147636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Обслуживание клиентов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206" name="Group 154"/>
            <p:cNvGrpSpPr/>
            <p:nvPr/>
          </p:nvGrpSpPr>
          <p:grpSpPr>
            <a:xfrm>
              <a:off x="5759640" y="5032080"/>
              <a:ext cx="1476360" cy="1139760"/>
              <a:chOff x="5759640" y="5032080"/>
              <a:chExt cx="1476360" cy="1139760"/>
            </a:xfrm>
          </p:grpSpPr>
          <p:sp>
            <p:nvSpPr>
              <p:cNvPr id="207" name="Freeform 63"/>
              <p:cNvSpPr/>
              <p:nvPr/>
            </p:nvSpPr>
            <p:spPr>
              <a:xfrm>
                <a:off x="5774400" y="5032080"/>
                <a:ext cx="1374480" cy="1139760"/>
              </a:xfrm>
              <a:custGeom>
                <a:avLst/>
                <a:gdLst>
                  <a:gd name="textAreaLeft" fmla="*/ 0 w 1374480"/>
                  <a:gd name="textAreaRight" fmla="*/ 1374840 w 1374480"/>
                  <a:gd name="textAreaTop" fmla="*/ 0 h 1139760"/>
                  <a:gd name="textAreaBottom" fmla="*/ 1140120 h 1139760"/>
                </a:gdLst>
                <a:ahLst/>
                <a:rect l="textAreaLeft" t="textAreaTop" r="textAreaRight" b="textAreaBottom"/>
                <a:pathLst>
                  <a:path w="3795" h="3795">
                    <a:moveTo>
                      <a:pt x="1897" y="3795"/>
                    </a:moveTo>
                    <a:lnTo>
                      <a:pt x="1995" y="3793"/>
                    </a:lnTo>
                    <a:lnTo>
                      <a:pt x="2091" y="3786"/>
                    </a:lnTo>
                    <a:lnTo>
                      <a:pt x="2186" y="3774"/>
                    </a:lnTo>
                    <a:lnTo>
                      <a:pt x="2279" y="3757"/>
                    </a:lnTo>
                    <a:lnTo>
                      <a:pt x="2371" y="3735"/>
                    </a:lnTo>
                    <a:lnTo>
                      <a:pt x="2461" y="3710"/>
                    </a:lnTo>
                    <a:lnTo>
                      <a:pt x="2549" y="3680"/>
                    </a:lnTo>
                    <a:lnTo>
                      <a:pt x="2635" y="3646"/>
                    </a:lnTo>
                    <a:lnTo>
                      <a:pt x="2719" y="3608"/>
                    </a:lnTo>
                    <a:lnTo>
                      <a:pt x="2801" y="3565"/>
                    </a:lnTo>
                    <a:lnTo>
                      <a:pt x="2880" y="3520"/>
                    </a:lnTo>
                    <a:lnTo>
                      <a:pt x="2958" y="3471"/>
                    </a:lnTo>
                    <a:lnTo>
                      <a:pt x="3032" y="3417"/>
                    </a:lnTo>
                    <a:lnTo>
                      <a:pt x="3104" y="3362"/>
                    </a:lnTo>
                    <a:lnTo>
                      <a:pt x="3172" y="3302"/>
                    </a:lnTo>
                    <a:lnTo>
                      <a:pt x="3238" y="3238"/>
                    </a:lnTo>
                    <a:lnTo>
                      <a:pt x="3301" y="3173"/>
                    </a:lnTo>
                    <a:lnTo>
                      <a:pt x="3361" y="3103"/>
                    </a:lnTo>
                    <a:lnTo>
                      <a:pt x="3418" y="3032"/>
                    </a:lnTo>
                    <a:lnTo>
                      <a:pt x="3470" y="2957"/>
                    </a:lnTo>
                    <a:lnTo>
                      <a:pt x="3520" y="2881"/>
                    </a:lnTo>
                    <a:lnTo>
                      <a:pt x="3566" y="2801"/>
                    </a:lnTo>
                    <a:lnTo>
                      <a:pt x="3607" y="2720"/>
                    </a:lnTo>
                    <a:lnTo>
                      <a:pt x="3645" y="2636"/>
                    </a:lnTo>
                    <a:lnTo>
                      <a:pt x="3679" y="2550"/>
                    </a:lnTo>
                    <a:lnTo>
                      <a:pt x="3710" y="2461"/>
                    </a:lnTo>
                    <a:lnTo>
                      <a:pt x="3735" y="2371"/>
                    </a:lnTo>
                    <a:lnTo>
                      <a:pt x="3756" y="2279"/>
                    </a:lnTo>
                    <a:lnTo>
                      <a:pt x="3773" y="2187"/>
                    </a:lnTo>
                    <a:lnTo>
                      <a:pt x="3785" y="2092"/>
                    </a:lnTo>
                    <a:lnTo>
                      <a:pt x="3792" y="1995"/>
                    </a:lnTo>
                    <a:lnTo>
                      <a:pt x="3795" y="1898"/>
                    </a:lnTo>
                    <a:lnTo>
                      <a:pt x="3792" y="1801"/>
                    </a:lnTo>
                    <a:lnTo>
                      <a:pt x="3785" y="1705"/>
                    </a:lnTo>
                    <a:lnTo>
                      <a:pt x="3773" y="1610"/>
                    </a:lnTo>
                    <a:lnTo>
                      <a:pt x="3756" y="1516"/>
                    </a:lnTo>
                    <a:lnTo>
                      <a:pt x="3735" y="1425"/>
                    </a:lnTo>
                    <a:lnTo>
                      <a:pt x="3710" y="1334"/>
                    </a:lnTo>
                    <a:lnTo>
                      <a:pt x="3679" y="1247"/>
                    </a:lnTo>
                    <a:lnTo>
                      <a:pt x="3645" y="1161"/>
                    </a:lnTo>
                    <a:lnTo>
                      <a:pt x="3607" y="1076"/>
                    </a:lnTo>
                    <a:lnTo>
                      <a:pt x="3566" y="994"/>
                    </a:lnTo>
                    <a:lnTo>
                      <a:pt x="3520" y="916"/>
                    </a:lnTo>
                    <a:lnTo>
                      <a:pt x="3470" y="838"/>
                    </a:lnTo>
                    <a:lnTo>
                      <a:pt x="3418" y="764"/>
                    </a:lnTo>
                    <a:lnTo>
                      <a:pt x="3361" y="692"/>
                    </a:lnTo>
                    <a:lnTo>
                      <a:pt x="3301" y="624"/>
                    </a:lnTo>
                    <a:lnTo>
                      <a:pt x="3238" y="557"/>
                    </a:lnTo>
                    <a:lnTo>
                      <a:pt x="3172" y="494"/>
                    </a:lnTo>
                    <a:lnTo>
                      <a:pt x="3104" y="435"/>
                    </a:lnTo>
                    <a:lnTo>
                      <a:pt x="3032" y="378"/>
                    </a:lnTo>
                    <a:lnTo>
                      <a:pt x="2958" y="325"/>
                    </a:lnTo>
                    <a:lnTo>
                      <a:pt x="2880" y="276"/>
                    </a:lnTo>
                    <a:lnTo>
                      <a:pt x="2801" y="230"/>
                    </a:lnTo>
                    <a:lnTo>
                      <a:pt x="2719" y="188"/>
                    </a:lnTo>
                    <a:lnTo>
                      <a:pt x="2635" y="149"/>
                    </a:lnTo>
                    <a:lnTo>
                      <a:pt x="2549" y="116"/>
                    </a:lnTo>
                    <a:lnTo>
                      <a:pt x="2461" y="86"/>
                    </a:lnTo>
                    <a:lnTo>
                      <a:pt x="2371" y="60"/>
                    </a:lnTo>
                    <a:lnTo>
                      <a:pt x="2279" y="39"/>
                    </a:lnTo>
                    <a:lnTo>
                      <a:pt x="2186" y="22"/>
                    </a:lnTo>
                    <a:lnTo>
                      <a:pt x="2091" y="10"/>
                    </a:lnTo>
                    <a:lnTo>
                      <a:pt x="1995" y="2"/>
                    </a:lnTo>
                    <a:lnTo>
                      <a:pt x="1897" y="0"/>
                    </a:lnTo>
                    <a:lnTo>
                      <a:pt x="1800" y="2"/>
                    </a:lnTo>
                    <a:lnTo>
                      <a:pt x="1704" y="10"/>
                    </a:lnTo>
                    <a:lnTo>
                      <a:pt x="1610" y="22"/>
                    </a:lnTo>
                    <a:lnTo>
                      <a:pt x="1516" y="39"/>
                    </a:lnTo>
                    <a:lnTo>
                      <a:pt x="1424" y="60"/>
                    </a:lnTo>
                    <a:lnTo>
                      <a:pt x="1335" y="86"/>
                    </a:lnTo>
                    <a:lnTo>
                      <a:pt x="1247" y="116"/>
                    </a:lnTo>
                    <a:lnTo>
                      <a:pt x="1161" y="149"/>
                    </a:lnTo>
                    <a:lnTo>
                      <a:pt x="1077" y="188"/>
                    </a:lnTo>
                    <a:lnTo>
                      <a:pt x="995" y="230"/>
                    </a:lnTo>
                    <a:lnTo>
                      <a:pt x="915" y="276"/>
                    </a:lnTo>
                    <a:lnTo>
                      <a:pt x="838" y="325"/>
                    </a:lnTo>
                    <a:lnTo>
                      <a:pt x="764" y="378"/>
                    </a:lnTo>
                    <a:lnTo>
                      <a:pt x="692" y="435"/>
                    </a:lnTo>
                    <a:lnTo>
                      <a:pt x="623" y="494"/>
                    </a:lnTo>
                    <a:lnTo>
                      <a:pt x="557" y="557"/>
                    </a:lnTo>
                    <a:lnTo>
                      <a:pt x="495" y="624"/>
                    </a:lnTo>
                    <a:lnTo>
                      <a:pt x="435" y="692"/>
                    </a:lnTo>
                    <a:lnTo>
                      <a:pt x="378" y="764"/>
                    </a:lnTo>
                    <a:lnTo>
                      <a:pt x="325" y="838"/>
                    </a:lnTo>
                    <a:lnTo>
                      <a:pt x="276" y="916"/>
                    </a:lnTo>
                    <a:lnTo>
                      <a:pt x="230" y="994"/>
                    </a:lnTo>
                    <a:lnTo>
                      <a:pt x="187" y="1076"/>
                    </a:lnTo>
                    <a:lnTo>
                      <a:pt x="150" y="1161"/>
                    </a:lnTo>
                    <a:lnTo>
                      <a:pt x="115" y="1247"/>
                    </a:lnTo>
                    <a:lnTo>
                      <a:pt x="86" y="1334"/>
                    </a:lnTo>
                    <a:lnTo>
                      <a:pt x="60" y="1425"/>
                    </a:lnTo>
                    <a:lnTo>
                      <a:pt x="39" y="1516"/>
                    </a:lnTo>
                    <a:lnTo>
                      <a:pt x="23" y="1610"/>
                    </a:lnTo>
                    <a:lnTo>
                      <a:pt x="10" y="1705"/>
                    </a:lnTo>
                    <a:lnTo>
                      <a:pt x="3" y="1801"/>
                    </a:lnTo>
                    <a:lnTo>
                      <a:pt x="0" y="1898"/>
                    </a:lnTo>
                    <a:lnTo>
                      <a:pt x="3" y="1995"/>
                    </a:lnTo>
                    <a:lnTo>
                      <a:pt x="10" y="2092"/>
                    </a:lnTo>
                    <a:lnTo>
                      <a:pt x="23" y="2187"/>
                    </a:lnTo>
                    <a:lnTo>
                      <a:pt x="39" y="2279"/>
                    </a:lnTo>
                    <a:lnTo>
                      <a:pt x="60" y="2371"/>
                    </a:lnTo>
                    <a:lnTo>
                      <a:pt x="86" y="2461"/>
                    </a:lnTo>
                    <a:lnTo>
                      <a:pt x="115" y="2550"/>
                    </a:lnTo>
                    <a:lnTo>
                      <a:pt x="150" y="2636"/>
                    </a:lnTo>
                    <a:lnTo>
                      <a:pt x="187" y="2720"/>
                    </a:lnTo>
                    <a:lnTo>
                      <a:pt x="230" y="2801"/>
                    </a:lnTo>
                    <a:lnTo>
                      <a:pt x="276" y="2881"/>
                    </a:lnTo>
                    <a:lnTo>
                      <a:pt x="325" y="2957"/>
                    </a:lnTo>
                    <a:lnTo>
                      <a:pt x="378" y="3032"/>
                    </a:lnTo>
                    <a:lnTo>
                      <a:pt x="435" y="3103"/>
                    </a:lnTo>
                    <a:lnTo>
                      <a:pt x="495" y="3173"/>
                    </a:lnTo>
                    <a:lnTo>
                      <a:pt x="557" y="3238"/>
                    </a:lnTo>
                    <a:lnTo>
                      <a:pt x="623" y="3302"/>
                    </a:lnTo>
                    <a:lnTo>
                      <a:pt x="692" y="3362"/>
                    </a:lnTo>
                    <a:lnTo>
                      <a:pt x="764" y="3417"/>
                    </a:lnTo>
                    <a:lnTo>
                      <a:pt x="838" y="3471"/>
                    </a:lnTo>
                    <a:lnTo>
                      <a:pt x="915" y="3520"/>
                    </a:lnTo>
                    <a:lnTo>
                      <a:pt x="995" y="3565"/>
                    </a:lnTo>
                    <a:lnTo>
                      <a:pt x="1077" y="3608"/>
                    </a:lnTo>
                    <a:lnTo>
                      <a:pt x="1161" y="3646"/>
                    </a:lnTo>
                    <a:lnTo>
                      <a:pt x="1247" y="3680"/>
                    </a:lnTo>
                    <a:lnTo>
                      <a:pt x="1335" y="3710"/>
                    </a:lnTo>
                    <a:lnTo>
                      <a:pt x="1424" y="3735"/>
                    </a:lnTo>
                    <a:lnTo>
                      <a:pt x="1516" y="3757"/>
                    </a:lnTo>
                    <a:lnTo>
                      <a:pt x="1610" y="3774"/>
                    </a:lnTo>
                    <a:lnTo>
                      <a:pt x="1704" y="3786"/>
                    </a:lnTo>
                    <a:lnTo>
                      <a:pt x="1800" y="3793"/>
                    </a:lnTo>
                    <a:lnTo>
                      <a:pt x="1897" y="3795"/>
                    </a:lnTo>
                    <a:close/>
                  </a:path>
                </a:pathLst>
              </a:cu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Text Box 64"/>
              <p:cNvSpPr/>
              <p:nvPr/>
            </p:nvSpPr>
            <p:spPr>
              <a:xfrm>
                <a:off x="5759640" y="5234400"/>
                <a:ext cx="1476360" cy="6415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ru-RU" sz="1200" spc="-1" strike="noStrike">
                    <a:solidFill>
                      <a:srgbClr val="ffffff"/>
                    </a:solidFill>
                    <a:latin typeface="Arial"/>
                  </a:rPr>
                  <a:t>Помещения и инфраструктура, безопасность</a:t>
                </a:r>
                <a:endParaRPr b="0" lang="en-US" sz="12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09" name="Footer Placeholder 2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/>
          </p:nvPr>
        </p:nvSpPr>
        <p:spPr>
          <a:xfrm>
            <a:off x="533520" y="1066320"/>
            <a:ext cx="8076960" cy="3886200"/>
          </a:xfrm>
          <a:prstGeom prst="rect">
            <a:avLst/>
          </a:prstGeom>
          <a:solidFill>
            <a:srgbClr val="00007d"/>
          </a:solidFill>
          <a:ln w="0">
            <a:noFill/>
          </a:ln>
        </p:spPr>
        <p:txBody>
          <a:bodyPr anchor="ctr">
            <a:normAutofit/>
          </a:bodyPr>
          <a:p>
            <a:pPr marL="343080" indent="0">
              <a:lnSpc>
                <a:spcPct val="90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ru-RU" sz="3600" spc="-1" strike="noStrike">
                <a:solidFill>
                  <a:srgbClr val="ffff00"/>
                </a:solidFill>
                <a:latin typeface="Verdana"/>
              </a:rPr>
              <a:t>Внешняя оценка качества </a:t>
            </a:r>
            <a:r>
              <a:rPr b="0" lang="en-US" sz="3600" spc="-1" strike="noStrike">
                <a:solidFill>
                  <a:srgbClr val="ffff00"/>
                </a:solidFill>
                <a:latin typeface="Verdana"/>
              </a:rPr>
              <a:t>	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Verdana"/>
              </a:rPr>
              <a:t>	</a:t>
            </a:r>
            <a:r>
              <a:rPr b="1" lang="ru-RU" sz="3200" spc="-1" strike="noStrike">
                <a:solidFill>
                  <a:srgbClr val="ffff00"/>
                </a:solidFill>
                <a:latin typeface="Verdana"/>
              </a:rPr>
              <a:t>Система для объективной проверки работы лаборатории, проводимой внешним учреждением или органом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1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6E8E36-61C9-4E64-AC40-2135ABBB01A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13" name="Content Placeholder 1025"/>
          <p:cNvGrpSpPr/>
          <p:nvPr/>
        </p:nvGrpSpPr>
        <p:grpSpPr>
          <a:xfrm>
            <a:off x="228600" y="990720"/>
            <a:ext cx="8686080" cy="3885120"/>
            <a:chOff x="228600" y="990720"/>
            <a:chExt cx="8686080" cy="3885120"/>
          </a:xfrm>
        </p:grpSpPr>
        <p:cxnSp>
          <p:nvCxnSpPr>
            <p:cNvPr id="214" name="_s1028"/>
            <p:cNvCxnSpPr>
              <a:stCxn id="215" idx="0"/>
              <a:endCxn id="216" idx="2"/>
            </p:cNvCxnSpPr>
            <p:nvPr/>
          </p:nvCxnSpPr>
          <p:spPr>
            <a:xfrm flipV="1" rot="16200000">
              <a:off x="5782680" y="1332720"/>
              <a:ext cx="777600" cy="320076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7" name="_s1029"/>
            <p:cNvCxnSpPr>
              <a:endCxn id="216" idx="2"/>
            </p:cNvCxnSpPr>
            <p:nvPr/>
          </p:nvCxnSpPr>
          <p:spPr>
            <a:xfrm flipH="1" flipV="1">
              <a:off x="4570920" y="2544480"/>
              <a:ext cx="1080" cy="77760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</a:ln>
          </p:spPr>
        </p:cxnSp>
        <p:cxnSp>
          <p:nvCxnSpPr>
            <p:cNvPr id="218" name="_s1030"/>
            <p:cNvCxnSpPr>
              <a:stCxn id="219" idx="0"/>
              <a:endCxn id="216" idx="2"/>
            </p:cNvCxnSpPr>
            <p:nvPr/>
          </p:nvCxnSpPr>
          <p:spPr>
            <a:xfrm flipH="1" flipV="1" rot="5400000">
              <a:off x="2770560" y="1521360"/>
              <a:ext cx="777600" cy="2823480"/>
            </a:xfrm>
            <a:prstGeom prst="bentConnector3">
              <a:avLst>
                <a:gd name="adj1" fmla="val 49976"/>
              </a:avLst>
            </a:prstGeom>
            <a:ln w="28440">
              <a:solidFill>
                <a:srgbClr val="000000"/>
              </a:solidFill>
              <a:miter/>
            </a:ln>
          </p:spPr>
        </p:cxnSp>
        <p:sp>
          <p:nvSpPr>
            <p:cNvPr id="216" name="_s1031"/>
            <p:cNvSpPr/>
            <p:nvPr/>
          </p:nvSpPr>
          <p:spPr>
            <a:xfrm>
              <a:off x="3268800" y="990720"/>
              <a:ext cx="2605680" cy="1554120"/>
            </a:xfrm>
            <a:prstGeom prst="roundRect">
              <a:avLst>
                <a:gd name="adj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МЕТОДЫ 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3600" spc="-1" strike="noStrike">
                  <a:solidFill>
                    <a:srgbClr val="00007d"/>
                  </a:solidFill>
                  <a:latin typeface="Verdana"/>
                  <a:ea typeface="Times New Roman"/>
                </a:rPr>
                <a:t>ВОК</a:t>
              </a:r>
              <a:endParaRPr b="0" lang="en-US" sz="3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_s1032"/>
            <p:cNvSpPr/>
            <p:nvPr/>
          </p:nvSpPr>
          <p:spPr>
            <a:xfrm>
              <a:off x="228600" y="3321720"/>
              <a:ext cx="304020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роверка компетентност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_s1033"/>
            <p:cNvSpPr/>
            <p:nvPr/>
          </p:nvSpPr>
          <p:spPr>
            <a:xfrm>
              <a:off x="3419280" y="3321720"/>
              <a:ext cx="290448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ерепроверка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90000"/>
                </a:lnSpc>
                <a:spcBef>
                  <a:spcPts val="11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Повторное исследование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_s1034"/>
            <p:cNvSpPr/>
            <p:nvPr/>
          </p:nvSpPr>
          <p:spPr>
            <a:xfrm>
              <a:off x="6628320" y="3321720"/>
              <a:ext cx="2286360" cy="1554120"/>
            </a:xfrm>
            <a:prstGeom prst="roundRect">
              <a:avLst>
                <a:gd name="adj" fmla="val 16667"/>
              </a:avLst>
            </a:prstGeom>
            <a:solidFill>
              <a:srgbClr val="00007d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8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Оценка на мест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1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6BE05C-D0A4-4101-BA41-1352F6D18E2C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305920" cy="1219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нешняя оценка качества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 (</a:t>
            </a: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ВОК</a:t>
            </a: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)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4" name="Rectangle 3"/>
          <p:cNvSpPr/>
          <p:nvPr/>
        </p:nvSpPr>
        <p:spPr>
          <a:xfrm>
            <a:off x="735120" y="1454040"/>
            <a:ext cx="7799400" cy="381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сравнение разных лаборатори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раннее предупреждение о систематических ошиб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объективные данные о качестве анализ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участки, нуждающиеся в улучш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66760" indent="-266760">
              <a:lnSpc>
                <a:spcPct val="100000"/>
              </a:lnSpc>
              <a:spcBef>
                <a:spcPts val="601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Verdana"/>
              </a:rPr>
              <a:t>потребности в обучени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Slide Number Placeholder 3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A0691B-E814-4E29-8626-4BA170FA3809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Footer Placeholder 4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Picture 9" descr="MCBS01691_0000[1]"/>
          <p:cNvPicPr/>
          <p:nvPr/>
        </p:nvPicPr>
        <p:blipFill>
          <a:blip r:embed="rId1"/>
          <a:stretch/>
        </p:blipFill>
        <p:spPr>
          <a:xfrm>
            <a:off x="7238880" y="4038480"/>
            <a:ext cx="1424160" cy="236232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533520" y="457200"/>
            <a:ext cx="5790960" cy="838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7d"/>
                </a:solidFill>
                <a:latin typeface="Verdana"/>
              </a:rPr>
              <a:t>Преимущества ВОК</a:t>
            </a:r>
            <a:endParaRPr b="1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29" name="Rectangle 5"/>
          <p:cNvSpPr/>
          <p:nvPr/>
        </p:nvSpPr>
        <p:spPr>
          <a:xfrm>
            <a:off x="914400" y="1636560"/>
            <a:ext cx="32767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Задачи</a:t>
            </a:r>
            <a:r>
              <a:rPr b="1" lang="ru-RU" sz="25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л</a:t>
            </a:r>
            <a:r>
              <a:rPr b="1" lang="ru-RU" sz="2800" spc="-1" strike="noStrike">
                <a:solidFill>
                  <a:srgbClr val="000000"/>
                </a:solidFill>
                <a:latin typeface="Verdana"/>
              </a:rPr>
              <a:t>аборатор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 Box 8"/>
          <p:cNvSpPr/>
          <p:nvPr/>
        </p:nvSpPr>
        <p:spPr>
          <a:xfrm>
            <a:off x="4572000" y="1371600"/>
            <a:ext cx="434340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99"/>
                </a:solidFill>
                <a:latin typeface="Verdana"/>
              </a:rPr>
              <a:t>Задачи охраны здоровья насел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10" descr="staff_group_romania_wnv-cdc"/>
          <p:cNvPicPr/>
          <p:nvPr/>
        </p:nvPicPr>
        <p:blipFill>
          <a:blip r:embed="rId1"/>
          <a:stretch/>
        </p:blipFill>
        <p:spPr>
          <a:xfrm>
            <a:off x="533520" y="3295800"/>
            <a:ext cx="4114800" cy="2952720"/>
          </a:xfrm>
          <a:prstGeom prst="rect">
            <a:avLst/>
          </a:prstGeom>
          <a:ln w="0">
            <a:noFill/>
          </a:ln>
        </p:spPr>
      </p:pic>
      <p:pic>
        <p:nvPicPr>
          <p:cNvPr id="232" name="Picture 11" descr="MPj03826840000[1]"/>
          <p:cNvPicPr/>
          <p:nvPr/>
        </p:nvPicPr>
        <p:blipFill>
          <a:blip r:embed="rId2"/>
          <a:stretch/>
        </p:blipFill>
        <p:spPr>
          <a:xfrm>
            <a:off x="4648320" y="3295800"/>
            <a:ext cx="4114800" cy="2938320"/>
          </a:xfrm>
          <a:prstGeom prst="rect">
            <a:avLst/>
          </a:prstGeom>
          <a:ln w="0">
            <a:noFill/>
          </a:ln>
        </p:spPr>
      </p:pic>
      <p:sp>
        <p:nvSpPr>
          <p:cNvPr id="233" name="Slide Number Placeholder 6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077283-0C45-44D1-A5D1-86B2620E3760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Footer Placeholder 7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5" name="Content Placeholder 2049" descr=""/>
          <p:cNvPicPr/>
          <p:nvPr/>
        </p:nvPicPr>
        <p:blipFill>
          <a:blip r:embed="rId1"/>
          <a:stretch/>
        </p:blipFill>
        <p:spPr>
          <a:xfrm>
            <a:off x="530280" y="633240"/>
            <a:ext cx="8004240" cy="5621400"/>
          </a:xfrm>
          <a:prstGeom prst="rect">
            <a:avLst/>
          </a:prstGeom>
          <a:ln w="0">
            <a:noFill/>
          </a:ln>
        </p:spPr>
      </p:pic>
      <p:sp>
        <p:nvSpPr>
          <p:cNvPr id="236" name="Slide Number Placeholder 2"/>
          <p:cNvSpPr/>
          <p:nvPr/>
        </p:nvSpPr>
        <p:spPr>
          <a:xfrm>
            <a:off x="6629400" y="6404400"/>
            <a:ext cx="213372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46783-14A0-4D33-9EFE-96B318F4855B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Footer Placeholder 3"/>
          <p:cNvSpPr/>
          <p:nvPr/>
        </p:nvSpPr>
        <p:spPr>
          <a:xfrm>
            <a:off x="457200" y="6429240"/>
            <a:ext cx="4343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ценка – ВОК – Тема 1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29T19:28:00Z</dcterms:created>
  <dc:creator>sam5</dc:creator>
  <dc:description/>
  <dc:language>en-US</dc:language>
  <cp:lastModifiedBy>Olga</cp:lastModifiedBy>
  <dcterms:modified xsi:type="dcterms:W3CDTF">2013-05-15T13:15:03Z</dcterms:modified>
  <cp:revision>417</cp:revision>
  <dc:subject/>
  <dc:title>Slide 1</dc:title>
</cp:coreProperties>
</file>